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EB8-A3C5-4781-BB7D-AC207425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915-6C3C-4201-826A-C50F6ED2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E3C-D937-4203-AD45-0FA01CD5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45B-29A7-4BDA-8C50-B52120F7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F296-4886-4BA1-AFDE-B91DF213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646-1CA6-4536-80B3-5EC8468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DAE1-510F-4066-9637-224C0743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54E-8A31-4211-9E53-F4BE05D6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FB64-989C-4234-AA70-61720B2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DF4-EA7B-4295-AD5F-93B8F711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444-7549-43DE-A63A-F2FA34F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367-3F46-4BF2-AB92-195537D1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814-46B7-42F2-B4AF-E6463FB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C26-DA0E-4F4A-98BF-2D117DD4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EB1-F01F-4F85-BAC0-6D03AA9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59F6-79F5-48F4-AF03-3559BD05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5FA-8F3A-4F32-8ECD-B564D066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8AA-D659-436B-B9BB-82D2BC6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1D1-BEF6-40F4-BEBA-5FA10D39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CAF-242E-4C2E-8433-A5913A8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A38-011E-4913-AE29-200DFBA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20B-C0C3-4EA0-A690-900C954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69D-2A09-4911-B028-645ACCB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4EE-88C3-493C-9CFF-9069094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3B1-1327-4FA0-87D8-A948BA0F93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5337-2D8C-4A45-88C7-45DBCC6982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Warm-up: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 Complete each function tabl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Rule is:____      Rule is:____      Rule is:____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5053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019920" y="2286000"/>
          <a:ext cx="2057400" cy="22096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000080" y="1758960"/>
            <a:ext cx="2318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3200" y="5432"/>
                </a:moveTo>
                <a:cubicBezTo>
                  <a:pt x="3125" y="5407"/>
                  <a:pt x="2900" y="5228"/>
                  <a:pt x="2828" y="5308"/>
                </a:cubicBezTo>
                <a:cubicBezTo>
                  <a:pt x="2648" y="5506"/>
                  <a:pt x="2856" y="5752"/>
                  <a:pt x="2952" y="5904"/>
                </a:cubicBezTo>
                <a:cubicBezTo>
                  <a:pt x="3082" y="5577"/>
                  <a:pt x="3053" y="5308"/>
                  <a:pt x="2877" y="4986"/>
                </a:cubicBezTo>
                <a:cubicBezTo>
                  <a:pt x="2852" y="4961"/>
                  <a:pt x="2828" y="4936"/>
                  <a:pt x="2803" y="4911"/>
                </a:cubicBezTo>
                <a:cubicBezTo>
                  <a:pt x="2929" y="5091"/>
                  <a:pt x="2946" y="5280"/>
                  <a:pt x="3076" y="5457"/>
                </a:cubicBezTo>
                <a:cubicBezTo>
                  <a:pt x="3255" y="5701"/>
                  <a:pt x="3338" y="5595"/>
                  <a:pt x="3423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9920" y="1643040"/>
            <a:ext cx="1872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3845" y="4589"/>
                </a:moveTo>
                <a:cubicBezTo>
                  <a:pt x="3882" y="4645"/>
                  <a:pt x="3899" y="4649"/>
                  <a:pt x="3894" y="4688"/>
                </a:cubicBezTo>
                <a:cubicBezTo>
                  <a:pt x="3866" y="4603"/>
                  <a:pt x="3807" y="4474"/>
                  <a:pt x="3746" y="4663"/>
                </a:cubicBezTo>
                <a:cubicBezTo>
                  <a:pt x="3669" y="4898"/>
                  <a:pt x="3795" y="5132"/>
                  <a:pt x="4043" y="4936"/>
                </a:cubicBezTo>
                <a:cubicBezTo>
                  <a:pt x="4149" y="4852"/>
                  <a:pt x="4212" y="4708"/>
                  <a:pt x="4242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97000" y="1776240"/>
            <a:ext cx="169920" cy="18900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3473" y="5234"/>
                </a:moveTo>
                <a:cubicBezTo>
                  <a:pt x="3545" y="5112"/>
                  <a:pt x="3519" y="5101"/>
                  <a:pt x="3398" y="5035"/>
                </a:cubicBezTo>
                <a:cubicBezTo>
                  <a:pt x="3281" y="5221"/>
                  <a:pt x="3339" y="5305"/>
                  <a:pt x="3473" y="5457"/>
                </a:cubicBezTo>
                <a:cubicBezTo>
                  <a:pt x="3742" y="5296"/>
                  <a:pt x="3693" y="5266"/>
                  <a:pt x="3795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90760" y="173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4812"/>
                </a:moveTo>
                <a:lnTo>
                  <a:pt x="4142" y="48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90760" y="173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4812"/>
                </a:moveTo>
                <a:lnTo>
                  <a:pt x="4142" y="48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89040" y="20271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4415" y="5655"/>
                </a:moveTo>
                <a:cubicBezTo>
                  <a:pt x="4415" y="5647"/>
                  <a:pt x="4415" y="5639"/>
                  <a:pt x="4415" y="56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54120" y="2054160"/>
            <a:ext cx="169920" cy="125640"/>
          </a:xfrm>
          <a:custGeom>
            <a:avLst/>
            <a:gdLst/>
            <a:ahLst/>
            <a:rect l="l" t="t" r="r" b="b"/>
            <a:pathLst>
              <a:path w="472" h="348">
                <a:moveTo>
                  <a:pt x="4316" y="6052"/>
                </a:moveTo>
                <a:cubicBezTo>
                  <a:pt x="4449" y="5921"/>
                  <a:pt x="4590" y="5841"/>
                  <a:pt x="4738" y="5730"/>
                </a:cubicBezTo>
                <a:cubicBezTo>
                  <a:pt x="4760" y="5707"/>
                  <a:pt x="4765" y="5699"/>
                  <a:pt x="4787" y="57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1880" y="1776240"/>
            <a:ext cx="196920" cy="189000"/>
          </a:xfrm>
          <a:custGeom>
            <a:avLst/>
            <a:gdLst/>
            <a:ahLst/>
            <a:rect l="l" t="t" r="r" b="b"/>
            <a:pathLst>
              <a:path w="547" h="522">
                <a:moveTo>
                  <a:pt x="5283" y="5457"/>
                </a:moveTo>
                <a:cubicBezTo>
                  <a:pt x="5460" y="5280"/>
                  <a:pt x="5633" y="5087"/>
                  <a:pt x="5829" y="49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7960" y="2197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63" y="6102"/>
                </a:moveTo>
                <a:lnTo>
                  <a:pt x="4663" y="610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2040" y="3000240"/>
            <a:ext cx="509760" cy="973440"/>
          </a:xfrm>
          <a:custGeom>
            <a:avLst/>
            <a:gdLst/>
            <a:ahLst/>
            <a:rect l="l" t="t" r="r" b="b"/>
            <a:pathLst>
              <a:path w="1415" h="2705">
                <a:moveTo>
                  <a:pt x="5407" y="8781"/>
                </a:moveTo>
                <a:lnTo>
                  <a:pt x="5407" y="8781"/>
                </a:lnTo>
              </a:path>
              <a:path w="1415" h="2705">
                <a:moveTo>
                  <a:pt x="4341" y="10914"/>
                </a:moveTo>
                <a:lnTo>
                  <a:pt x="4341" y="10914"/>
                </a:lnTo>
              </a:path>
              <a:path w="1415" h="2705">
                <a:moveTo>
                  <a:pt x="4688" y="8781"/>
                </a:moveTo>
                <a:cubicBezTo>
                  <a:pt x="4734" y="8719"/>
                  <a:pt x="4706" y="8746"/>
                  <a:pt x="4787" y="8731"/>
                </a:cubicBezTo>
                <a:cubicBezTo>
                  <a:pt x="4833" y="8722"/>
                  <a:pt x="5056" y="8726"/>
                  <a:pt x="5085" y="8706"/>
                </a:cubicBezTo>
                <a:cubicBezTo>
                  <a:pt x="5085" y="8698"/>
                  <a:pt x="5085" y="8690"/>
                  <a:pt x="5085" y="8682"/>
                </a:cubicBezTo>
              </a:path>
              <a:path w="1415" h="2705">
                <a:moveTo>
                  <a:pt x="4887" y="8632"/>
                </a:moveTo>
                <a:cubicBezTo>
                  <a:pt x="4854" y="8621"/>
                  <a:pt x="4862" y="8596"/>
                  <a:pt x="4862" y="8632"/>
                </a:cubicBezTo>
              </a:path>
              <a:path w="1415" h="2705">
                <a:moveTo>
                  <a:pt x="4911" y="8930"/>
                </a:moveTo>
                <a:cubicBezTo>
                  <a:pt x="4887" y="8930"/>
                  <a:pt x="4878" y="8930"/>
                  <a:pt x="4862" y="8930"/>
                </a:cubicBezTo>
              </a:path>
              <a:path w="1415" h="2705">
                <a:moveTo>
                  <a:pt x="5283" y="8434"/>
                </a:moveTo>
                <a:cubicBezTo>
                  <a:pt x="5283" y="8409"/>
                  <a:pt x="5283" y="8401"/>
                  <a:pt x="5283" y="8384"/>
                </a:cubicBezTo>
                <a:cubicBezTo>
                  <a:pt x="5339" y="8523"/>
                  <a:pt x="5323" y="8667"/>
                  <a:pt x="5358" y="8806"/>
                </a:cubicBezTo>
                <a:cubicBezTo>
                  <a:pt x="5366" y="8814"/>
                  <a:pt x="5375" y="8822"/>
                  <a:pt x="5383" y="8830"/>
                </a:cubicBezTo>
              </a:path>
              <a:path w="1415" h="2705">
                <a:moveTo>
                  <a:pt x="5655" y="8359"/>
                </a:moveTo>
                <a:cubicBezTo>
                  <a:pt x="5655" y="8274"/>
                  <a:pt x="5689" y="8474"/>
                  <a:pt x="5705" y="8558"/>
                </a:cubicBezTo>
                <a:cubicBezTo>
                  <a:pt x="5723" y="8650"/>
                  <a:pt x="5738" y="8723"/>
                  <a:pt x="5755" y="8806"/>
                </a:cubicBezTo>
              </a:path>
              <a:path w="1415" h="2705">
                <a:moveTo>
                  <a:pt x="4887" y="10914"/>
                </a:moveTo>
                <a:lnTo>
                  <a:pt x="4887" y="10914"/>
                </a:lnTo>
              </a:path>
              <a:path w="1415" h="2705">
                <a:moveTo>
                  <a:pt x="5184" y="10418"/>
                </a:moveTo>
                <a:cubicBezTo>
                  <a:pt x="5184" y="10520"/>
                  <a:pt x="5205" y="10609"/>
                  <a:pt x="5209" y="10716"/>
                </a:cubicBezTo>
                <a:cubicBezTo>
                  <a:pt x="5213" y="10823"/>
                  <a:pt x="5195" y="11006"/>
                  <a:pt x="5209" y="11013"/>
                </a:cubicBezTo>
              </a:path>
              <a:path w="1415" h="2705">
                <a:moveTo>
                  <a:pt x="5482" y="10418"/>
                </a:moveTo>
                <a:cubicBezTo>
                  <a:pt x="5482" y="10559"/>
                  <a:pt x="5504" y="10698"/>
                  <a:pt x="5507" y="10840"/>
                </a:cubicBezTo>
                <a:cubicBezTo>
                  <a:pt x="5507" y="10941"/>
                  <a:pt x="5497" y="10961"/>
                  <a:pt x="553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59080" y="1527120"/>
            <a:ext cx="1081080" cy="758880"/>
          </a:xfrm>
          <a:custGeom>
            <a:avLst/>
            <a:gdLst/>
            <a:ahLst/>
            <a:rect l="l" t="t" r="r" b="b"/>
            <a:pathLst>
              <a:path w="3002" h="2109">
                <a:moveTo>
                  <a:pt x="9599" y="5383"/>
                </a:moveTo>
                <a:cubicBezTo>
                  <a:pt x="9599" y="5427"/>
                  <a:pt x="9655" y="5289"/>
                  <a:pt x="9674" y="5259"/>
                </a:cubicBezTo>
                <a:cubicBezTo>
                  <a:pt x="9872" y="5438"/>
                  <a:pt x="9779" y="5693"/>
                  <a:pt x="9649" y="5928"/>
                </a:cubicBezTo>
                <a:cubicBezTo>
                  <a:pt x="9624" y="5953"/>
                  <a:pt x="9600" y="5978"/>
                  <a:pt x="9575" y="6003"/>
                </a:cubicBezTo>
                <a:cubicBezTo>
                  <a:pt x="9526" y="5856"/>
                  <a:pt x="9549" y="5719"/>
                  <a:pt x="9748" y="5755"/>
                </a:cubicBezTo>
                <a:cubicBezTo>
                  <a:pt x="9821" y="5791"/>
                  <a:pt x="9854" y="5779"/>
                  <a:pt x="9847" y="5829"/>
                </a:cubicBezTo>
              </a:path>
              <a:path w="3002" h="2109">
                <a:moveTo>
                  <a:pt x="9575" y="6350"/>
                </a:moveTo>
                <a:cubicBezTo>
                  <a:pt x="9941" y="6264"/>
                  <a:pt x="10158" y="6127"/>
                  <a:pt x="10269" y="5730"/>
                </a:cubicBezTo>
                <a:cubicBezTo>
                  <a:pt x="10356" y="5419"/>
                  <a:pt x="10246" y="4915"/>
                  <a:pt x="9872" y="4837"/>
                </a:cubicBezTo>
                <a:cubicBezTo>
                  <a:pt x="9250" y="4707"/>
                  <a:pt x="8962" y="5331"/>
                  <a:pt x="9128" y="5829"/>
                </a:cubicBezTo>
                <a:cubicBezTo>
                  <a:pt x="9283" y="6295"/>
                  <a:pt x="9471" y="6222"/>
                  <a:pt x="9823" y="6152"/>
                </a:cubicBezTo>
              </a:path>
              <a:path w="3002" h="2109">
                <a:moveTo>
                  <a:pt x="10716" y="4787"/>
                </a:moveTo>
                <a:cubicBezTo>
                  <a:pt x="10798" y="4908"/>
                  <a:pt x="11009" y="5287"/>
                  <a:pt x="10939" y="5159"/>
                </a:cubicBezTo>
                <a:cubicBezTo>
                  <a:pt x="10914" y="5110"/>
                  <a:pt x="10889" y="5060"/>
                  <a:pt x="10864" y="5011"/>
                </a:cubicBezTo>
              </a:path>
              <a:path w="3002" h="2109">
                <a:moveTo>
                  <a:pt x="10393" y="4837"/>
                </a:moveTo>
                <a:cubicBezTo>
                  <a:pt x="10564" y="4780"/>
                  <a:pt x="10896" y="4465"/>
                  <a:pt x="11038" y="4465"/>
                </a:cubicBezTo>
                <a:cubicBezTo>
                  <a:pt x="11038" y="4490"/>
                  <a:pt x="11038" y="4514"/>
                  <a:pt x="11038" y="4539"/>
                </a:cubicBezTo>
              </a:path>
              <a:path w="3002" h="2109">
                <a:moveTo>
                  <a:pt x="10790" y="5259"/>
                </a:moveTo>
                <a:cubicBezTo>
                  <a:pt x="10841" y="5214"/>
                  <a:pt x="11223" y="4782"/>
                  <a:pt x="11261" y="4787"/>
                </a:cubicBezTo>
                <a:cubicBezTo>
                  <a:pt x="11305" y="4792"/>
                  <a:pt x="11359" y="4904"/>
                  <a:pt x="11385" y="4936"/>
                </a:cubicBezTo>
                <a:cubicBezTo>
                  <a:pt x="11365" y="4825"/>
                  <a:pt x="11311" y="4705"/>
                  <a:pt x="11336" y="4589"/>
                </a:cubicBezTo>
                <a:cubicBezTo>
                  <a:pt x="11352" y="4564"/>
                  <a:pt x="11369" y="4539"/>
                  <a:pt x="11385" y="4514"/>
                </a:cubicBezTo>
                <a:cubicBezTo>
                  <a:pt x="11521" y="4589"/>
                  <a:pt x="11704" y="4991"/>
                  <a:pt x="11683" y="4837"/>
                </a:cubicBezTo>
                <a:cubicBezTo>
                  <a:pt x="11675" y="4787"/>
                  <a:pt x="11666" y="4738"/>
                  <a:pt x="11658" y="4688"/>
                </a:cubicBezTo>
              </a:path>
              <a:path w="3002" h="2109">
                <a:moveTo>
                  <a:pt x="11733" y="4266"/>
                </a:moveTo>
                <a:cubicBezTo>
                  <a:pt x="11755" y="4289"/>
                  <a:pt x="11763" y="4300"/>
                  <a:pt x="11757" y="4266"/>
                </a:cubicBezTo>
                <a:cubicBezTo>
                  <a:pt x="11575" y="4267"/>
                  <a:pt x="11572" y="4542"/>
                  <a:pt x="11683" y="4688"/>
                </a:cubicBezTo>
                <a:cubicBezTo>
                  <a:pt x="11785" y="4822"/>
                  <a:pt x="11997" y="4498"/>
                  <a:pt x="1205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13080" y="1589040"/>
            <a:ext cx="4197240" cy="3859200"/>
          </a:xfrm>
          <a:custGeom>
            <a:avLst/>
            <a:gdLst/>
            <a:ahLst/>
            <a:rect l="l" t="t" r="r" b="b"/>
            <a:pathLst>
              <a:path w="11659" h="10717">
                <a:moveTo>
                  <a:pt x="9203" y="15131"/>
                </a:moveTo>
                <a:lnTo>
                  <a:pt x="9203" y="15131"/>
                </a:lnTo>
                <a:lnTo>
                  <a:pt x="9203" y="15131"/>
                </a:lnTo>
              </a:path>
              <a:path w="11659" h="10717">
                <a:moveTo>
                  <a:pt x="11559" y="5556"/>
                </a:moveTo>
                <a:cubicBezTo>
                  <a:pt x="11579" y="5699"/>
                  <a:pt x="11656" y="5849"/>
                  <a:pt x="11683" y="6003"/>
                </a:cubicBezTo>
                <a:cubicBezTo>
                  <a:pt x="11683" y="6059"/>
                  <a:pt x="11678" y="6070"/>
                  <a:pt x="11633" y="6003"/>
                </a:cubicBezTo>
              </a:path>
              <a:path w="11659" h="10717">
                <a:moveTo>
                  <a:pt x="11509" y="5953"/>
                </a:moveTo>
                <a:cubicBezTo>
                  <a:pt x="11622" y="5853"/>
                  <a:pt x="11726" y="5761"/>
                  <a:pt x="11832" y="5655"/>
                </a:cubicBezTo>
              </a:path>
              <a:path w="11659" h="10717">
                <a:moveTo>
                  <a:pt x="17686" y="4911"/>
                </a:moveTo>
                <a:cubicBezTo>
                  <a:pt x="17889" y="4772"/>
                  <a:pt x="18292" y="4387"/>
                  <a:pt x="18554" y="4415"/>
                </a:cubicBezTo>
                <a:cubicBezTo>
                  <a:pt x="18554" y="4440"/>
                  <a:pt x="18554" y="4465"/>
                  <a:pt x="18554" y="4490"/>
                </a:cubicBezTo>
              </a:path>
              <a:path w="11659" h="10717">
                <a:moveTo>
                  <a:pt x="20464" y="4911"/>
                </a:moveTo>
                <a:cubicBezTo>
                  <a:pt x="20512" y="5004"/>
                  <a:pt x="20757" y="5348"/>
                  <a:pt x="20638" y="5457"/>
                </a:cubicBezTo>
                <a:cubicBezTo>
                  <a:pt x="20621" y="5457"/>
                  <a:pt x="20605" y="5457"/>
                  <a:pt x="20588" y="5457"/>
                </a:cubicBezTo>
              </a:path>
              <a:path w="11659" h="10717">
                <a:moveTo>
                  <a:pt x="20265" y="5383"/>
                </a:moveTo>
                <a:cubicBezTo>
                  <a:pt x="20463" y="5239"/>
                  <a:pt x="20663" y="5104"/>
                  <a:pt x="20861" y="49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41880" y="1812960"/>
            <a:ext cx="250920" cy="1357200"/>
          </a:xfrm>
          <a:custGeom>
            <a:avLst/>
            <a:gdLst/>
            <a:ahLst/>
            <a:rect l="l" t="t" r="r" b="b"/>
            <a:pathLst>
              <a:path w="696" h="3772">
                <a:moveTo>
                  <a:pt x="12477" y="5035"/>
                </a:moveTo>
                <a:cubicBezTo>
                  <a:pt x="12474" y="5050"/>
                  <a:pt x="12297" y="5738"/>
                  <a:pt x="12402" y="5631"/>
                </a:cubicBezTo>
              </a:path>
              <a:path w="696" h="3772">
                <a:moveTo>
                  <a:pt x="11782" y="8458"/>
                </a:moveTo>
                <a:cubicBezTo>
                  <a:pt x="11823" y="8548"/>
                  <a:pt x="11918" y="8701"/>
                  <a:pt x="11881" y="8806"/>
                </a:cubicBezTo>
                <a:cubicBezTo>
                  <a:pt x="11873" y="8806"/>
                  <a:pt x="11865" y="8806"/>
                  <a:pt x="1185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97120" y="3411360"/>
            <a:ext cx="152280" cy="911520"/>
          </a:xfrm>
          <a:custGeom>
            <a:avLst/>
            <a:gdLst/>
            <a:ahLst/>
            <a:rect l="l" t="t" r="r" b="b"/>
            <a:pathLst>
              <a:path w="423" h="2531">
                <a:moveTo>
                  <a:pt x="7813" y="9475"/>
                </a:moveTo>
                <a:cubicBezTo>
                  <a:pt x="7717" y="9475"/>
                  <a:pt x="7695" y="9488"/>
                  <a:pt x="7615" y="9525"/>
                </a:cubicBezTo>
                <a:cubicBezTo>
                  <a:pt x="7545" y="9557"/>
                  <a:pt x="7572" y="9500"/>
                  <a:pt x="7590" y="9599"/>
                </a:cubicBezTo>
                <a:cubicBezTo>
                  <a:pt x="7590" y="9641"/>
                  <a:pt x="7590" y="9649"/>
                  <a:pt x="7590" y="9674"/>
                </a:cubicBezTo>
                <a:cubicBezTo>
                  <a:pt x="7660" y="9674"/>
                  <a:pt x="7724" y="9622"/>
                  <a:pt x="7789" y="9624"/>
                </a:cubicBezTo>
                <a:cubicBezTo>
                  <a:pt x="7911" y="9629"/>
                  <a:pt x="7969" y="9841"/>
                  <a:pt x="7888" y="9922"/>
                </a:cubicBezTo>
                <a:cubicBezTo>
                  <a:pt x="7789" y="10021"/>
                  <a:pt x="7524" y="9860"/>
                  <a:pt x="7491" y="9996"/>
                </a:cubicBezTo>
                <a:cubicBezTo>
                  <a:pt x="7508" y="10004"/>
                  <a:pt x="7524" y="10013"/>
                  <a:pt x="7541" y="10021"/>
                </a:cubicBezTo>
              </a:path>
              <a:path w="423" h="2531">
                <a:moveTo>
                  <a:pt x="7689" y="11460"/>
                </a:moveTo>
                <a:cubicBezTo>
                  <a:pt x="7689" y="11344"/>
                  <a:pt x="7698" y="11642"/>
                  <a:pt x="7689" y="11757"/>
                </a:cubicBezTo>
                <a:cubicBezTo>
                  <a:pt x="7670" y="11897"/>
                  <a:pt x="7662" y="11922"/>
                  <a:pt x="766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7240" y="3036960"/>
            <a:ext cx="374760" cy="1347840"/>
          </a:xfrm>
          <a:custGeom>
            <a:avLst/>
            <a:gdLst/>
            <a:ahLst/>
            <a:rect l="l" t="t" r="r" b="b"/>
            <a:pathLst>
              <a:path w="1043" h="3746">
                <a:moveTo>
                  <a:pt x="11683" y="8632"/>
                </a:moveTo>
                <a:cubicBezTo>
                  <a:pt x="11857" y="8591"/>
                  <a:pt x="12004" y="8534"/>
                  <a:pt x="12179" y="8558"/>
                </a:cubicBezTo>
              </a:path>
              <a:path w="1043" h="3746">
                <a:moveTo>
                  <a:pt x="12353" y="8434"/>
                </a:moveTo>
                <a:cubicBezTo>
                  <a:pt x="12334" y="8565"/>
                  <a:pt x="12285" y="8695"/>
                  <a:pt x="12303" y="8830"/>
                </a:cubicBezTo>
                <a:cubicBezTo>
                  <a:pt x="12328" y="9020"/>
                  <a:pt x="12608" y="8825"/>
                  <a:pt x="12650" y="8756"/>
                </a:cubicBezTo>
                <a:cubicBezTo>
                  <a:pt x="12721" y="8640"/>
                  <a:pt x="12735" y="8603"/>
                  <a:pt x="12650" y="8582"/>
                </a:cubicBezTo>
                <a:cubicBezTo>
                  <a:pt x="12561" y="8631"/>
                  <a:pt x="12469" y="8701"/>
                  <a:pt x="12502" y="8830"/>
                </a:cubicBezTo>
                <a:cubicBezTo>
                  <a:pt x="12510" y="8838"/>
                  <a:pt x="12518" y="8847"/>
                  <a:pt x="12526" y="8855"/>
                </a:cubicBezTo>
              </a:path>
              <a:path w="1043" h="3746">
                <a:moveTo>
                  <a:pt x="11782" y="10492"/>
                </a:moveTo>
                <a:cubicBezTo>
                  <a:pt x="11798" y="10605"/>
                  <a:pt x="11839" y="10749"/>
                  <a:pt x="11807" y="10864"/>
                </a:cubicBezTo>
                <a:cubicBezTo>
                  <a:pt x="11799" y="10864"/>
                  <a:pt x="11790" y="10864"/>
                  <a:pt x="11782" y="10864"/>
                </a:cubicBezTo>
              </a:path>
              <a:path w="1043" h="3746">
                <a:moveTo>
                  <a:pt x="11658" y="10740"/>
                </a:moveTo>
                <a:cubicBezTo>
                  <a:pt x="11769" y="10718"/>
                  <a:pt x="11941" y="10653"/>
                  <a:pt x="12055" y="10691"/>
                </a:cubicBezTo>
                <a:cubicBezTo>
                  <a:pt x="12063" y="10699"/>
                  <a:pt x="12072" y="10708"/>
                  <a:pt x="12080" y="10716"/>
                </a:cubicBezTo>
              </a:path>
              <a:path w="1043" h="3746">
                <a:moveTo>
                  <a:pt x="12229" y="10468"/>
                </a:moveTo>
                <a:cubicBezTo>
                  <a:pt x="12279" y="10435"/>
                  <a:pt x="12274" y="10606"/>
                  <a:pt x="12278" y="10666"/>
                </a:cubicBezTo>
                <a:cubicBezTo>
                  <a:pt x="12285" y="10776"/>
                  <a:pt x="12263" y="10880"/>
                  <a:pt x="12254" y="10988"/>
                </a:cubicBezTo>
                <a:cubicBezTo>
                  <a:pt x="12387" y="11009"/>
                  <a:pt x="12513" y="10990"/>
                  <a:pt x="12601" y="10864"/>
                </a:cubicBezTo>
                <a:cubicBezTo>
                  <a:pt x="12623" y="10799"/>
                  <a:pt x="12631" y="10784"/>
                  <a:pt x="12626" y="10740"/>
                </a:cubicBezTo>
                <a:cubicBezTo>
                  <a:pt x="12471" y="10757"/>
                  <a:pt x="12464" y="10815"/>
                  <a:pt x="12452" y="10964"/>
                </a:cubicBezTo>
                <a:cubicBezTo>
                  <a:pt x="12452" y="11005"/>
                  <a:pt x="12444" y="11021"/>
                  <a:pt x="12477" y="11013"/>
                </a:cubicBezTo>
              </a:path>
              <a:path w="1043" h="3746">
                <a:moveTo>
                  <a:pt x="11807" y="9500"/>
                </a:moveTo>
                <a:cubicBezTo>
                  <a:pt x="11815" y="9476"/>
                  <a:pt x="11914" y="9387"/>
                  <a:pt x="11956" y="9426"/>
                </a:cubicBezTo>
                <a:cubicBezTo>
                  <a:pt x="12059" y="9521"/>
                  <a:pt x="11923" y="9673"/>
                  <a:pt x="11881" y="9748"/>
                </a:cubicBezTo>
                <a:cubicBezTo>
                  <a:pt x="11873" y="9756"/>
                  <a:pt x="11865" y="9765"/>
                  <a:pt x="11857" y="9773"/>
                </a:cubicBezTo>
                <a:cubicBezTo>
                  <a:pt x="11874" y="9703"/>
                  <a:pt x="11981" y="9622"/>
                  <a:pt x="12055" y="9699"/>
                </a:cubicBezTo>
                <a:cubicBezTo>
                  <a:pt x="12193" y="9843"/>
                  <a:pt x="11954" y="10016"/>
                  <a:pt x="11832" y="10021"/>
                </a:cubicBezTo>
                <a:cubicBezTo>
                  <a:pt x="11741" y="10003"/>
                  <a:pt x="11734" y="9994"/>
                  <a:pt x="11683" y="9996"/>
                </a:cubicBezTo>
              </a:path>
              <a:path w="1043" h="3746">
                <a:moveTo>
                  <a:pt x="12378" y="9426"/>
                </a:moveTo>
                <a:cubicBezTo>
                  <a:pt x="12317" y="9539"/>
                  <a:pt x="12189" y="9754"/>
                  <a:pt x="12328" y="9872"/>
                </a:cubicBezTo>
                <a:cubicBezTo>
                  <a:pt x="12361" y="9880"/>
                  <a:pt x="12394" y="9889"/>
                  <a:pt x="12427" y="9897"/>
                </a:cubicBezTo>
                <a:cubicBezTo>
                  <a:pt x="12562" y="9763"/>
                  <a:pt x="12750" y="9544"/>
                  <a:pt x="12526" y="9376"/>
                </a:cubicBezTo>
                <a:cubicBezTo>
                  <a:pt x="12471" y="9335"/>
                  <a:pt x="12343" y="9351"/>
                  <a:pt x="12278" y="9351"/>
                </a:cubicBezTo>
              </a:path>
              <a:path w="1043" h="3746">
                <a:moveTo>
                  <a:pt x="11733" y="11584"/>
                </a:moveTo>
                <a:cubicBezTo>
                  <a:pt x="11733" y="11742"/>
                  <a:pt x="11679" y="11901"/>
                  <a:pt x="11683" y="12055"/>
                </a:cubicBezTo>
                <a:cubicBezTo>
                  <a:pt x="11691" y="12080"/>
                  <a:pt x="11700" y="12104"/>
                  <a:pt x="11708" y="12129"/>
                </a:cubicBezTo>
                <a:cubicBezTo>
                  <a:pt x="11866" y="12098"/>
                  <a:pt x="12030" y="12037"/>
                  <a:pt x="12080" y="11857"/>
                </a:cubicBezTo>
                <a:cubicBezTo>
                  <a:pt x="12080" y="11824"/>
                  <a:pt x="12080" y="11790"/>
                  <a:pt x="12080" y="11757"/>
                </a:cubicBezTo>
                <a:cubicBezTo>
                  <a:pt x="11917" y="11784"/>
                  <a:pt x="11884" y="11925"/>
                  <a:pt x="11881" y="12080"/>
                </a:cubicBezTo>
                <a:cubicBezTo>
                  <a:pt x="11875" y="12344"/>
                  <a:pt x="12020" y="12022"/>
                  <a:pt x="12030" y="12005"/>
                </a:cubicBezTo>
              </a:path>
              <a:path w="1043" h="3746">
                <a:moveTo>
                  <a:pt x="12204" y="11435"/>
                </a:moveTo>
                <a:cubicBezTo>
                  <a:pt x="12121" y="11529"/>
                  <a:pt x="12028" y="11787"/>
                  <a:pt x="12080" y="11931"/>
                </a:cubicBezTo>
                <a:cubicBezTo>
                  <a:pt x="12105" y="11948"/>
                  <a:pt x="12129" y="11964"/>
                  <a:pt x="12154" y="11981"/>
                </a:cubicBezTo>
                <a:cubicBezTo>
                  <a:pt x="12368" y="11893"/>
                  <a:pt x="12457" y="11808"/>
                  <a:pt x="12402" y="11559"/>
                </a:cubicBezTo>
                <a:cubicBezTo>
                  <a:pt x="12359" y="11368"/>
                  <a:pt x="12237" y="11393"/>
                  <a:pt x="1210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1800" y="1857240"/>
            <a:ext cx="187200" cy="63720"/>
          </a:xfrm>
          <a:custGeom>
            <a:avLst/>
            <a:gdLst/>
            <a:ahLst/>
            <a:rect l="l" t="t" r="r" b="b"/>
            <a:pathLst>
              <a:path w="521" h="175">
                <a:moveTo>
                  <a:pt x="12254" y="5159"/>
                </a:moveTo>
                <a:cubicBezTo>
                  <a:pt x="12423" y="5208"/>
                  <a:pt x="12591" y="5276"/>
                  <a:pt x="12750" y="5333"/>
                </a:cubicBezTo>
                <a:cubicBezTo>
                  <a:pt x="12758" y="5333"/>
                  <a:pt x="12766" y="5333"/>
                  <a:pt x="12774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120" y="1785960"/>
            <a:ext cx="482760" cy="608040"/>
          </a:xfrm>
          <a:custGeom>
            <a:avLst/>
            <a:gdLst/>
            <a:ahLst/>
            <a:rect l="l" t="t" r="r" b="b"/>
            <a:pathLst>
              <a:path w="1341" h="1688">
                <a:moveTo>
                  <a:pt x="1538" y="5383"/>
                </a:moveTo>
                <a:cubicBezTo>
                  <a:pt x="1652" y="5610"/>
                  <a:pt x="1718" y="5812"/>
                  <a:pt x="1786" y="6052"/>
                </a:cubicBezTo>
                <a:cubicBezTo>
                  <a:pt x="1794" y="6069"/>
                  <a:pt x="1803" y="6085"/>
                  <a:pt x="1811" y="6102"/>
                </a:cubicBezTo>
              </a:path>
              <a:path w="1341" h="1688">
                <a:moveTo>
                  <a:pt x="1389" y="6400"/>
                </a:moveTo>
                <a:cubicBezTo>
                  <a:pt x="1787" y="6410"/>
                  <a:pt x="1978" y="6338"/>
                  <a:pt x="2232" y="6003"/>
                </a:cubicBezTo>
                <a:cubicBezTo>
                  <a:pt x="2436" y="5733"/>
                  <a:pt x="2314" y="5378"/>
                  <a:pt x="2084" y="5159"/>
                </a:cubicBezTo>
                <a:cubicBezTo>
                  <a:pt x="1814" y="4902"/>
                  <a:pt x="1534" y="4940"/>
                  <a:pt x="1240" y="5110"/>
                </a:cubicBezTo>
                <a:cubicBezTo>
                  <a:pt x="1017" y="5239"/>
                  <a:pt x="946" y="5539"/>
                  <a:pt x="992" y="5779"/>
                </a:cubicBezTo>
                <a:cubicBezTo>
                  <a:pt x="1045" y="6055"/>
                  <a:pt x="1262" y="6846"/>
                  <a:pt x="1687" y="6573"/>
                </a:cubicBezTo>
                <a:cubicBezTo>
                  <a:pt x="1745" y="6507"/>
                  <a:pt x="1802" y="6441"/>
                  <a:pt x="1860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65160" y="4510080"/>
            <a:ext cx="1000080" cy="303120"/>
          </a:xfrm>
          <a:custGeom>
            <a:avLst/>
            <a:gdLst/>
            <a:ahLst/>
            <a:rect l="l" t="t" r="r" b="b"/>
            <a:pathLst>
              <a:path w="2779" h="845">
                <a:moveTo>
                  <a:pt x="5432" y="13370"/>
                </a:moveTo>
                <a:cubicBezTo>
                  <a:pt x="5440" y="13370"/>
                  <a:pt x="5449" y="13370"/>
                  <a:pt x="5457" y="13370"/>
                </a:cubicBezTo>
              </a:path>
              <a:path w="2779" h="845">
                <a:moveTo>
                  <a:pt x="2679" y="12526"/>
                </a:moveTo>
                <a:cubicBezTo>
                  <a:pt x="2687" y="12534"/>
                  <a:pt x="2696" y="12543"/>
                  <a:pt x="2704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74920" y="4473720"/>
            <a:ext cx="3859200" cy="1349280"/>
          </a:xfrm>
          <a:custGeom>
            <a:avLst/>
            <a:gdLst/>
            <a:ahLst/>
            <a:rect l="l" t="t" r="r" b="b"/>
            <a:pathLst>
              <a:path w="10717" h="3747">
                <a:moveTo>
                  <a:pt x="6648" y="13568"/>
                </a:moveTo>
                <a:cubicBezTo>
                  <a:pt x="6623" y="13543"/>
                  <a:pt x="6615" y="13535"/>
                  <a:pt x="6598" y="13568"/>
                </a:cubicBezTo>
              </a:path>
              <a:path w="10717" h="3747">
                <a:moveTo>
                  <a:pt x="6697" y="14089"/>
                </a:moveTo>
                <a:cubicBezTo>
                  <a:pt x="6697" y="14064"/>
                  <a:pt x="6697" y="14056"/>
                  <a:pt x="6672" y="14064"/>
                </a:cubicBezTo>
              </a:path>
              <a:path w="10717" h="3747">
                <a:moveTo>
                  <a:pt x="13866" y="16173"/>
                </a:moveTo>
                <a:lnTo>
                  <a:pt x="13866" y="16173"/>
                </a:lnTo>
              </a:path>
              <a:path w="10717" h="3747">
                <a:moveTo>
                  <a:pt x="16818" y="12427"/>
                </a:moveTo>
                <a:lnTo>
                  <a:pt x="16818" y="12427"/>
                </a:lnTo>
                <a:lnTo>
                  <a:pt x="16818" y="12427"/>
                </a:lnTo>
              </a:path>
              <a:path w="10717" h="3747">
                <a:moveTo>
                  <a:pt x="17289" y="13618"/>
                </a:moveTo>
                <a:cubicBezTo>
                  <a:pt x="17314" y="13618"/>
                  <a:pt x="17322" y="13618"/>
                  <a:pt x="17314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20920" y="4803840"/>
            <a:ext cx="393840" cy="312840"/>
          </a:xfrm>
          <a:custGeom>
            <a:avLst/>
            <a:gdLst/>
            <a:ahLst/>
            <a:rect l="l" t="t" r="r" b="b"/>
            <a:pathLst>
              <a:path w="1093" h="869">
                <a:moveTo>
                  <a:pt x="6449" y="13816"/>
                </a:moveTo>
                <a:cubicBezTo>
                  <a:pt x="6577" y="13768"/>
                  <a:pt x="6730" y="13813"/>
                  <a:pt x="6871" y="13791"/>
                </a:cubicBezTo>
                <a:cubicBezTo>
                  <a:pt x="6917" y="13784"/>
                  <a:pt x="6925" y="13767"/>
                  <a:pt x="6970" y="13767"/>
                </a:cubicBezTo>
              </a:path>
              <a:path w="1093" h="869">
                <a:moveTo>
                  <a:pt x="7144" y="13494"/>
                </a:moveTo>
                <a:cubicBezTo>
                  <a:pt x="7187" y="13719"/>
                  <a:pt x="7193" y="13934"/>
                  <a:pt x="7193" y="14163"/>
                </a:cubicBezTo>
                <a:cubicBezTo>
                  <a:pt x="7193" y="14205"/>
                  <a:pt x="7185" y="14221"/>
                  <a:pt x="7218" y="14213"/>
                </a:cubicBezTo>
              </a:path>
              <a:path w="1093" h="869">
                <a:moveTo>
                  <a:pt x="7417" y="13345"/>
                </a:moveTo>
                <a:cubicBezTo>
                  <a:pt x="7417" y="13500"/>
                  <a:pt x="7466" y="13640"/>
                  <a:pt x="7491" y="13791"/>
                </a:cubicBezTo>
                <a:cubicBezTo>
                  <a:pt x="7513" y="13926"/>
                  <a:pt x="7509" y="14061"/>
                  <a:pt x="7541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15040" y="5268960"/>
            <a:ext cx="179280" cy="509400"/>
          </a:xfrm>
          <a:custGeom>
            <a:avLst/>
            <a:gdLst/>
            <a:ahLst/>
            <a:rect l="l" t="t" r="r" b="b"/>
            <a:pathLst>
              <a:path w="497" h="1415">
                <a:moveTo>
                  <a:pt x="17264" y="14660"/>
                </a:moveTo>
                <a:cubicBezTo>
                  <a:pt x="17322" y="14621"/>
                  <a:pt x="17381" y="14754"/>
                  <a:pt x="17413" y="14833"/>
                </a:cubicBezTo>
                <a:cubicBezTo>
                  <a:pt x="17496" y="15039"/>
                  <a:pt x="17556" y="15308"/>
                  <a:pt x="17711" y="15478"/>
                </a:cubicBezTo>
                <a:cubicBezTo>
                  <a:pt x="17711" y="15470"/>
                  <a:pt x="17711" y="15461"/>
                  <a:pt x="17711" y="15453"/>
                </a:cubicBezTo>
              </a:path>
              <a:path w="497" h="1415">
                <a:moveTo>
                  <a:pt x="17760" y="14635"/>
                </a:moveTo>
                <a:cubicBezTo>
                  <a:pt x="17719" y="14944"/>
                  <a:pt x="17633" y="15249"/>
                  <a:pt x="17562" y="15553"/>
                </a:cubicBezTo>
                <a:cubicBezTo>
                  <a:pt x="17528" y="15700"/>
                  <a:pt x="17439" y="15895"/>
                  <a:pt x="17438" y="16049"/>
                </a:cubicBezTo>
                <a:cubicBezTo>
                  <a:pt x="17446" y="16032"/>
                  <a:pt x="17454" y="16016"/>
                  <a:pt x="17462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35800" y="5384880"/>
            <a:ext cx="206280" cy="152280"/>
          </a:xfrm>
          <a:custGeom>
            <a:avLst/>
            <a:gdLst/>
            <a:ahLst/>
            <a:rect l="l" t="t" r="r" b="b"/>
            <a:pathLst>
              <a:path w="572" h="423">
                <a:moveTo>
                  <a:pt x="18231" y="14957"/>
                </a:moveTo>
                <a:cubicBezTo>
                  <a:pt x="18329" y="15080"/>
                  <a:pt x="18479" y="15014"/>
                  <a:pt x="18628" y="15032"/>
                </a:cubicBezTo>
                <a:cubicBezTo>
                  <a:pt x="18689" y="15040"/>
                  <a:pt x="18716" y="15045"/>
                  <a:pt x="18728" y="15081"/>
                </a:cubicBezTo>
              </a:path>
              <a:path w="572" h="423">
                <a:moveTo>
                  <a:pt x="18157" y="15304"/>
                </a:moveTo>
                <a:cubicBezTo>
                  <a:pt x="18334" y="15342"/>
                  <a:pt x="18497" y="15354"/>
                  <a:pt x="18678" y="15354"/>
                </a:cubicBezTo>
                <a:cubicBezTo>
                  <a:pt x="18703" y="15354"/>
                  <a:pt x="18711" y="15354"/>
                  <a:pt x="18703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92920" y="5313240"/>
            <a:ext cx="341280" cy="312840"/>
          </a:xfrm>
          <a:custGeom>
            <a:avLst/>
            <a:gdLst/>
            <a:ahLst/>
            <a:rect l="l" t="t" r="r" b="b"/>
            <a:pathLst>
              <a:path w="944" h="869">
                <a:moveTo>
                  <a:pt x="19323" y="14957"/>
                </a:moveTo>
                <a:cubicBezTo>
                  <a:pt x="19387" y="14936"/>
                  <a:pt x="19309" y="14911"/>
                  <a:pt x="19273" y="14883"/>
                </a:cubicBezTo>
                <a:cubicBezTo>
                  <a:pt x="19344" y="15104"/>
                  <a:pt x="19405" y="15289"/>
                  <a:pt x="19546" y="15478"/>
                </a:cubicBezTo>
                <a:cubicBezTo>
                  <a:pt x="19577" y="15519"/>
                  <a:pt x="19650" y="15559"/>
                  <a:pt x="19695" y="15577"/>
                </a:cubicBezTo>
                <a:cubicBezTo>
                  <a:pt x="19703" y="15577"/>
                  <a:pt x="19712" y="15577"/>
                  <a:pt x="19720" y="15577"/>
                </a:cubicBezTo>
              </a:path>
              <a:path w="944" h="869">
                <a:moveTo>
                  <a:pt x="19670" y="14759"/>
                </a:moveTo>
                <a:cubicBezTo>
                  <a:pt x="19532" y="15008"/>
                  <a:pt x="19390" y="15271"/>
                  <a:pt x="19224" y="15503"/>
                </a:cubicBezTo>
                <a:cubicBezTo>
                  <a:pt x="19220" y="15508"/>
                  <a:pt x="19141" y="15611"/>
                  <a:pt x="19149" y="15627"/>
                </a:cubicBezTo>
                <a:cubicBezTo>
                  <a:pt x="19178" y="15685"/>
                  <a:pt x="19266" y="15585"/>
                  <a:pt x="19323" y="15553"/>
                </a:cubicBezTo>
              </a:path>
              <a:path w="944" h="869">
                <a:moveTo>
                  <a:pt x="20092" y="15131"/>
                </a:moveTo>
                <a:cubicBezTo>
                  <a:pt x="20071" y="15138"/>
                  <a:pt x="20040" y="15193"/>
                  <a:pt x="20067" y="15230"/>
                </a:cubicBezTo>
                <a:cubicBezTo>
                  <a:pt x="20079" y="15247"/>
                  <a:pt x="20096" y="15183"/>
                  <a:pt x="20042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2040" y="5214960"/>
            <a:ext cx="152280" cy="420840"/>
          </a:xfrm>
          <a:custGeom>
            <a:avLst/>
            <a:gdLst/>
            <a:ahLst/>
            <a:rect l="l" t="t" r="r" b="b"/>
            <a:pathLst>
              <a:path w="423" h="1167">
                <a:moveTo>
                  <a:pt x="20613" y="14734"/>
                </a:moveTo>
                <a:cubicBezTo>
                  <a:pt x="20626" y="14868"/>
                  <a:pt x="20624" y="14949"/>
                  <a:pt x="20588" y="15081"/>
                </a:cubicBezTo>
                <a:cubicBezTo>
                  <a:pt x="20724" y="15064"/>
                  <a:pt x="20846" y="15032"/>
                  <a:pt x="20985" y="15032"/>
                </a:cubicBezTo>
                <a:cubicBezTo>
                  <a:pt x="20993" y="15032"/>
                  <a:pt x="21002" y="15032"/>
                  <a:pt x="21010" y="15032"/>
                </a:cubicBezTo>
              </a:path>
              <a:path w="423" h="1167">
                <a:moveTo>
                  <a:pt x="20960" y="14486"/>
                </a:moveTo>
                <a:cubicBezTo>
                  <a:pt x="20932" y="14760"/>
                  <a:pt x="20865" y="15034"/>
                  <a:pt x="20811" y="15304"/>
                </a:cubicBezTo>
                <a:cubicBezTo>
                  <a:pt x="20808" y="15321"/>
                  <a:pt x="20700" y="15631"/>
                  <a:pt x="20762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0840" y="4759200"/>
            <a:ext cx="1768320" cy="1893960"/>
          </a:xfrm>
          <a:custGeom>
            <a:avLst/>
            <a:gdLst/>
            <a:ahLst/>
            <a:rect l="l" t="t" r="r" b="b"/>
            <a:pathLst>
              <a:path w="4912" h="5259">
                <a:moveTo>
                  <a:pt x="20489" y="13643"/>
                </a:moveTo>
                <a:cubicBezTo>
                  <a:pt x="20594" y="13780"/>
                  <a:pt x="20689" y="13920"/>
                  <a:pt x="20836" y="14015"/>
                </a:cubicBezTo>
                <a:cubicBezTo>
                  <a:pt x="20886" y="14048"/>
                  <a:pt x="20874" y="14052"/>
                  <a:pt x="20910" y="14064"/>
                </a:cubicBezTo>
              </a:path>
              <a:path w="4912" h="5259">
                <a:moveTo>
                  <a:pt x="20861" y="13444"/>
                </a:moveTo>
                <a:cubicBezTo>
                  <a:pt x="20770" y="13606"/>
                  <a:pt x="20707" y="13786"/>
                  <a:pt x="20588" y="13940"/>
                </a:cubicBezTo>
                <a:cubicBezTo>
                  <a:pt x="20543" y="13998"/>
                  <a:pt x="20516" y="14166"/>
                  <a:pt x="20464" y="14114"/>
                </a:cubicBezTo>
                <a:cubicBezTo>
                  <a:pt x="20464" y="14106"/>
                  <a:pt x="20464" y="14097"/>
                  <a:pt x="20464" y="14089"/>
                </a:cubicBezTo>
              </a:path>
              <a:path w="4912" h="5259">
                <a:moveTo>
                  <a:pt x="21233" y="13444"/>
                </a:moveTo>
                <a:cubicBezTo>
                  <a:pt x="21233" y="13332"/>
                  <a:pt x="21213" y="13491"/>
                  <a:pt x="21208" y="13519"/>
                </a:cubicBezTo>
                <a:cubicBezTo>
                  <a:pt x="21186" y="13645"/>
                  <a:pt x="21165" y="13705"/>
                  <a:pt x="21134" y="13816"/>
                </a:cubicBezTo>
                <a:cubicBezTo>
                  <a:pt x="21204" y="13798"/>
                  <a:pt x="21274" y="13751"/>
                  <a:pt x="21357" y="13742"/>
                </a:cubicBezTo>
                <a:cubicBezTo>
                  <a:pt x="21440" y="13732"/>
                  <a:pt x="21461" y="13753"/>
                  <a:pt x="21530" y="13767"/>
                </a:cubicBezTo>
                <a:cubicBezTo>
                  <a:pt x="21580" y="13579"/>
                  <a:pt x="21595" y="13455"/>
                  <a:pt x="21530" y="13271"/>
                </a:cubicBezTo>
                <a:cubicBezTo>
                  <a:pt x="21522" y="13254"/>
                  <a:pt x="21514" y="13238"/>
                  <a:pt x="21506" y="13221"/>
                </a:cubicBezTo>
                <a:cubicBezTo>
                  <a:pt x="21506" y="13496"/>
                  <a:pt x="21511" y="13766"/>
                  <a:pt x="21530" y="14039"/>
                </a:cubicBezTo>
                <a:cubicBezTo>
                  <a:pt x="21530" y="14097"/>
                  <a:pt x="21530" y="14106"/>
                  <a:pt x="21530" y="14139"/>
                </a:cubicBezTo>
              </a:path>
              <a:path w="4912" h="5259">
                <a:moveTo>
                  <a:pt x="17413" y="17090"/>
                </a:moveTo>
                <a:cubicBezTo>
                  <a:pt x="17536" y="17172"/>
                  <a:pt x="17630" y="17367"/>
                  <a:pt x="17735" y="17487"/>
                </a:cubicBezTo>
                <a:cubicBezTo>
                  <a:pt x="17778" y="17537"/>
                  <a:pt x="17805" y="17573"/>
                  <a:pt x="17859" y="17587"/>
                </a:cubicBezTo>
              </a:path>
              <a:path w="4912" h="5259">
                <a:moveTo>
                  <a:pt x="17909" y="16867"/>
                </a:moveTo>
                <a:cubicBezTo>
                  <a:pt x="17862" y="17149"/>
                  <a:pt x="17847" y="17427"/>
                  <a:pt x="17785" y="17711"/>
                </a:cubicBezTo>
                <a:cubicBezTo>
                  <a:pt x="17741" y="17912"/>
                  <a:pt x="17735" y="18079"/>
                  <a:pt x="17735" y="18281"/>
                </a:cubicBezTo>
                <a:cubicBezTo>
                  <a:pt x="17735" y="18273"/>
                  <a:pt x="17735" y="18264"/>
                  <a:pt x="17735" y="18256"/>
                </a:cubicBezTo>
              </a:path>
              <a:path w="4912" h="5259">
                <a:moveTo>
                  <a:pt x="18231" y="17190"/>
                </a:moveTo>
                <a:cubicBezTo>
                  <a:pt x="18359" y="17190"/>
                  <a:pt x="18478" y="17177"/>
                  <a:pt x="18604" y="17165"/>
                </a:cubicBezTo>
                <a:cubicBezTo>
                  <a:pt x="18673" y="17158"/>
                  <a:pt x="18675" y="17171"/>
                  <a:pt x="18653" y="17214"/>
                </a:cubicBezTo>
              </a:path>
              <a:path w="4912" h="5259">
                <a:moveTo>
                  <a:pt x="18331" y="17413"/>
                </a:moveTo>
                <a:cubicBezTo>
                  <a:pt x="18435" y="17413"/>
                  <a:pt x="18676" y="17369"/>
                  <a:pt x="18752" y="17388"/>
                </a:cubicBezTo>
                <a:cubicBezTo>
                  <a:pt x="18752" y="17396"/>
                  <a:pt x="18752" y="17405"/>
                  <a:pt x="18752" y="17413"/>
                </a:cubicBezTo>
              </a:path>
              <a:path w="4912" h="5259">
                <a:moveTo>
                  <a:pt x="19273" y="16718"/>
                </a:moveTo>
                <a:cubicBezTo>
                  <a:pt x="19296" y="16858"/>
                  <a:pt x="19271" y="16928"/>
                  <a:pt x="19224" y="17066"/>
                </a:cubicBezTo>
                <a:cubicBezTo>
                  <a:pt x="19216" y="17091"/>
                  <a:pt x="19207" y="17115"/>
                  <a:pt x="19199" y="17140"/>
                </a:cubicBezTo>
                <a:cubicBezTo>
                  <a:pt x="19292" y="17140"/>
                  <a:pt x="19378" y="17120"/>
                  <a:pt x="19472" y="17115"/>
                </a:cubicBezTo>
                <a:cubicBezTo>
                  <a:pt x="19564" y="17111"/>
                  <a:pt x="19535" y="17143"/>
                  <a:pt x="19546" y="17016"/>
                </a:cubicBezTo>
              </a:path>
              <a:path w="4912" h="5259">
                <a:moveTo>
                  <a:pt x="19521" y="16520"/>
                </a:moveTo>
                <a:cubicBezTo>
                  <a:pt x="19495" y="16755"/>
                  <a:pt x="19490" y="16980"/>
                  <a:pt x="19447" y="17214"/>
                </a:cubicBezTo>
                <a:cubicBezTo>
                  <a:pt x="19422" y="17350"/>
                  <a:pt x="19448" y="17707"/>
                  <a:pt x="19348" y="17611"/>
                </a:cubicBezTo>
                <a:cubicBezTo>
                  <a:pt x="19348" y="17603"/>
                  <a:pt x="19348" y="17595"/>
                  <a:pt x="19348" y="17587"/>
                </a:cubicBezTo>
              </a:path>
              <a:path w="4912" h="5259">
                <a:moveTo>
                  <a:pt x="19819" y="16966"/>
                </a:moveTo>
                <a:cubicBezTo>
                  <a:pt x="19907" y="16924"/>
                  <a:pt x="19969" y="17101"/>
                  <a:pt x="20017" y="17165"/>
                </a:cubicBezTo>
                <a:cubicBezTo>
                  <a:pt x="20073" y="17240"/>
                  <a:pt x="20127" y="17299"/>
                  <a:pt x="20191" y="17363"/>
                </a:cubicBezTo>
              </a:path>
              <a:path w="4912" h="5259">
                <a:moveTo>
                  <a:pt x="20290" y="16743"/>
                </a:moveTo>
                <a:cubicBezTo>
                  <a:pt x="20115" y="16934"/>
                  <a:pt x="19931" y="17108"/>
                  <a:pt x="19745" y="17289"/>
                </a:cubicBezTo>
                <a:cubicBezTo>
                  <a:pt x="19706" y="17327"/>
                  <a:pt x="19689" y="17329"/>
                  <a:pt x="19695" y="17363"/>
                </a:cubicBezTo>
              </a:path>
              <a:path w="4912" h="5259">
                <a:moveTo>
                  <a:pt x="19844" y="16991"/>
                </a:moveTo>
                <a:cubicBezTo>
                  <a:pt x="19844" y="16999"/>
                  <a:pt x="19844" y="17008"/>
                  <a:pt x="19844" y="17016"/>
                </a:cubicBezTo>
                <a:cubicBezTo>
                  <a:pt x="19871" y="16989"/>
                  <a:pt x="19835" y="16938"/>
                  <a:pt x="19794" y="16892"/>
                </a:cubicBezTo>
                <a:cubicBezTo>
                  <a:pt x="19767" y="16862"/>
                  <a:pt x="19754" y="16831"/>
                  <a:pt x="19745" y="16793"/>
                </a:cubicBezTo>
                <a:cubicBezTo>
                  <a:pt x="19790" y="16885"/>
                  <a:pt x="19891" y="16964"/>
                  <a:pt x="19968" y="17041"/>
                </a:cubicBezTo>
                <a:cubicBezTo>
                  <a:pt x="19996" y="17069"/>
                  <a:pt x="20005" y="17082"/>
                  <a:pt x="19993" y="17115"/>
                </a:cubicBezTo>
              </a:path>
              <a:path w="4912" h="5259">
                <a:moveTo>
                  <a:pt x="16942" y="16396"/>
                </a:moveTo>
                <a:cubicBezTo>
                  <a:pt x="16939" y="16487"/>
                  <a:pt x="16948" y="16479"/>
                  <a:pt x="16942" y="16570"/>
                </a:cubicBezTo>
                <a:cubicBezTo>
                  <a:pt x="16919" y="16933"/>
                  <a:pt x="16865" y="17300"/>
                  <a:pt x="16818" y="17661"/>
                </a:cubicBezTo>
                <a:cubicBezTo>
                  <a:pt x="16800" y="17796"/>
                  <a:pt x="16777" y="17953"/>
                  <a:pt x="16743" y="18083"/>
                </a:cubicBezTo>
                <a:cubicBezTo>
                  <a:pt x="16724" y="18154"/>
                  <a:pt x="16708" y="18213"/>
                  <a:pt x="16694" y="18281"/>
                </a:cubicBezTo>
                <a:cubicBezTo>
                  <a:pt x="16684" y="18331"/>
                  <a:pt x="16679" y="18380"/>
                  <a:pt x="16669" y="18430"/>
                </a:cubicBezTo>
                <a:cubicBezTo>
                  <a:pt x="16828" y="18467"/>
                  <a:pt x="16921" y="18461"/>
                  <a:pt x="17090" y="18455"/>
                </a:cubicBezTo>
                <a:cubicBezTo>
                  <a:pt x="17266" y="18449"/>
                  <a:pt x="17437" y="18434"/>
                  <a:pt x="17611" y="18430"/>
                </a:cubicBezTo>
                <a:cubicBezTo>
                  <a:pt x="17803" y="18426"/>
                  <a:pt x="17991" y="18408"/>
                  <a:pt x="18182" y="18405"/>
                </a:cubicBezTo>
                <a:cubicBezTo>
                  <a:pt x="18423" y="18401"/>
                  <a:pt x="18661" y="18384"/>
                  <a:pt x="18901" y="18380"/>
                </a:cubicBezTo>
                <a:cubicBezTo>
                  <a:pt x="19159" y="18376"/>
                  <a:pt x="19414" y="18365"/>
                  <a:pt x="19670" y="18355"/>
                </a:cubicBezTo>
                <a:cubicBezTo>
                  <a:pt x="19992" y="18342"/>
                  <a:pt x="20320" y="18350"/>
                  <a:pt x="20638" y="18331"/>
                </a:cubicBezTo>
                <a:cubicBezTo>
                  <a:pt x="20685" y="18328"/>
                  <a:pt x="20854" y="18356"/>
                  <a:pt x="20886" y="18306"/>
                </a:cubicBezTo>
                <a:cubicBezTo>
                  <a:pt x="20915" y="18261"/>
                  <a:pt x="20893" y="18215"/>
                  <a:pt x="20910" y="18132"/>
                </a:cubicBezTo>
                <a:cubicBezTo>
                  <a:pt x="20941" y="17975"/>
                  <a:pt x="20949" y="17816"/>
                  <a:pt x="20985" y="17661"/>
                </a:cubicBezTo>
                <a:cubicBezTo>
                  <a:pt x="21015" y="17535"/>
                  <a:pt x="21041" y="17417"/>
                  <a:pt x="21059" y="17289"/>
                </a:cubicBezTo>
                <a:cubicBezTo>
                  <a:pt x="21077" y="17164"/>
                  <a:pt x="21053" y="17062"/>
                  <a:pt x="21059" y="16942"/>
                </a:cubicBezTo>
                <a:cubicBezTo>
                  <a:pt x="21065" y="16815"/>
                  <a:pt x="21082" y="16698"/>
                  <a:pt x="21084" y="16570"/>
                </a:cubicBezTo>
                <a:cubicBezTo>
                  <a:pt x="21086" y="16474"/>
                  <a:pt x="21067" y="16390"/>
                  <a:pt x="21059" y="16297"/>
                </a:cubicBezTo>
                <a:cubicBezTo>
                  <a:pt x="21055" y="16247"/>
                  <a:pt x="21033" y="16257"/>
                  <a:pt x="21034" y="16222"/>
                </a:cubicBezTo>
                <a:cubicBezTo>
                  <a:pt x="21035" y="16189"/>
                  <a:pt x="21057" y="16181"/>
                  <a:pt x="21059" y="16148"/>
                </a:cubicBezTo>
                <a:cubicBezTo>
                  <a:pt x="21061" y="16102"/>
                  <a:pt x="21035" y="16032"/>
                  <a:pt x="21034" y="16024"/>
                </a:cubicBezTo>
              </a:path>
              <a:path w="4912" h="5259">
                <a:moveTo>
                  <a:pt x="16842" y="16173"/>
                </a:moveTo>
                <a:cubicBezTo>
                  <a:pt x="16818" y="16173"/>
                  <a:pt x="16810" y="16173"/>
                  <a:pt x="16818" y="16148"/>
                </a:cubicBezTo>
                <a:cubicBezTo>
                  <a:pt x="16818" y="16283"/>
                  <a:pt x="16800" y="16411"/>
                  <a:pt x="16793" y="16545"/>
                </a:cubicBezTo>
                <a:cubicBezTo>
                  <a:pt x="16793" y="16553"/>
                  <a:pt x="16793" y="16562"/>
                  <a:pt x="16793" y="16570"/>
                </a:cubicBezTo>
              </a:path>
              <a:path w="4912" h="5259">
                <a:moveTo>
                  <a:pt x="16991" y="16222"/>
                </a:moveTo>
                <a:cubicBezTo>
                  <a:pt x="16991" y="16186"/>
                  <a:pt x="16992" y="16097"/>
                  <a:pt x="16966" y="16123"/>
                </a:cubicBezTo>
                <a:cubicBezTo>
                  <a:pt x="16910" y="16179"/>
                  <a:pt x="16921" y="16461"/>
                  <a:pt x="16917" y="16545"/>
                </a:cubicBezTo>
                <a:cubicBezTo>
                  <a:pt x="16915" y="16591"/>
                  <a:pt x="16887" y="16628"/>
                  <a:pt x="16867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0040" y="3759120"/>
            <a:ext cx="1252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4638" y="10765"/>
                </a:moveTo>
                <a:cubicBezTo>
                  <a:pt x="4749" y="10738"/>
                  <a:pt x="4852" y="10675"/>
                  <a:pt x="4961" y="10641"/>
                </a:cubicBezTo>
                <a:cubicBezTo>
                  <a:pt x="4969" y="10641"/>
                  <a:pt x="4978" y="10641"/>
                  <a:pt x="4986" y="10641"/>
                </a:cubicBezTo>
              </a:path>
              <a:path w="349" h="323">
                <a:moveTo>
                  <a:pt x="4738" y="10443"/>
                </a:moveTo>
                <a:cubicBezTo>
                  <a:pt x="4738" y="10468"/>
                  <a:pt x="4738" y="10476"/>
                  <a:pt x="4738" y="104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40200" y="4848120"/>
            <a:ext cx="419040" cy="223920"/>
          </a:xfrm>
          <a:custGeom>
            <a:avLst/>
            <a:gdLst/>
            <a:ahLst/>
            <a:rect l="l" t="t" r="r" b="b"/>
            <a:pathLst>
              <a:path w="1167" h="621">
                <a:moveTo>
                  <a:pt x="13618" y="13593"/>
                </a:moveTo>
                <a:cubicBezTo>
                  <a:pt x="13647" y="13593"/>
                  <a:pt x="13656" y="13831"/>
                  <a:pt x="13643" y="13915"/>
                </a:cubicBezTo>
                <a:cubicBezTo>
                  <a:pt x="13623" y="13956"/>
                  <a:pt x="13614" y="13962"/>
                  <a:pt x="13618" y="13990"/>
                </a:cubicBezTo>
              </a:path>
              <a:path w="1167" h="621">
                <a:moveTo>
                  <a:pt x="13444" y="13767"/>
                </a:moveTo>
                <a:cubicBezTo>
                  <a:pt x="13568" y="13767"/>
                  <a:pt x="13692" y="13767"/>
                  <a:pt x="13816" y="13767"/>
                </a:cubicBezTo>
              </a:path>
              <a:path w="1167" h="621">
                <a:moveTo>
                  <a:pt x="14139" y="13469"/>
                </a:moveTo>
                <a:cubicBezTo>
                  <a:pt x="14104" y="13592"/>
                  <a:pt x="14068" y="13713"/>
                  <a:pt x="14064" y="13841"/>
                </a:cubicBezTo>
                <a:cubicBezTo>
                  <a:pt x="14061" y="13955"/>
                  <a:pt x="14088" y="14060"/>
                  <a:pt x="14213" y="14089"/>
                </a:cubicBezTo>
                <a:cubicBezTo>
                  <a:pt x="14342" y="14119"/>
                  <a:pt x="14409" y="14050"/>
                  <a:pt x="14511" y="13990"/>
                </a:cubicBezTo>
                <a:cubicBezTo>
                  <a:pt x="14564" y="13959"/>
                  <a:pt x="14634" y="13919"/>
                  <a:pt x="14610" y="13841"/>
                </a:cubicBezTo>
                <a:cubicBezTo>
                  <a:pt x="14602" y="13814"/>
                  <a:pt x="14564" y="13773"/>
                  <a:pt x="14536" y="13767"/>
                </a:cubicBezTo>
                <a:cubicBezTo>
                  <a:pt x="14473" y="13754"/>
                  <a:pt x="14377" y="13801"/>
                  <a:pt x="14362" y="13866"/>
                </a:cubicBezTo>
                <a:cubicBezTo>
                  <a:pt x="14351" y="13914"/>
                  <a:pt x="14349" y="14027"/>
                  <a:pt x="1438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76920" y="1741320"/>
            <a:ext cx="465120" cy="544680"/>
          </a:xfrm>
          <a:custGeom>
            <a:avLst/>
            <a:gdLst/>
            <a:ahLst/>
            <a:rect l="l" t="t" r="r" b="b"/>
            <a:pathLst>
              <a:path w="1290" h="1514">
                <a:moveTo>
                  <a:pt x="16545" y="5457"/>
                </a:moveTo>
                <a:cubicBezTo>
                  <a:pt x="16600" y="5346"/>
                  <a:pt x="16682" y="5293"/>
                  <a:pt x="16793" y="5259"/>
                </a:cubicBezTo>
                <a:cubicBezTo>
                  <a:pt x="16831" y="5349"/>
                  <a:pt x="16721" y="5529"/>
                  <a:pt x="16818" y="5531"/>
                </a:cubicBezTo>
                <a:cubicBezTo>
                  <a:pt x="16878" y="5532"/>
                  <a:pt x="16978" y="5549"/>
                  <a:pt x="16942" y="5680"/>
                </a:cubicBezTo>
                <a:cubicBezTo>
                  <a:pt x="16881" y="5901"/>
                  <a:pt x="16742" y="5950"/>
                  <a:pt x="16594" y="5829"/>
                </a:cubicBezTo>
              </a:path>
              <a:path w="1290" h="1514">
                <a:moveTo>
                  <a:pt x="16346" y="6102"/>
                </a:moveTo>
                <a:cubicBezTo>
                  <a:pt x="16699" y="6248"/>
                  <a:pt x="16876" y="6195"/>
                  <a:pt x="17165" y="5928"/>
                </a:cubicBezTo>
                <a:cubicBezTo>
                  <a:pt x="17399" y="5712"/>
                  <a:pt x="17388" y="5300"/>
                  <a:pt x="17214" y="5035"/>
                </a:cubicBezTo>
                <a:cubicBezTo>
                  <a:pt x="17023" y="4745"/>
                  <a:pt x="16564" y="4828"/>
                  <a:pt x="16321" y="4986"/>
                </a:cubicBezTo>
                <a:cubicBezTo>
                  <a:pt x="15947" y="5230"/>
                  <a:pt x="16012" y="5752"/>
                  <a:pt x="16173" y="6102"/>
                </a:cubicBezTo>
                <a:cubicBezTo>
                  <a:pt x="16320" y="6421"/>
                  <a:pt x="16478" y="6328"/>
                  <a:pt x="16743" y="62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27880" y="1724040"/>
            <a:ext cx="54000" cy="169920"/>
          </a:xfrm>
          <a:custGeom>
            <a:avLst/>
            <a:gdLst/>
            <a:ahLst/>
            <a:rect l="l" t="t" r="r" b="b"/>
            <a:pathLst>
              <a:path w="150" h="473">
                <a:moveTo>
                  <a:pt x="18132" y="4787"/>
                </a:moveTo>
                <a:cubicBezTo>
                  <a:pt x="18158" y="4874"/>
                  <a:pt x="18399" y="5355"/>
                  <a:pt x="18207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4179960"/>
            <a:ext cx="106560" cy="6192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19075" y="11609"/>
                </a:moveTo>
                <a:cubicBezTo>
                  <a:pt x="19090" y="11654"/>
                  <a:pt x="19103" y="11794"/>
                  <a:pt x="19174" y="11782"/>
                </a:cubicBezTo>
                <a:cubicBezTo>
                  <a:pt x="19298" y="11751"/>
                  <a:pt x="19345" y="11721"/>
                  <a:pt x="19372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42080" y="3813120"/>
            <a:ext cx="214200" cy="115920"/>
          </a:xfrm>
          <a:custGeom>
            <a:avLst/>
            <a:gdLst/>
            <a:ahLst/>
            <a:rect l="l" t="t" r="r" b="b"/>
            <a:pathLst>
              <a:path w="596" h="323">
                <a:moveTo>
                  <a:pt x="18827" y="10666"/>
                </a:moveTo>
                <a:cubicBezTo>
                  <a:pt x="18766" y="10646"/>
                  <a:pt x="18814" y="10652"/>
                  <a:pt x="18852" y="10765"/>
                </a:cubicBezTo>
                <a:cubicBezTo>
                  <a:pt x="18852" y="10773"/>
                  <a:pt x="18852" y="10782"/>
                  <a:pt x="18852" y="10790"/>
                </a:cubicBezTo>
              </a:path>
              <a:path w="596" h="323">
                <a:moveTo>
                  <a:pt x="18728" y="10592"/>
                </a:moveTo>
                <a:cubicBezTo>
                  <a:pt x="18769" y="10728"/>
                  <a:pt x="18867" y="10784"/>
                  <a:pt x="18951" y="10889"/>
                </a:cubicBezTo>
                <a:cubicBezTo>
                  <a:pt x="18951" y="10897"/>
                  <a:pt x="18951" y="10906"/>
                  <a:pt x="18951" y="10914"/>
                </a:cubicBezTo>
              </a:path>
              <a:path w="596" h="323">
                <a:moveTo>
                  <a:pt x="18976" y="10592"/>
                </a:moveTo>
                <a:cubicBezTo>
                  <a:pt x="18976" y="10661"/>
                  <a:pt x="18981" y="10758"/>
                  <a:pt x="19000" y="10790"/>
                </a:cubicBezTo>
                <a:cubicBezTo>
                  <a:pt x="19126" y="10826"/>
                  <a:pt x="19219" y="10747"/>
                  <a:pt x="19323" y="106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24800" y="3419640"/>
            <a:ext cx="222120" cy="20628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8678" y="9649"/>
                </a:moveTo>
                <a:cubicBezTo>
                  <a:pt x="18746" y="9717"/>
                  <a:pt x="18797" y="9794"/>
                  <a:pt x="18852" y="9872"/>
                </a:cubicBezTo>
              </a:path>
              <a:path w="621" h="572">
                <a:moveTo>
                  <a:pt x="18827" y="9599"/>
                </a:moveTo>
                <a:cubicBezTo>
                  <a:pt x="18793" y="9687"/>
                  <a:pt x="18719" y="9785"/>
                  <a:pt x="18703" y="9872"/>
                </a:cubicBezTo>
                <a:cubicBezTo>
                  <a:pt x="18703" y="9900"/>
                  <a:pt x="18701" y="9911"/>
                  <a:pt x="18678" y="9922"/>
                </a:cubicBezTo>
              </a:path>
              <a:path w="621" h="572">
                <a:moveTo>
                  <a:pt x="19075" y="9575"/>
                </a:moveTo>
                <a:cubicBezTo>
                  <a:pt x="19075" y="9647"/>
                  <a:pt x="19062" y="9704"/>
                  <a:pt x="19050" y="9773"/>
                </a:cubicBezTo>
                <a:cubicBezTo>
                  <a:pt x="19107" y="9773"/>
                  <a:pt x="19153" y="9760"/>
                  <a:pt x="19199" y="9748"/>
                </a:cubicBezTo>
                <a:cubicBezTo>
                  <a:pt x="19282" y="9725"/>
                  <a:pt x="19204" y="9795"/>
                  <a:pt x="19298" y="9674"/>
                </a:cubicBezTo>
              </a:path>
              <a:path w="621" h="572">
                <a:moveTo>
                  <a:pt x="19248" y="9500"/>
                </a:moveTo>
                <a:cubicBezTo>
                  <a:pt x="19193" y="9633"/>
                  <a:pt x="19203" y="9819"/>
                  <a:pt x="19199" y="9971"/>
                </a:cubicBezTo>
                <a:cubicBezTo>
                  <a:pt x="19199" y="10029"/>
                  <a:pt x="19199" y="10038"/>
                  <a:pt x="1919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53160" y="301788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18479" y="8582"/>
                </a:moveTo>
                <a:cubicBezTo>
                  <a:pt x="18541" y="8671"/>
                  <a:pt x="18634" y="8766"/>
                  <a:pt x="18678" y="8855"/>
                </a:cubicBezTo>
              </a:path>
              <a:path w="671" h="497">
                <a:moveTo>
                  <a:pt x="18678" y="8558"/>
                </a:moveTo>
                <a:cubicBezTo>
                  <a:pt x="18615" y="8657"/>
                  <a:pt x="18562" y="8774"/>
                  <a:pt x="18504" y="8880"/>
                </a:cubicBezTo>
              </a:path>
              <a:path w="671" h="497">
                <a:moveTo>
                  <a:pt x="18901" y="8533"/>
                </a:moveTo>
                <a:cubicBezTo>
                  <a:pt x="18916" y="8623"/>
                  <a:pt x="18929" y="8629"/>
                  <a:pt x="18876" y="8706"/>
                </a:cubicBezTo>
                <a:cubicBezTo>
                  <a:pt x="18954" y="8706"/>
                  <a:pt x="18998" y="8650"/>
                  <a:pt x="19075" y="8632"/>
                </a:cubicBezTo>
                <a:cubicBezTo>
                  <a:pt x="19116" y="8632"/>
                  <a:pt x="19124" y="8632"/>
                  <a:pt x="19149" y="8632"/>
                </a:cubicBezTo>
              </a:path>
              <a:path w="671" h="497">
                <a:moveTo>
                  <a:pt x="19124" y="8384"/>
                </a:moveTo>
                <a:cubicBezTo>
                  <a:pt x="19095" y="8532"/>
                  <a:pt x="19100" y="8678"/>
                  <a:pt x="19100" y="8830"/>
                </a:cubicBezTo>
                <a:cubicBezTo>
                  <a:pt x="19100" y="8838"/>
                  <a:pt x="19100" y="8847"/>
                  <a:pt x="19100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00880" y="1482840"/>
            <a:ext cx="563400" cy="812520"/>
          </a:xfrm>
          <a:custGeom>
            <a:avLst/>
            <a:gdLst/>
            <a:ahLst/>
            <a:rect l="l" t="t" r="r" b="b"/>
            <a:pathLst>
              <a:path w="1564" h="2258">
                <a:moveTo>
                  <a:pt x="18058" y="5432"/>
                </a:moveTo>
                <a:cubicBezTo>
                  <a:pt x="18361" y="5265"/>
                  <a:pt x="18510" y="5109"/>
                  <a:pt x="18653" y="4787"/>
                </a:cubicBezTo>
                <a:cubicBezTo>
                  <a:pt x="18726" y="4623"/>
                  <a:pt x="18733" y="4968"/>
                  <a:pt x="18752" y="5060"/>
                </a:cubicBezTo>
                <a:cubicBezTo>
                  <a:pt x="18752" y="5068"/>
                  <a:pt x="18752" y="5077"/>
                  <a:pt x="18752" y="5085"/>
                </a:cubicBezTo>
                <a:cubicBezTo>
                  <a:pt x="18737" y="4877"/>
                  <a:pt x="18660" y="4644"/>
                  <a:pt x="18802" y="4465"/>
                </a:cubicBezTo>
                <a:cubicBezTo>
                  <a:pt x="18827" y="4457"/>
                  <a:pt x="18851" y="4448"/>
                  <a:pt x="18876" y="4440"/>
                </a:cubicBezTo>
                <a:cubicBezTo>
                  <a:pt x="18979" y="4548"/>
                  <a:pt x="19130" y="4747"/>
                  <a:pt x="19100" y="4812"/>
                </a:cubicBezTo>
              </a:path>
              <a:path w="1564" h="2258">
                <a:moveTo>
                  <a:pt x="19248" y="4167"/>
                </a:moveTo>
                <a:cubicBezTo>
                  <a:pt x="19304" y="4205"/>
                  <a:pt x="19266" y="4160"/>
                  <a:pt x="19248" y="4118"/>
                </a:cubicBezTo>
                <a:cubicBezTo>
                  <a:pt x="19164" y="4320"/>
                  <a:pt x="19159" y="4399"/>
                  <a:pt x="19199" y="4614"/>
                </a:cubicBezTo>
                <a:cubicBezTo>
                  <a:pt x="19351" y="4534"/>
                  <a:pt x="19407" y="4486"/>
                  <a:pt x="19496" y="4316"/>
                </a:cubicBezTo>
              </a:path>
              <a:path w="1564" h="2258">
                <a:moveTo>
                  <a:pt x="19124" y="5705"/>
                </a:moveTo>
                <a:cubicBezTo>
                  <a:pt x="19281" y="5819"/>
                  <a:pt x="19448" y="5979"/>
                  <a:pt x="19621" y="6052"/>
                </a:cubicBezTo>
              </a:path>
              <a:path w="1564" h="2258">
                <a:moveTo>
                  <a:pt x="19348" y="5457"/>
                </a:moveTo>
                <a:cubicBezTo>
                  <a:pt x="19266" y="5760"/>
                  <a:pt x="19153" y="6071"/>
                  <a:pt x="19100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3160" y="3081240"/>
            <a:ext cx="285840" cy="1241640"/>
          </a:xfrm>
          <a:custGeom>
            <a:avLst/>
            <a:gdLst/>
            <a:ahLst/>
            <a:rect l="l" t="t" r="r" b="b"/>
            <a:pathLst>
              <a:path w="795" h="3448">
                <a:moveTo>
                  <a:pt x="18479" y="8582"/>
                </a:moveTo>
                <a:cubicBezTo>
                  <a:pt x="18479" y="8574"/>
                  <a:pt x="18479" y="8566"/>
                  <a:pt x="18479" y="8558"/>
                </a:cubicBezTo>
              </a:path>
              <a:path w="795" h="3448">
                <a:moveTo>
                  <a:pt x="18479" y="8558"/>
                </a:moveTo>
                <a:lnTo>
                  <a:pt x="18479" y="8558"/>
                </a:lnTo>
              </a:path>
              <a:path w="795" h="3448">
                <a:moveTo>
                  <a:pt x="18728" y="11733"/>
                </a:moveTo>
                <a:cubicBezTo>
                  <a:pt x="18790" y="11817"/>
                  <a:pt x="18842" y="11899"/>
                  <a:pt x="18901" y="11981"/>
                </a:cubicBezTo>
              </a:path>
              <a:path w="795" h="3448">
                <a:moveTo>
                  <a:pt x="18802" y="11683"/>
                </a:moveTo>
                <a:cubicBezTo>
                  <a:pt x="18750" y="11818"/>
                  <a:pt x="18720" y="11869"/>
                  <a:pt x="18703" y="12005"/>
                </a:cubicBezTo>
              </a:path>
              <a:path w="795" h="3448">
                <a:moveTo>
                  <a:pt x="19248" y="11460"/>
                </a:moveTo>
                <a:cubicBezTo>
                  <a:pt x="19263" y="11650"/>
                  <a:pt x="19281" y="11797"/>
                  <a:pt x="19248" y="11981"/>
                </a:cubicBezTo>
              </a:path>
              <a:path w="795" h="3448">
                <a:moveTo>
                  <a:pt x="18876" y="10641"/>
                </a:moveTo>
                <a:cubicBezTo>
                  <a:pt x="18822" y="10750"/>
                  <a:pt x="18770" y="10864"/>
                  <a:pt x="18703" y="10964"/>
                </a:cubicBezTo>
              </a:path>
              <a:path w="795" h="3448">
                <a:moveTo>
                  <a:pt x="19199" y="10468"/>
                </a:moveTo>
                <a:cubicBezTo>
                  <a:pt x="19204" y="10651"/>
                  <a:pt x="19213" y="10809"/>
                  <a:pt x="19248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55000" y="2224080"/>
            <a:ext cx="517680" cy="946080"/>
          </a:xfrm>
          <a:custGeom>
            <a:avLst/>
            <a:gdLst/>
            <a:ahLst/>
            <a:rect l="l" t="t" r="r" b="b"/>
            <a:pathLst>
              <a:path w="1439" h="2631">
                <a:moveTo>
                  <a:pt x="22944" y="6573"/>
                </a:moveTo>
                <a:cubicBezTo>
                  <a:pt x="22944" y="6733"/>
                  <a:pt x="22982" y="6883"/>
                  <a:pt x="22969" y="7045"/>
                </a:cubicBezTo>
                <a:cubicBezTo>
                  <a:pt x="22946" y="7137"/>
                  <a:pt x="22935" y="7177"/>
                  <a:pt x="22969" y="7069"/>
                </a:cubicBezTo>
              </a:path>
              <a:path w="1439" h="2631">
                <a:moveTo>
                  <a:pt x="23192" y="6449"/>
                </a:moveTo>
                <a:cubicBezTo>
                  <a:pt x="23212" y="6349"/>
                  <a:pt x="23278" y="6337"/>
                  <a:pt x="23366" y="6300"/>
                </a:cubicBezTo>
                <a:cubicBezTo>
                  <a:pt x="23401" y="6441"/>
                  <a:pt x="23408" y="6576"/>
                  <a:pt x="23267" y="6672"/>
                </a:cubicBezTo>
                <a:cubicBezTo>
                  <a:pt x="23267" y="6664"/>
                  <a:pt x="23267" y="6656"/>
                  <a:pt x="23267" y="6648"/>
                </a:cubicBezTo>
                <a:cubicBezTo>
                  <a:pt x="23347" y="6579"/>
                  <a:pt x="23508" y="6590"/>
                  <a:pt x="23465" y="6772"/>
                </a:cubicBezTo>
                <a:cubicBezTo>
                  <a:pt x="23416" y="6978"/>
                  <a:pt x="23278" y="6975"/>
                  <a:pt x="23118" y="6945"/>
                </a:cubicBezTo>
              </a:path>
              <a:path w="1439" h="2631">
                <a:moveTo>
                  <a:pt x="23267" y="7218"/>
                </a:moveTo>
                <a:cubicBezTo>
                  <a:pt x="23329" y="7239"/>
                  <a:pt x="23281" y="7336"/>
                  <a:pt x="23267" y="7392"/>
                </a:cubicBezTo>
                <a:cubicBezTo>
                  <a:pt x="23367" y="7375"/>
                  <a:pt x="23487" y="7339"/>
                  <a:pt x="23564" y="7268"/>
                </a:cubicBezTo>
                <a:cubicBezTo>
                  <a:pt x="23564" y="7260"/>
                  <a:pt x="23564" y="7251"/>
                  <a:pt x="23564" y="7243"/>
                </a:cubicBezTo>
              </a:path>
              <a:path w="1439" h="2631">
                <a:moveTo>
                  <a:pt x="23440" y="6970"/>
                </a:moveTo>
                <a:cubicBezTo>
                  <a:pt x="23466" y="7122"/>
                  <a:pt x="23482" y="7284"/>
                  <a:pt x="23490" y="7441"/>
                </a:cubicBezTo>
                <a:cubicBezTo>
                  <a:pt x="23490" y="7540"/>
                  <a:pt x="23490" y="7557"/>
                  <a:pt x="23490" y="7615"/>
                </a:cubicBezTo>
              </a:path>
              <a:path w="1439" h="2631">
                <a:moveTo>
                  <a:pt x="22547" y="8037"/>
                </a:moveTo>
                <a:cubicBezTo>
                  <a:pt x="22940" y="7862"/>
                  <a:pt x="23345" y="7678"/>
                  <a:pt x="23763" y="7565"/>
                </a:cubicBezTo>
                <a:cubicBezTo>
                  <a:pt x="23788" y="7565"/>
                  <a:pt x="23796" y="7565"/>
                  <a:pt x="23812" y="7565"/>
                </a:cubicBezTo>
              </a:path>
              <a:path w="1439" h="2631">
                <a:moveTo>
                  <a:pt x="23664" y="7987"/>
                </a:moveTo>
                <a:cubicBezTo>
                  <a:pt x="23631" y="7978"/>
                  <a:pt x="23382" y="7971"/>
                  <a:pt x="23366" y="8037"/>
                </a:cubicBezTo>
                <a:cubicBezTo>
                  <a:pt x="23411" y="8037"/>
                  <a:pt x="23424" y="8041"/>
                  <a:pt x="23440" y="8012"/>
                </a:cubicBezTo>
                <a:cubicBezTo>
                  <a:pt x="23633" y="7954"/>
                  <a:pt x="23790" y="7921"/>
                  <a:pt x="23763" y="8210"/>
                </a:cubicBezTo>
                <a:cubicBezTo>
                  <a:pt x="23744" y="8412"/>
                  <a:pt x="23549" y="8669"/>
                  <a:pt x="23316" y="8632"/>
                </a:cubicBezTo>
                <a:cubicBezTo>
                  <a:pt x="23300" y="8607"/>
                  <a:pt x="23283" y="8583"/>
                  <a:pt x="23267" y="8558"/>
                </a:cubicBezTo>
                <a:cubicBezTo>
                  <a:pt x="23418" y="8323"/>
                  <a:pt x="23482" y="8425"/>
                  <a:pt x="23738" y="8409"/>
                </a:cubicBezTo>
                <a:cubicBezTo>
                  <a:pt x="23755" y="8401"/>
                  <a:pt x="23771" y="8392"/>
                  <a:pt x="23788" y="8384"/>
                </a:cubicBezTo>
              </a:path>
              <a:path w="1439" h="2631">
                <a:moveTo>
                  <a:pt x="22374" y="6201"/>
                </a:moveTo>
                <a:cubicBezTo>
                  <a:pt x="22374" y="6125"/>
                  <a:pt x="22372" y="6433"/>
                  <a:pt x="22374" y="6449"/>
                </a:cubicBezTo>
                <a:cubicBezTo>
                  <a:pt x="22396" y="6514"/>
                  <a:pt x="22394" y="6539"/>
                  <a:pt x="22448" y="6524"/>
                </a:cubicBezTo>
              </a:path>
              <a:path w="1439" h="2631">
                <a:moveTo>
                  <a:pt x="23143" y="8210"/>
                </a:moveTo>
                <a:cubicBezTo>
                  <a:pt x="23111" y="8164"/>
                  <a:pt x="22952" y="8224"/>
                  <a:pt x="22895" y="8260"/>
                </a:cubicBezTo>
                <a:cubicBezTo>
                  <a:pt x="22838" y="8296"/>
                  <a:pt x="22901" y="8394"/>
                  <a:pt x="22920" y="8458"/>
                </a:cubicBezTo>
                <a:cubicBezTo>
                  <a:pt x="22928" y="8475"/>
                  <a:pt x="22936" y="8491"/>
                  <a:pt x="22944" y="8508"/>
                </a:cubicBezTo>
                <a:cubicBezTo>
                  <a:pt x="23118" y="8464"/>
                  <a:pt x="23198" y="8463"/>
                  <a:pt x="23366" y="8533"/>
                </a:cubicBezTo>
                <a:cubicBezTo>
                  <a:pt x="23205" y="8801"/>
                  <a:pt x="23117" y="8854"/>
                  <a:pt x="22870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732800" y="3724200"/>
            <a:ext cx="428400" cy="268200"/>
          </a:xfrm>
          <a:custGeom>
            <a:avLst/>
            <a:gdLst/>
            <a:ahLst/>
            <a:rect l="l" t="t" r="r" b="b"/>
            <a:pathLst>
              <a:path w="1191" h="745">
                <a:moveTo>
                  <a:pt x="21903" y="10393"/>
                </a:moveTo>
                <a:cubicBezTo>
                  <a:pt x="21807" y="10470"/>
                  <a:pt x="21731" y="10509"/>
                  <a:pt x="21605" y="10517"/>
                </a:cubicBezTo>
                <a:cubicBezTo>
                  <a:pt x="21568" y="10520"/>
                  <a:pt x="21563" y="10755"/>
                  <a:pt x="21555" y="10790"/>
                </a:cubicBezTo>
                <a:cubicBezTo>
                  <a:pt x="21555" y="10798"/>
                  <a:pt x="21555" y="10807"/>
                  <a:pt x="21555" y="10815"/>
                </a:cubicBezTo>
                <a:cubicBezTo>
                  <a:pt x="21734" y="10733"/>
                  <a:pt x="21792" y="10718"/>
                  <a:pt x="21952" y="10815"/>
                </a:cubicBezTo>
                <a:cubicBezTo>
                  <a:pt x="21888" y="10987"/>
                  <a:pt x="21735" y="11210"/>
                  <a:pt x="21506" y="11038"/>
                </a:cubicBezTo>
                <a:cubicBezTo>
                  <a:pt x="21498" y="11005"/>
                  <a:pt x="21489" y="10972"/>
                  <a:pt x="21481" y="10939"/>
                </a:cubicBezTo>
              </a:path>
              <a:path w="1191" h="745">
                <a:moveTo>
                  <a:pt x="22175" y="10468"/>
                </a:moveTo>
                <a:cubicBezTo>
                  <a:pt x="22175" y="10474"/>
                  <a:pt x="22228" y="10338"/>
                  <a:pt x="22349" y="10344"/>
                </a:cubicBezTo>
                <a:cubicBezTo>
                  <a:pt x="22663" y="10360"/>
                  <a:pt x="22473" y="10801"/>
                  <a:pt x="22374" y="10914"/>
                </a:cubicBezTo>
                <a:cubicBezTo>
                  <a:pt x="22277" y="10972"/>
                  <a:pt x="22267" y="10997"/>
                  <a:pt x="22200" y="10988"/>
                </a:cubicBezTo>
                <a:cubicBezTo>
                  <a:pt x="22159" y="10831"/>
                  <a:pt x="22124" y="10711"/>
                  <a:pt x="22349" y="10716"/>
                </a:cubicBezTo>
                <a:cubicBezTo>
                  <a:pt x="22529" y="10720"/>
                  <a:pt x="22576" y="10810"/>
                  <a:pt x="22671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0200" y="4170240"/>
            <a:ext cx="293760" cy="2509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16694" y="11881"/>
                </a:moveTo>
                <a:cubicBezTo>
                  <a:pt x="16694" y="11857"/>
                  <a:pt x="16694" y="11848"/>
                  <a:pt x="16694" y="11832"/>
                </a:cubicBezTo>
                <a:cubicBezTo>
                  <a:pt x="16776" y="11965"/>
                  <a:pt x="16775" y="12100"/>
                  <a:pt x="16793" y="12254"/>
                </a:cubicBezTo>
                <a:cubicBezTo>
                  <a:pt x="16793" y="12322"/>
                  <a:pt x="16807" y="12288"/>
                  <a:pt x="16842" y="12129"/>
                </a:cubicBezTo>
              </a:path>
              <a:path w="819" h="695">
                <a:moveTo>
                  <a:pt x="16966" y="11733"/>
                </a:moveTo>
                <a:cubicBezTo>
                  <a:pt x="16894" y="11939"/>
                  <a:pt x="16854" y="12064"/>
                  <a:pt x="16991" y="12229"/>
                </a:cubicBezTo>
                <a:cubicBezTo>
                  <a:pt x="17126" y="12102"/>
                  <a:pt x="17323" y="11918"/>
                  <a:pt x="17066" y="11782"/>
                </a:cubicBezTo>
                <a:cubicBezTo>
                  <a:pt x="16975" y="11764"/>
                  <a:pt x="16934" y="11790"/>
                  <a:pt x="16942" y="11733"/>
                </a:cubicBezTo>
              </a:path>
              <a:path w="819" h="695">
                <a:moveTo>
                  <a:pt x="17190" y="11609"/>
                </a:moveTo>
                <a:cubicBezTo>
                  <a:pt x="17218" y="11827"/>
                  <a:pt x="17222" y="11910"/>
                  <a:pt x="17338" y="12080"/>
                </a:cubicBezTo>
                <a:cubicBezTo>
                  <a:pt x="17530" y="11978"/>
                  <a:pt x="17595" y="11785"/>
                  <a:pt x="17388" y="11609"/>
                </a:cubicBezTo>
                <a:cubicBezTo>
                  <a:pt x="17306" y="11539"/>
                  <a:pt x="17228" y="11610"/>
                  <a:pt x="17190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72120" y="5089680"/>
            <a:ext cx="1724040" cy="733320"/>
          </a:xfrm>
          <a:custGeom>
            <a:avLst/>
            <a:gdLst/>
            <a:ahLst/>
            <a:rect l="l" t="t" r="r" b="b"/>
            <a:pathLst>
              <a:path w="4788" h="2035">
                <a:moveTo>
                  <a:pt x="17214" y="14560"/>
                </a:moveTo>
                <a:cubicBezTo>
                  <a:pt x="17187" y="14713"/>
                  <a:pt x="17164" y="14875"/>
                  <a:pt x="17140" y="15032"/>
                </a:cubicBezTo>
                <a:cubicBezTo>
                  <a:pt x="17092" y="15354"/>
                  <a:pt x="16992" y="15658"/>
                  <a:pt x="16917" y="15974"/>
                </a:cubicBezTo>
                <a:cubicBezTo>
                  <a:pt x="16896" y="16061"/>
                  <a:pt x="16884" y="16087"/>
                  <a:pt x="16867" y="16148"/>
                </a:cubicBezTo>
                <a:cubicBezTo>
                  <a:pt x="16981" y="16134"/>
                  <a:pt x="17100" y="16106"/>
                  <a:pt x="17214" y="16098"/>
                </a:cubicBezTo>
                <a:cubicBezTo>
                  <a:pt x="17474" y="16079"/>
                  <a:pt x="17725" y="16176"/>
                  <a:pt x="17983" y="16173"/>
                </a:cubicBezTo>
                <a:cubicBezTo>
                  <a:pt x="18308" y="16169"/>
                  <a:pt x="18624" y="16054"/>
                  <a:pt x="18951" y="16049"/>
                </a:cubicBezTo>
                <a:cubicBezTo>
                  <a:pt x="19265" y="16044"/>
                  <a:pt x="19532" y="16076"/>
                  <a:pt x="19844" y="16098"/>
                </a:cubicBezTo>
                <a:cubicBezTo>
                  <a:pt x="20161" y="16120"/>
                  <a:pt x="20497" y="16109"/>
                  <a:pt x="20811" y="16073"/>
                </a:cubicBezTo>
                <a:cubicBezTo>
                  <a:pt x="20995" y="16052"/>
                  <a:pt x="21174" y="16012"/>
                  <a:pt x="21357" y="15999"/>
                </a:cubicBezTo>
                <a:cubicBezTo>
                  <a:pt x="21398" y="15996"/>
                  <a:pt x="21440" y="16001"/>
                  <a:pt x="21481" y="15999"/>
                </a:cubicBezTo>
                <a:cubicBezTo>
                  <a:pt x="21501" y="15890"/>
                  <a:pt x="21530" y="15785"/>
                  <a:pt x="21555" y="15677"/>
                </a:cubicBezTo>
                <a:cubicBezTo>
                  <a:pt x="21600" y="15476"/>
                  <a:pt x="21599" y="15261"/>
                  <a:pt x="21630" y="15056"/>
                </a:cubicBezTo>
                <a:cubicBezTo>
                  <a:pt x="21643" y="14968"/>
                  <a:pt x="21656" y="14873"/>
                  <a:pt x="21654" y="14784"/>
                </a:cubicBezTo>
                <a:cubicBezTo>
                  <a:pt x="21653" y="14750"/>
                  <a:pt x="21609" y="14675"/>
                  <a:pt x="21605" y="14635"/>
                </a:cubicBezTo>
                <a:cubicBezTo>
                  <a:pt x="21597" y="14554"/>
                  <a:pt x="21605" y="14469"/>
                  <a:pt x="21605" y="14387"/>
                </a:cubicBezTo>
                <a:cubicBezTo>
                  <a:pt x="21507" y="14372"/>
                  <a:pt x="21413" y="14364"/>
                  <a:pt x="21307" y="14362"/>
                </a:cubicBezTo>
                <a:cubicBezTo>
                  <a:pt x="21186" y="14360"/>
                  <a:pt x="21079" y="14351"/>
                  <a:pt x="20960" y="14337"/>
                </a:cubicBezTo>
                <a:cubicBezTo>
                  <a:pt x="20801" y="14318"/>
                  <a:pt x="20650" y="14290"/>
                  <a:pt x="20489" y="14288"/>
                </a:cubicBezTo>
                <a:cubicBezTo>
                  <a:pt x="20353" y="14286"/>
                  <a:pt x="20225" y="14271"/>
                  <a:pt x="20092" y="14263"/>
                </a:cubicBezTo>
                <a:cubicBezTo>
                  <a:pt x="19860" y="14250"/>
                  <a:pt x="19628" y="14257"/>
                  <a:pt x="19397" y="14238"/>
                </a:cubicBezTo>
                <a:cubicBezTo>
                  <a:pt x="19150" y="14218"/>
                  <a:pt x="18897" y="14220"/>
                  <a:pt x="18653" y="14188"/>
                </a:cubicBezTo>
                <a:cubicBezTo>
                  <a:pt x="18475" y="14165"/>
                  <a:pt x="18287" y="14128"/>
                  <a:pt x="18107" y="14139"/>
                </a:cubicBezTo>
                <a:cubicBezTo>
                  <a:pt x="18002" y="14145"/>
                  <a:pt x="17331" y="14076"/>
                  <a:pt x="17239" y="14188"/>
                </a:cubicBezTo>
                <a:cubicBezTo>
                  <a:pt x="17140" y="14308"/>
                  <a:pt x="17229" y="14618"/>
                  <a:pt x="17239" y="14759"/>
                </a:cubicBezTo>
                <a:cubicBezTo>
                  <a:pt x="17239" y="14767"/>
                  <a:pt x="17239" y="14776"/>
                  <a:pt x="1723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it 1 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066680" y="2971800"/>
            <a:ext cx="7391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1.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Function Tables Round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Objective :  </a:t>
            </a:r>
            <a:r>
              <a:rPr b="0" i="1" lang="en-US" sz="2000" spc="-1" strike="noStrike">
                <a:solidFill>
                  <a:srgbClr val="3399ff"/>
                </a:solidFill>
                <a:latin typeface="Arial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4919760"/>
            <a:ext cx="1643040" cy="171360"/>
          </a:xfrm>
          <a:custGeom>
            <a:avLst/>
            <a:gdLst/>
            <a:ahLst/>
            <a:rect l="l" t="t" r="r" b="b"/>
            <a:pathLst>
              <a:path w="4565" h="473">
                <a:moveTo>
                  <a:pt x="11410" y="13667"/>
                </a:moveTo>
                <a:cubicBezTo>
                  <a:pt x="11410" y="13692"/>
                  <a:pt x="11410" y="13700"/>
                  <a:pt x="11385" y="13692"/>
                </a:cubicBezTo>
                <a:cubicBezTo>
                  <a:pt x="11452" y="13692"/>
                  <a:pt x="11569" y="13694"/>
                  <a:pt x="11658" y="13692"/>
                </a:cubicBezTo>
                <a:cubicBezTo>
                  <a:pt x="11752" y="13689"/>
                  <a:pt x="11836" y="13670"/>
                  <a:pt x="11931" y="13667"/>
                </a:cubicBezTo>
                <a:cubicBezTo>
                  <a:pt x="12210" y="13658"/>
                  <a:pt x="12512" y="13671"/>
                  <a:pt x="12774" y="13692"/>
                </a:cubicBezTo>
                <a:cubicBezTo>
                  <a:pt x="12849" y="13698"/>
                  <a:pt x="12929" y="13711"/>
                  <a:pt x="12998" y="13717"/>
                </a:cubicBezTo>
                <a:cubicBezTo>
                  <a:pt x="13196" y="13734"/>
                  <a:pt x="13398" y="13724"/>
                  <a:pt x="13593" y="13742"/>
                </a:cubicBezTo>
                <a:cubicBezTo>
                  <a:pt x="13733" y="13755"/>
                  <a:pt x="13849" y="13766"/>
                  <a:pt x="13990" y="13791"/>
                </a:cubicBezTo>
                <a:cubicBezTo>
                  <a:pt x="14163" y="13821"/>
                  <a:pt x="14340" y="13811"/>
                  <a:pt x="14511" y="13841"/>
                </a:cubicBezTo>
                <a:cubicBezTo>
                  <a:pt x="14624" y="13861"/>
                  <a:pt x="14717" y="13879"/>
                  <a:pt x="14833" y="13891"/>
                </a:cubicBezTo>
                <a:cubicBezTo>
                  <a:pt x="14959" y="13905"/>
                  <a:pt x="15117" y="13929"/>
                  <a:pt x="15230" y="13940"/>
                </a:cubicBezTo>
                <a:cubicBezTo>
                  <a:pt x="15441" y="13960"/>
                  <a:pt x="15663" y="13940"/>
                  <a:pt x="15875" y="13940"/>
                </a:cubicBezTo>
              </a:path>
              <a:path w="4565" h="473">
                <a:moveTo>
                  <a:pt x="11633" y="14039"/>
                </a:moveTo>
                <a:cubicBezTo>
                  <a:pt x="11690" y="14039"/>
                  <a:pt x="11700" y="14039"/>
                  <a:pt x="11757" y="14039"/>
                </a:cubicBezTo>
                <a:cubicBezTo>
                  <a:pt x="12022" y="14039"/>
                  <a:pt x="12285" y="14015"/>
                  <a:pt x="12551" y="14015"/>
                </a:cubicBezTo>
                <a:cubicBezTo>
                  <a:pt x="12790" y="14015"/>
                  <a:pt x="13033" y="13966"/>
                  <a:pt x="13271" y="13990"/>
                </a:cubicBezTo>
                <a:cubicBezTo>
                  <a:pt x="13455" y="14008"/>
                  <a:pt x="13631" y="14015"/>
                  <a:pt x="13816" y="14015"/>
                </a:cubicBezTo>
                <a:cubicBezTo>
                  <a:pt x="14034" y="14015"/>
                  <a:pt x="14246" y="14023"/>
                  <a:pt x="14461" y="14039"/>
                </a:cubicBezTo>
                <a:cubicBezTo>
                  <a:pt x="14570" y="14047"/>
                  <a:pt x="14676" y="14056"/>
                  <a:pt x="14784" y="14064"/>
                </a:cubicBezTo>
                <a:cubicBezTo>
                  <a:pt x="14925" y="14074"/>
                  <a:pt x="15063" y="14104"/>
                  <a:pt x="15205" y="14114"/>
                </a:cubicBezTo>
                <a:cubicBezTo>
                  <a:pt x="15347" y="14124"/>
                  <a:pt x="15484" y="14139"/>
                  <a:pt x="15627" y="14139"/>
                </a:cubicBezTo>
                <a:cubicBezTo>
                  <a:pt x="15734" y="14139"/>
                  <a:pt x="15842" y="14139"/>
                  <a:pt x="15949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ents will accurately complete a function table with a two-operation rule.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Previously you had to figure out the rule as well as the missing inputs or outputs.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With a two-operation function, you simply need to find the outputs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Be sure to use the order of operations when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3200400"/>
          <a:ext cx="2133360" cy="302436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69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le: 3x -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809880" y="3124080"/>
          <a:ext cx="2057400" cy="312408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63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(x + 2) x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6400800" y="3200400"/>
          <a:ext cx="1905120" cy="3086280"/>
        </p:xfrm>
        <a:graphic>
          <a:graphicData uri="http://schemas.openxmlformats.org/drawingml/2006/table">
            <a:tbl>
              <a:tblPr/>
              <a:tblGrid>
                <a:gridCol w="919080"/>
                <a:gridCol w="986040"/>
              </a:tblGrid>
              <a:tr h="718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3x +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1089000" y="3036960"/>
            <a:ext cx="6931080" cy="2579760"/>
          </a:xfrm>
          <a:custGeom>
            <a:avLst/>
            <a:gdLst/>
            <a:ahLst/>
            <a:rect l="l" t="t" r="r" b="b"/>
            <a:pathLst>
              <a:path w="19250" h="7169">
                <a:moveTo>
                  <a:pt x="12154" y="8434"/>
                </a:moveTo>
                <a:lnTo>
                  <a:pt x="12154" y="8434"/>
                </a:lnTo>
                <a:lnTo>
                  <a:pt x="12154" y="8434"/>
                </a:lnTo>
              </a:path>
              <a:path w="19250" h="7169">
                <a:moveTo>
                  <a:pt x="3051" y="10220"/>
                </a:moveTo>
                <a:cubicBezTo>
                  <a:pt x="3043" y="10228"/>
                  <a:pt x="3034" y="10236"/>
                  <a:pt x="3026" y="10244"/>
                </a:cubicBezTo>
              </a:path>
              <a:path w="19250" h="7169">
                <a:moveTo>
                  <a:pt x="14188" y="12030"/>
                </a:moveTo>
                <a:cubicBezTo>
                  <a:pt x="14282" y="12002"/>
                  <a:pt x="14374" y="12005"/>
                  <a:pt x="14461" y="11956"/>
                </a:cubicBezTo>
              </a:path>
              <a:path w="19250" h="7169">
                <a:moveTo>
                  <a:pt x="22151" y="15602"/>
                </a:moveTo>
                <a:cubicBezTo>
                  <a:pt x="22218" y="15579"/>
                  <a:pt x="22236" y="15574"/>
                  <a:pt x="22275" y="15553"/>
                </a:cubicBezTo>
              </a:path>
              <a:path w="19250" h="7169">
                <a:moveTo>
                  <a:pt x="22275" y="15553"/>
                </a:moveTo>
                <a:lnTo>
                  <a:pt x="22275" y="155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3160" y="3062160"/>
            <a:ext cx="331920" cy="3589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2580" y="8855"/>
                </a:moveTo>
                <a:cubicBezTo>
                  <a:pt x="2580" y="8778"/>
                  <a:pt x="2669" y="9090"/>
                  <a:pt x="2679" y="9128"/>
                </a:cubicBezTo>
                <a:cubicBezTo>
                  <a:pt x="2698" y="9197"/>
                  <a:pt x="2704" y="9218"/>
                  <a:pt x="2704" y="9277"/>
                </a:cubicBezTo>
              </a:path>
              <a:path w="919" h="993">
                <a:moveTo>
                  <a:pt x="2356" y="9351"/>
                </a:moveTo>
                <a:cubicBezTo>
                  <a:pt x="2506" y="9480"/>
                  <a:pt x="2583" y="9496"/>
                  <a:pt x="2778" y="9426"/>
                </a:cubicBezTo>
                <a:cubicBezTo>
                  <a:pt x="2962" y="9360"/>
                  <a:pt x="3146" y="9247"/>
                  <a:pt x="3150" y="9029"/>
                </a:cubicBezTo>
                <a:cubicBezTo>
                  <a:pt x="3153" y="8849"/>
                  <a:pt x="3018" y="8655"/>
                  <a:pt x="2877" y="8558"/>
                </a:cubicBezTo>
                <a:cubicBezTo>
                  <a:pt x="2760" y="8478"/>
                  <a:pt x="2647" y="8496"/>
                  <a:pt x="2530" y="8558"/>
                </a:cubicBezTo>
                <a:cubicBezTo>
                  <a:pt x="2325" y="8665"/>
                  <a:pt x="2253" y="8800"/>
                  <a:pt x="2232" y="9029"/>
                </a:cubicBezTo>
                <a:cubicBezTo>
                  <a:pt x="2216" y="9204"/>
                  <a:pt x="2228" y="9367"/>
                  <a:pt x="2381" y="9451"/>
                </a:cubicBezTo>
                <a:cubicBezTo>
                  <a:pt x="2541" y="9539"/>
                  <a:pt x="2673" y="9497"/>
                  <a:pt x="2828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7200" y="4589640"/>
            <a:ext cx="339840" cy="545760"/>
          </a:xfrm>
          <a:custGeom>
            <a:avLst/>
            <a:gdLst/>
            <a:ahLst/>
            <a:rect l="l" t="t" r="r" b="b"/>
            <a:pathLst>
              <a:path w="943" h="1514">
                <a:moveTo>
                  <a:pt x="521" y="12750"/>
                </a:moveTo>
                <a:cubicBezTo>
                  <a:pt x="543" y="12815"/>
                  <a:pt x="571" y="12850"/>
                  <a:pt x="571" y="12923"/>
                </a:cubicBezTo>
                <a:cubicBezTo>
                  <a:pt x="571" y="12931"/>
                  <a:pt x="571" y="12940"/>
                  <a:pt x="571" y="12948"/>
                </a:cubicBezTo>
                <a:cubicBezTo>
                  <a:pt x="706" y="12948"/>
                  <a:pt x="833" y="12928"/>
                  <a:pt x="967" y="12923"/>
                </a:cubicBezTo>
                <a:cubicBezTo>
                  <a:pt x="1034" y="12921"/>
                  <a:pt x="1042" y="12948"/>
                  <a:pt x="1042" y="12923"/>
                </a:cubicBezTo>
                <a:cubicBezTo>
                  <a:pt x="1042" y="12882"/>
                  <a:pt x="1042" y="12840"/>
                  <a:pt x="1042" y="12799"/>
                </a:cubicBezTo>
              </a:path>
              <a:path w="943" h="1514">
                <a:moveTo>
                  <a:pt x="595" y="13171"/>
                </a:moveTo>
                <a:cubicBezTo>
                  <a:pt x="595" y="13088"/>
                  <a:pt x="607" y="13288"/>
                  <a:pt x="595" y="13370"/>
                </a:cubicBezTo>
                <a:cubicBezTo>
                  <a:pt x="576" y="13427"/>
                  <a:pt x="568" y="13470"/>
                  <a:pt x="571" y="13419"/>
                </a:cubicBezTo>
              </a:path>
              <a:path w="943" h="1514">
                <a:moveTo>
                  <a:pt x="967" y="13022"/>
                </a:moveTo>
                <a:cubicBezTo>
                  <a:pt x="940" y="13032"/>
                  <a:pt x="805" y="13060"/>
                  <a:pt x="794" y="13097"/>
                </a:cubicBezTo>
                <a:cubicBezTo>
                  <a:pt x="794" y="13146"/>
                  <a:pt x="794" y="13163"/>
                  <a:pt x="794" y="13196"/>
                </a:cubicBezTo>
                <a:cubicBezTo>
                  <a:pt x="847" y="13185"/>
                  <a:pt x="888" y="13133"/>
                  <a:pt x="943" y="13146"/>
                </a:cubicBezTo>
                <a:cubicBezTo>
                  <a:pt x="1015" y="13163"/>
                  <a:pt x="1040" y="13218"/>
                  <a:pt x="992" y="13271"/>
                </a:cubicBezTo>
                <a:cubicBezTo>
                  <a:pt x="883" y="13393"/>
                  <a:pt x="842" y="13396"/>
                  <a:pt x="695" y="13370"/>
                </a:cubicBezTo>
                <a:cubicBezTo>
                  <a:pt x="687" y="13370"/>
                  <a:pt x="678" y="13370"/>
                  <a:pt x="670" y="13370"/>
                </a:cubicBezTo>
              </a:path>
              <a:path w="943" h="1514">
                <a:moveTo>
                  <a:pt x="1215" y="13196"/>
                </a:moveTo>
                <a:cubicBezTo>
                  <a:pt x="1207" y="13196"/>
                  <a:pt x="1199" y="13196"/>
                  <a:pt x="1191" y="13196"/>
                </a:cubicBezTo>
                <a:cubicBezTo>
                  <a:pt x="1224" y="13196"/>
                  <a:pt x="1257" y="13196"/>
                  <a:pt x="1290" y="13196"/>
                </a:cubicBezTo>
              </a:path>
              <a:path w="943" h="1514">
                <a:moveTo>
                  <a:pt x="1414" y="12973"/>
                </a:moveTo>
                <a:cubicBezTo>
                  <a:pt x="1485" y="13044"/>
                  <a:pt x="1463" y="13182"/>
                  <a:pt x="1463" y="13295"/>
                </a:cubicBezTo>
                <a:cubicBezTo>
                  <a:pt x="1463" y="13303"/>
                  <a:pt x="1463" y="13312"/>
                  <a:pt x="1463" y="13320"/>
                </a:cubicBezTo>
              </a:path>
              <a:path w="943" h="1514">
                <a:moveTo>
                  <a:pt x="893" y="13519"/>
                </a:moveTo>
                <a:cubicBezTo>
                  <a:pt x="893" y="13445"/>
                  <a:pt x="893" y="13643"/>
                  <a:pt x="893" y="13643"/>
                </a:cubicBezTo>
                <a:cubicBezTo>
                  <a:pt x="893" y="13659"/>
                  <a:pt x="893" y="13676"/>
                  <a:pt x="893" y="13692"/>
                </a:cubicBezTo>
                <a:cubicBezTo>
                  <a:pt x="1006" y="13670"/>
                  <a:pt x="1097" y="13593"/>
                  <a:pt x="1215" y="13593"/>
                </a:cubicBezTo>
                <a:cubicBezTo>
                  <a:pt x="1256" y="13593"/>
                  <a:pt x="1281" y="13583"/>
                  <a:pt x="1315" y="13568"/>
                </a:cubicBezTo>
                <a:cubicBezTo>
                  <a:pt x="1363" y="13547"/>
                  <a:pt x="1397" y="13519"/>
                  <a:pt x="1389" y="13469"/>
                </a:cubicBezTo>
                <a:cubicBezTo>
                  <a:pt x="1388" y="13461"/>
                  <a:pt x="1339" y="13227"/>
                  <a:pt x="1339" y="13295"/>
                </a:cubicBezTo>
              </a:path>
              <a:path w="943" h="1514">
                <a:moveTo>
                  <a:pt x="1017" y="13940"/>
                </a:moveTo>
                <a:cubicBezTo>
                  <a:pt x="1005" y="13917"/>
                  <a:pt x="1009" y="13846"/>
                  <a:pt x="1017" y="13891"/>
                </a:cubicBezTo>
                <a:cubicBezTo>
                  <a:pt x="1038" y="14001"/>
                  <a:pt x="1041" y="14109"/>
                  <a:pt x="1067" y="14213"/>
                </a:cubicBezTo>
              </a:path>
              <a:path w="943" h="1514">
                <a:moveTo>
                  <a:pt x="1240" y="13791"/>
                </a:moveTo>
                <a:cubicBezTo>
                  <a:pt x="1240" y="13841"/>
                  <a:pt x="1240" y="13890"/>
                  <a:pt x="1240" y="13940"/>
                </a:cubicBezTo>
                <a:cubicBezTo>
                  <a:pt x="1254" y="13898"/>
                  <a:pt x="1288" y="13915"/>
                  <a:pt x="1339" y="13915"/>
                </a:cubicBezTo>
              </a:path>
              <a:path w="943" h="1514">
                <a:moveTo>
                  <a:pt x="1290" y="13618"/>
                </a:moveTo>
                <a:cubicBezTo>
                  <a:pt x="1290" y="13768"/>
                  <a:pt x="1316" y="13916"/>
                  <a:pt x="1339" y="14064"/>
                </a:cubicBezTo>
                <a:cubicBezTo>
                  <a:pt x="1351" y="14142"/>
                  <a:pt x="1389" y="14317"/>
                  <a:pt x="1389" y="14238"/>
                </a:cubicBezTo>
                <a:cubicBezTo>
                  <a:pt x="1389" y="14230"/>
                  <a:pt x="1389" y="14221"/>
                  <a:pt x="1389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5776920"/>
            <a:ext cx="731880" cy="795240"/>
          </a:xfrm>
          <a:custGeom>
            <a:avLst/>
            <a:gdLst/>
            <a:ahLst/>
            <a:rect l="l" t="t" r="r" b="b"/>
            <a:pathLst>
              <a:path w="2035" h="2208">
                <a:moveTo>
                  <a:pt x="6201" y="16222"/>
                </a:moveTo>
                <a:cubicBezTo>
                  <a:pt x="6165" y="16240"/>
                  <a:pt x="6216" y="16251"/>
                  <a:pt x="6176" y="16272"/>
                </a:cubicBezTo>
                <a:cubicBezTo>
                  <a:pt x="6135" y="16293"/>
                  <a:pt x="6220" y="16257"/>
                  <a:pt x="6251" y="16222"/>
                </a:cubicBezTo>
                <a:cubicBezTo>
                  <a:pt x="6251" y="16214"/>
                  <a:pt x="6251" y="16205"/>
                  <a:pt x="6251" y="16197"/>
                </a:cubicBezTo>
                <a:cubicBezTo>
                  <a:pt x="6285" y="16206"/>
                  <a:pt x="6387" y="16275"/>
                  <a:pt x="6350" y="16321"/>
                </a:cubicBezTo>
                <a:cubicBezTo>
                  <a:pt x="6313" y="16367"/>
                  <a:pt x="6212" y="16371"/>
                  <a:pt x="6251" y="16371"/>
                </a:cubicBezTo>
                <a:cubicBezTo>
                  <a:pt x="6359" y="16386"/>
                  <a:pt x="6462" y="16453"/>
                  <a:pt x="6300" y="16520"/>
                </a:cubicBezTo>
                <a:cubicBezTo>
                  <a:pt x="6179" y="16570"/>
                  <a:pt x="6123" y="16551"/>
                  <a:pt x="6077" y="16470"/>
                </a:cubicBezTo>
              </a:path>
              <a:path w="2035" h="2208">
                <a:moveTo>
                  <a:pt x="6648" y="16049"/>
                </a:moveTo>
                <a:cubicBezTo>
                  <a:pt x="6597" y="16182"/>
                  <a:pt x="6489" y="16311"/>
                  <a:pt x="6524" y="16470"/>
                </a:cubicBezTo>
                <a:cubicBezTo>
                  <a:pt x="6538" y="16532"/>
                  <a:pt x="6600" y="16575"/>
                  <a:pt x="6648" y="16594"/>
                </a:cubicBezTo>
              </a:path>
              <a:path w="2035" h="2208">
                <a:moveTo>
                  <a:pt x="6772" y="16123"/>
                </a:moveTo>
                <a:cubicBezTo>
                  <a:pt x="6772" y="16247"/>
                  <a:pt x="6772" y="16371"/>
                  <a:pt x="6772" y="16495"/>
                </a:cubicBezTo>
              </a:path>
              <a:path w="2035" h="2208">
                <a:moveTo>
                  <a:pt x="6921" y="16173"/>
                </a:moveTo>
                <a:cubicBezTo>
                  <a:pt x="6991" y="16158"/>
                  <a:pt x="7034" y="16230"/>
                  <a:pt x="7020" y="16321"/>
                </a:cubicBezTo>
                <a:cubicBezTo>
                  <a:pt x="7008" y="16401"/>
                  <a:pt x="6944" y="16477"/>
                  <a:pt x="6871" y="16495"/>
                </a:cubicBezTo>
                <a:cubicBezTo>
                  <a:pt x="6954" y="16495"/>
                  <a:pt x="7001" y="16491"/>
                  <a:pt x="7069" y="16446"/>
                </a:cubicBezTo>
              </a:path>
              <a:path w="2035" h="2208">
                <a:moveTo>
                  <a:pt x="7813" y="16049"/>
                </a:moveTo>
                <a:cubicBezTo>
                  <a:pt x="7840" y="16156"/>
                  <a:pt x="7860" y="16248"/>
                  <a:pt x="7863" y="16371"/>
                </a:cubicBezTo>
                <a:cubicBezTo>
                  <a:pt x="7864" y="16429"/>
                  <a:pt x="7863" y="16487"/>
                  <a:pt x="7863" y="16545"/>
                </a:cubicBezTo>
              </a:path>
              <a:path w="2035" h="2208">
                <a:moveTo>
                  <a:pt x="6424" y="16793"/>
                </a:moveTo>
                <a:cubicBezTo>
                  <a:pt x="6437" y="16774"/>
                  <a:pt x="6527" y="16726"/>
                  <a:pt x="6573" y="16743"/>
                </a:cubicBezTo>
                <a:cubicBezTo>
                  <a:pt x="6696" y="16788"/>
                  <a:pt x="6534" y="16931"/>
                  <a:pt x="6499" y="16966"/>
                </a:cubicBezTo>
                <a:cubicBezTo>
                  <a:pt x="6491" y="16966"/>
                  <a:pt x="6482" y="16966"/>
                  <a:pt x="6474" y="16966"/>
                </a:cubicBezTo>
                <a:cubicBezTo>
                  <a:pt x="6564" y="16966"/>
                  <a:pt x="6723" y="16966"/>
                  <a:pt x="6623" y="17115"/>
                </a:cubicBezTo>
                <a:cubicBezTo>
                  <a:pt x="6533" y="17250"/>
                  <a:pt x="6401" y="17153"/>
                  <a:pt x="6375" y="17066"/>
                </a:cubicBezTo>
              </a:path>
              <a:path w="2035" h="2208">
                <a:moveTo>
                  <a:pt x="6921" y="16768"/>
                </a:moveTo>
                <a:cubicBezTo>
                  <a:pt x="6941" y="16873"/>
                  <a:pt x="6926" y="16954"/>
                  <a:pt x="6896" y="17066"/>
                </a:cubicBezTo>
                <a:cubicBezTo>
                  <a:pt x="6873" y="17133"/>
                  <a:pt x="6862" y="17151"/>
                  <a:pt x="6896" y="17190"/>
                </a:cubicBezTo>
                <a:cubicBezTo>
                  <a:pt x="6996" y="17232"/>
                  <a:pt x="7083" y="17234"/>
                  <a:pt x="7119" y="17115"/>
                </a:cubicBezTo>
                <a:cubicBezTo>
                  <a:pt x="7119" y="17099"/>
                  <a:pt x="7119" y="17082"/>
                  <a:pt x="7119" y="17066"/>
                </a:cubicBezTo>
                <a:cubicBezTo>
                  <a:pt x="7045" y="17054"/>
                  <a:pt x="7006" y="17019"/>
                  <a:pt x="6970" y="17090"/>
                </a:cubicBezTo>
                <a:cubicBezTo>
                  <a:pt x="6934" y="17162"/>
                  <a:pt x="6927" y="17154"/>
                  <a:pt x="6995" y="17165"/>
                </a:cubicBezTo>
              </a:path>
              <a:path w="2035" h="2208">
                <a:moveTo>
                  <a:pt x="7342" y="16942"/>
                </a:moveTo>
                <a:cubicBezTo>
                  <a:pt x="7400" y="16942"/>
                  <a:pt x="7458" y="16942"/>
                  <a:pt x="7516" y="16942"/>
                </a:cubicBezTo>
              </a:path>
              <a:path w="2035" h="2208">
                <a:moveTo>
                  <a:pt x="7813" y="16743"/>
                </a:moveTo>
                <a:cubicBezTo>
                  <a:pt x="7813" y="16703"/>
                  <a:pt x="7769" y="16968"/>
                  <a:pt x="7764" y="17016"/>
                </a:cubicBezTo>
                <a:cubicBezTo>
                  <a:pt x="7754" y="17113"/>
                  <a:pt x="7789" y="17114"/>
                  <a:pt x="7789" y="17190"/>
                </a:cubicBezTo>
              </a:path>
              <a:path w="2035" h="2208">
                <a:moveTo>
                  <a:pt x="6995" y="17562"/>
                </a:moveTo>
                <a:cubicBezTo>
                  <a:pt x="7019" y="17557"/>
                  <a:pt x="7161" y="17493"/>
                  <a:pt x="7169" y="17512"/>
                </a:cubicBezTo>
                <a:cubicBezTo>
                  <a:pt x="7204" y="17593"/>
                  <a:pt x="7143" y="17626"/>
                  <a:pt x="7094" y="17661"/>
                </a:cubicBezTo>
                <a:cubicBezTo>
                  <a:pt x="7086" y="17661"/>
                  <a:pt x="7077" y="17661"/>
                  <a:pt x="7069" y="17661"/>
                </a:cubicBezTo>
                <a:cubicBezTo>
                  <a:pt x="7156" y="17661"/>
                  <a:pt x="7281" y="17635"/>
                  <a:pt x="7317" y="17735"/>
                </a:cubicBezTo>
                <a:cubicBezTo>
                  <a:pt x="7370" y="17884"/>
                  <a:pt x="7127" y="17903"/>
                  <a:pt x="7045" y="17884"/>
                </a:cubicBezTo>
                <a:cubicBezTo>
                  <a:pt x="7001" y="17862"/>
                  <a:pt x="6980" y="17859"/>
                  <a:pt x="7020" y="17835"/>
                </a:cubicBezTo>
              </a:path>
              <a:path w="2035" h="2208">
                <a:moveTo>
                  <a:pt x="7739" y="17487"/>
                </a:moveTo>
                <a:cubicBezTo>
                  <a:pt x="7671" y="17487"/>
                  <a:pt x="7592" y="17466"/>
                  <a:pt x="7541" y="17512"/>
                </a:cubicBezTo>
                <a:cubicBezTo>
                  <a:pt x="7503" y="17547"/>
                  <a:pt x="7499" y="17588"/>
                  <a:pt x="7491" y="17636"/>
                </a:cubicBezTo>
                <a:cubicBezTo>
                  <a:pt x="7563" y="17627"/>
                  <a:pt x="7627" y="17585"/>
                  <a:pt x="7689" y="17636"/>
                </a:cubicBezTo>
                <a:cubicBezTo>
                  <a:pt x="7774" y="17706"/>
                  <a:pt x="7757" y="17818"/>
                  <a:pt x="7640" y="17835"/>
                </a:cubicBezTo>
                <a:cubicBezTo>
                  <a:pt x="7527" y="17835"/>
                  <a:pt x="7495" y="17841"/>
                  <a:pt x="7441" y="17785"/>
                </a:cubicBezTo>
              </a:path>
              <a:path w="2035" h="2208">
                <a:moveTo>
                  <a:pt x="6077" y="18256"/>
                </a:moveTo>
                <a:cubicBezTo>
                  <a:pt x="6270" y="18256"/>
                  <a:pt x="6455" y="18254"/>
                  <a:pt x="6648" y="18231"/>
                </a:cubicBezTo>
                <a:cubicBezTo>
                  <a:pt x="6847" y="18207"/>
                  <a:pt x="7045" y="18152"/>
                  <a:pt x="7243" y="18132"/>
                </a:cubicBezTo>
                <a:cubicBezTo>
                  <a:pt x="7393" y="18117"/>
                  <a:pt x="7508" y="18092"/>
                  <a:pt x="7640" y="18008"/>
                </a:cubicBezTo>
                <a:cubicBezTo>
                  <a:pt x="7728" y="17952"/>
                  <a:pt x="7894" y="17892"/>
                  <a:pt x="7962" y="17810"/>
                </a:cubicBezTo>
                <a:cubicBezTo>
                  <a:pt x="8017" y="17743"/>
                  <a:pt x="8048" y="17671"/>
                  <a:pt x="8062" y="17587"/>
                </a:cubicBezTo>
                <a:cubicBezTo>
                  <a:pt x="8080" y="17477"/>
                  <a:pt x="8030" y="17424"/>
                  <a:pt x="7962" y="17363"/>
                </a:cubicBezTo>
                <a:cubicBezTo>
                  <a:pt x="7849" y="17261"/>
                  <a:pt x="7715" y="17224"/>
                  <a:pt x="7565" y="17190"/>
                </a:cubicBezTo>
                <a:cubicBezTo>
                  <a:pt x="7368" y="17145"/>
                  <a:pt x="7191" y="17178"/>
                  <a:pt x="6995" y="17214"/>
                </a:cubicBezTo>
                <a:cubicBezTo>
                  <a:pt x="6848" y="17241"/>
                  <a:pt x="6678" y="17263"/>
                  <a:pt x="6548" y="17338"/>
                </a:cubicBezTo>
                <a:cubicBezTo>
                  <a:pt x="6351" y="17452"/>
                  <a:pt x="6086" y="17650"/>
                  <a:pt x="6028" y="17884"/>
                </a:cubicBezTo>
                <a:cubicBezTo>
                  <a:pt x="5937" y="18249"/>
                  <a:pt x="6346" y="18288"/>
                  <a:pt x="6598" y="18207"/>
                </a:cubicBezTo>
                <a:cubicBezTo>
                  <a:pt x="6697" y="18157"/>
                  <a:pt x="6797" y="18108"/>
                  <a:pt x="6896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36920" y="714240"/>
            <a:ext cx="5553000" cy="5268960"/>
          </a:xfrm>
          <a:custGeom>
            <a:avLst/>
            <a:gdLst/>
            <a:ahLst/>
            <a:rect l="l" t="t" r="r" b="b"/>
            <a:pathLst>
              <a:path w="15429" h="14636">
                <a:moveTo>
                  <a:pt x="22448" y="1984"/>
                </a:moveTo>
                <a:lnTo>
                  <a:pt x="22448" y="1984"/>
                </a:lnTo>
                <a:lnTo>
                  <a:pt x="22448" y="1984"/>
                </a:lnTo>
              </a:path>
              <a:path w="15429" h="14636">
                <a:moveTo>
                  <a:pt x="22473" y="2257"/>
                </a:moveTo>
                <a:cubicBezTo>
                  <a:pt x="22449" y="2305"/>
                  <a:pt x="22443" y="2322"/>
                  <a:pt x="22399" y="2307"/>
                </a:cubicBezTo>
              </a:path>
              <a:path w="15429" h="14636">
                <a:moveTo>
                  <a:pt x="7045" y="16073"/>
                </a:moveTo>
                <a:cubicBezTo>
                  <a:pt x="7159" y="16233"/>
                  <a:pt x="7308" y="16394"/>
                  <a:pt x="7169" y="16594"/>
                </a:cubicBezTo>
                <a:cubicBezTo>
                  <a:pt x="7152" y="16602"/>
                  <a:pt x="7136" y="16611"/>
                  <a:pt x="7119" y="16619"/>
                </a:cubicBezTo>
              </a:path>
              <a:path w="15429" h="14636">
                <a:moveTo>
                  <a:pt x="7417" y="16321"/>
                </a:moveTo>
                <a:cubicBezTo>
                  <a:pt x="7490" y="16328"/>
                  <a:pt x="7500" y="16337"/>
                  <a:pt x="7565" y="16346"/>
                </a:cubicBezTo>
              </a:path>
              <a:path w="15429" h="14636">
                <a:moveTo>
                  <a:pt x="8830" y="16396"/>
                </a:moveTo>
                <a:cubicBezTo>
                  <a:pt x="8838" y="16379"/>
                  <a:pt x="8847" y="16363"/>
                  <a:pt x="8855" y="16346"/>
                </a:cubicBezTo>
              </a:path>
              <a:path w="15429" h="14636">
                <a:moveTo>
                  <a:pt x="8830" y="15677"/>
                </a:moveTo>
                <a:cubicBezTo>
                  <a:pt x="8945" y="15771"/>
                  <a:pt x="9044" y="15855"/>
                  <a:pt x="9203" y="15875"/>
                </a:cubicBezTo>
                <a:cubicBezTo>
                  <a:pt x="9453" y="15907"/>
                  <a:pt x="9689" y="15852"/>
                  <a:pt x="9897" y="15726"/>
                </a:cubicBezTo>
                <a:cubicBezTo>
                  <a:pt x="10088" y="15610"/>
                  <a:pt x="10277" y="15396"/>
                  <a:pt x="10344" y="15180"/>
                </a:cubicBezTo>
                <a:cubicBezTo>
                  <a:pt x="10395" y="15014"/>
                  <a:pt x="10266" y="14800"/>
                  <a:pt x="10170" y="14684"/>
                </a:cubicBezTo>
                <a:cubicBezTo>
                  <a:pt x="10036" y="14523"/>
                  <a:pt x="9800" y="14475"/>
                  <a:pt x="9599" y="14461"/>
                </a:cubicBezTo>
                <a:cubicBezTo>
                  <a:pt x="9340" y="14443"/>
                  <a:pt x="9006" y="14432"/>
                  <a:pt x="8756" y="14511"/>
                </a:cubicBezTo>
                <a:cubicBezTo>
                  <a:pt x="8548" y="14577"/>
                  <a:pt x="8321" y="14816"/>
                  <a:pt x="8285" y="15032"/>
                </a:cubicBezTo>
                <a:cubicBezTo>
                  <a:pt x="8214" y="15461"/>
                  <a:pt x="8484" y="15687"/>
                  <a:pt x="8880" y="15751"/>
                </a:cubicBezTo>
                <a:cubicBezTo>
                  <a:pt x="9096" y="15751"/>
                  <a:pt x="9147" y="15746"/>
                  <a:pt x="9277" y="15776"/>
                </a:cubicBezTo>
              </a:path>
              <a:path w="15429" h="14636">
                <a:moveTo>
                  <a:pt x="10294" y="15205"/>
                </a:moveTo>
                <a:lnTo>
                  <a:pt x="10294" y="15205"/>
                </a:lnTo>
              </a:path>
              <a:path w="15429" h="14636">
                <a:moveTo>
                  <a:pt x="19447" y="6424"/>
                </a:moveTo>
                <a:cubicBezTo>
                  <a:pt x="19472" y="6424"/>
                  <a:pt x="19496" y="6424"/>
                  <a:pt x="1952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7240" y="3446640"/>
            <a:ext cx="81000" cy="71280"/>
          </a:xfrm>
          <a:custGeom>
            <a:avLst/>
            <a:gdLst/>
            <a:ahLst/>
            <a:rect l="l" t="t" r="r" b="b"/>
            <a:pathLst>
              <a:path w="224" h="199">
                <a:moveTo>
                  <a:pt x="14982" y="9599"/>
                </a:moveTo>
                <a:cubicBezTo>
                  <a:pt x="14966" y="9661"/>
                  <a:pt x="14910" y="9664"/>
                  <a:pt x="14932" y="9748"/>
                </a:cubicBezTo>
                <a:cubicBezTo>
                  <a:pt x="14964" y="9868"/>
                  <a:pt x="15032" y="9655"/>
                  <a:pt x="15032" y="9649"/>
                </a:cubicBezTo>
                <a:cubicBezTo>
                  <a:pt x="15038" y="9558"/>
                  <a:pt x="14908" y="9612"/>
                  <a:pt x="14908" y="9699"/>
                </a:cubicBezTo>
                <a:cubicBezTo>
                  <a:pt x="14908" y="9806"/>
                  <a:pt x="14984" y="9773"/>
                  <a:pt x="15056" y="9773"/>
                </a:cubicBezTo>
                <a:cubicBezTo>
                  <a:pt x="15083" y="9692"/>
                  <a:pt x="15092" y="9660"/>
                  <a:pt x="15081" y="9599"/>
                </a:cubicBezTo>
                <a:cubicBezTo>
                  <a:pt x="14970" y="9535"/>
                  <a:pt x="14987" y="9618"/>
                  <a:pt x="14982" y="9723"/>
                </a:cubicBezTo>
                <a:cubicBezTo>
                  <a:pt x="14980" y="9768"/>
                  <a:pt x="15150" y="9702"/>
                  <a:pt x="15081" y="9599"/>
                </a:cubicBezTo>
                <a:cubicBezTo>
                  <a:pt x="15057" y="9563"/>
                  <a:pt x="14911" y="9689"/>
                  <a:pt x="15007" y="9723"/>
                </a:cubicBezTo>
                <a:cubicBezTo>
                  <a:pt x="15140" y="9770"/>
                  <a:pt x="15107" y="9554"/>
                  <a:pt x="15032" y="9624"/>
                </a:cubicBezTo>
                <a:cubicBezTo>
                  <a:pt x="15010" y="9691"/>
                  <a:pt x="15005" y="9709"/>
                  <a:pt x="14982" y="9748"/>
                </a:cubicBezTo>
                <a:cubicBezTo>
                  <a:pt x="15035" y="9760"/>
                  <a:pt x="15214" y="9741"/>
                  <a:pt x="15106" y="9649"/>
                </a:cubicBezTo>
                <a:cubicBezTo>
                  <a:pt x="15060" y="9610"/>
                  <a:pt x="15014" y="9771"/>
                  <a:pt x="15032" y="9773"/>
                </a:cubicBezTo>
                <a:cubicBezTo>
                  <a:pt x="15079" y="9778"/>
                  <a:pt x="15248" y="9577"/>
                  <a:pt x="15056" y="9699"/>
                </a:cubicBezTo>
                <a:cubicBezTo>
                  <a:pt x="14994" y="9739"/>
                  <a:pt x="15116" y="9700"/>
                  <a:pt x="15131" y="9649"/>
                </a:cubicBezTo>
                <a:cubicBezTo>
                  <a:pt x="15123" y="9649"/>
                  <a:pt x="15114" y="9649"/>
                  <a:pt x="15106" y="9649"/>
                </a:cubicBezTo>
              </a:path>
              <a:path w="224" h="199">
                <a:moveTo>
                  <a:pt x="15056" y="9624"/>
                </a:moveTo>
                <a:cubicBezTo>
                  <a:pt x="15019" y="9630"/>
                  <a:pt x="14962" y="9652"/>
                  <a:pt x="15007" y="9674"/>
                </a:cubicBezTo>
                <a:cubicBezTo>
                  <a:pt x="15034" y="9640"/>
                  <a:pt x="15048" y="9618"/>
                  <a:pt x="15056" y="9575"/>
                </a:cubicBezTo>
                <a:cubicBezTo>
                  <a:pt x="15024" y="9575"/>
                  <a:pt x="14943" y="9601"/>
                  <a:pt x="14982" y="9649"/>
                </a:cubicBezTo>
                <a:cubicBezTo>
                  <a:pt x="15018" y="9694"/>
                  <a:pt x="15007" y="9568"/>
                  <a:pt x="15007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85080" y="9288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21903" y="2679"/>
                </a:moveTo>
                <a:cubicBezTo>
                  <a:pt x="21903" y="2635"/>
                  <a:pt x="21917" y="2619"/>
                  <a:pt x="21927" y="2580"/>
                </a:cubicBezTo>
                <a:cubicBezTo>
                  <a:pt x="21952" y="2641"/>
                  <a:pt x="21949" y="2764"/>
                  <a:pt x="21952" y="2853"/>
                </a:cubicBezTo>
                <a:cubicBezTo>
                  <a:pt x="21954" y="2919"/>
                  <a:pt x="21934" y="3022"/>
                  <a:pt x="21977" y="30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93040" y="9558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3316" y="2679"/>
                </a:moveTo>
                <a:cubicBezTo>
                  <a:pt x="23316" y="2671"/>
                  <a:pt x="23316" y="2662"/>
                  <a:pt x="23316" y="2654"/>
                </a:cubicBezTo>
              </a:path>
              <a:path w="1" h="26">
                <a:moveTo>
                  <a:pt x="23316" y="2654"/>
                </a:moveTo>
                <a:lnTo>
                  <a:pt x="23316" y="26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66000" y="866880"/>
            <a:ext cx="2089080" cy="357120"/>
          </a:xfrm>
          <a:custGeom>
            <a:avLst/>
            <a:gdLst/>
            <a:ahLst/>
            <a:rect l="l" t="t" r="r" b="b"/>
            <a:pathLst>
              <a:path w="5805" h="993">
                <a:moveTo>
                  <a:pt x="19869" y="2778"/>
                </a:moveTo>
                <a:cubicBezTo>
                  <a:pt x="19869" y="2908"/>
                  <a:pt x="19886" y="3048"/>
                  <a:pt x="19918" y="3175"/>
                </a:cubicBezTo>
                <a:cubicBezTo>
                  <a:pt x="19938" y="3216"/>
                  <a:pt x="19957" y="3232"/>
                  <a:pt x="19918" y="3225"/>
                </a:cubicBezTo>
              </a:path>
              <a:path w="5805" h="993">
                <a:moveTo>
                  <a:pt x="19422" y="3299"/>
                </a:moveTo>
                <a:cubicBezTo>
                  <a:pt x="19743" y="3325"/>
                  <a:pt x="20297" y="3424"/>
                  <a:pt x="20365" y="2952"/>
                </a:cubicBezTo>
                <a:cubicBezTo>
                  <a:pt x="20431" y="2492"/>
                  <a:pt x="19774" y="2540"/>
                  <a:pt x="19546" y="2704"/>
                </a:cubicBezTo>
                <a:cubicBezTo>
                  <a:pt x="18954" y="3130"/>
                  <a:pt x="19641" y="3335"/>
                  <a:pt x="19968" y="3398"/>
                </a:cubicBezTo>
              </a:path>
              <a:path w="5805" h="993">
                <a:moveTo>
                  <a:pt x="20910" y="2853"/>
                </a:moveTo>
                <a:cubicBezTo>
                  <a:pt x="20829" y="2913"/>
                  <a:pt x="20806" y="2918"/>
                  <a:pt x="20786" y="2977"/>
                </a:cubicBezTo>
                <a:cubicBezTo>
                  <a:pt x="20989" y="3010"/>
                  <a:pt x="21142" y="3045"/>
                  <a:pt x="21258" y="3200"/>
                </a:cubicBezTo>
                <a:cubicBezTo>
                  <a:pt x="21030" y="3287"/>
                  <a:pt x="20990" y="3295"/>
                  <a:pt x="20762" y="3225"/>
                </a:cubicBezTo>
              </a:path>
              <a:path w="5805" h="993">
                <a:moveTo>
                  <a:pt x="21307" y="2927"/>
                </a:moveTo>
                <a:cubicBezTo>
                  <a:pt x="21310" y="2996"/>
                  <a:pt x="21307" y="3415"/>
                  <a:pt x="21506" y="3249"/>
                </a:cubicBezTo>
                <a:cubicBezTo>
                  <a:pt x="21582" y="3122"/>
                  <a:pt x="21608" y="3077"/>
                  <a:pt x="21630" y="2977"/>
                </a:cubicBezTo>
                <a:cubicBezTo>
                  <a:pt x="21639" y="3033"/>
                  <a:pt x="21720" y="3456"/>
                  <a:pt x="21878" y="3225"/>
                </a:cubicBezTo>
                <a:cubicBezTo>
                  <a:pt x="21903" y="3150"/>
                  <a:pt x="21927" y="3076"/>
                  <a:pt x="21952" y="3001"/>
                </a:cubicBezTo>
              </a:path>
              <a:path w="5805" h="993">
                <a:moveTo>
                  <a:pt x="21977" y="2778"/>
                </a:moveTo>
                <a:cubicBezTo>
                  <a:pt x="21982" y="2937"/>
                  <a:pt x="21993" y="3091"/>
                  <a:pt x="22002" y="3249"/>
                </a:cubicBezTo>
                <a:cubicBezTo>
                  <a:pt x="22022" y="3110"/>
                  <a:pt x="22027" y="2911"/>
                  <a:pt x="22175" y="2828"/>
                </a:cubicBezTo>
                <a:cubicBezTo>
                  <a:pt x="22216" y="2828"/>
                  <a:pt x="22258" y="2828"/>
                  <a:pt x="22299" y="2828"/>
                </a:cubicBezTo>
                <a:cubicBezTo>
                  <a:pt x="22322" y="2967"/>
                  <a:pt x="22316" y="3365"/>
                  <a:pt x="22027" y="3175"/>
                </a:cubicBezTo>
                <a:cubicBezTo>
                  <a:pt x="22002" y="3134"/>
                  <a:pt x="21977" y="3092"/>
                  <a:pt x="21952" y="3051"/>
                </a:cubicBezTo>
              </a:path>
              <a:path w="5805" h="993">
                <a:moveTo>
                  <a:pt x="22671" y="2803"/>
                </a:moveTo>
                <a:cubicBezTo>
                  <a:pt x="22606" y="2852"/>
                  <a:pt x="22601" y="2853"/>
                  <a:pt x="22523" y="2853"/>
                </a:cubicBezTo>
                <a:cubicBezTo>
                  <a:pt x="22630" y="2902"/>
                  <a:pt x="22738" y="2951"/>
                  <a:pt x="22845" y="3001"/>
                </a:cubicBezTo>
                <a:cubicBezTo>
                  <a:pt x="22685" y="3221"/>
                  <a:pt x="22553" y="3131"/>
                  <a:pt x="22399" y="2977"/>
                </a:cubicBezTo>
              </a:path>
              <a:path w="5805" h="993">
                <a:moveTo>
                  <a:pt x="22994" y="2629"/>
                </a:moveTo>
                <a:cubicBezTo>
                  <a:pt x="23007" y="2770"/>
                  <a:pt x="23017" y="3032"/>
                  <a:pt x="23093" y="3150"/>
                </a:cubicBezTo>
                <a:cubicBezTo>
                  <a:pt x="23093" y="3134"/>
                  <a:pt x="23093" y="3117"/>
                  <a:pt x="23093" y="3101"/>
                </a:cubicBezTo>
              </a:path>
              <a:path w="5805" h="993">
                <a:moveTo>
                  <a:pt x="22796" y="2803"/>
                </a:moveTo>
                <a:cubicBezTo>
                  <a:pt x="22949" y="2893"/>
                  <a:pt x="23157" y="2873"/>
                  <a:pt x="23316" y="2952"/>
                </a:cubicBezTo>
                <a:cubicBezTo>
                  <a:pt x="23414" y="3001"/>
                  <a:pt x="23410" y="3051"/>
                  <a:pt x="23391" y="3125"/>
                </a:cubicBezTo>
              </a:path>
              <a:path w="5805" h="993">
                <a:moveTo>
                  <a:pt x="23614" y="2654"/>
                </a:moveTo>
                <a:cubicBezTo>
                  <a:pt x="23626" y="2671"/>
                  <a:pt x="23739" y="3072"/>
                  <a:pt x="23763" y="3076"/>
                </a:cubicBezTo>
                <a:cubicBezTo>
                  <a:pt x="23763" y="3051"/>
                  <a:pt x="23763" y="3026"/>
                  <a:pt x="23763" y="3001"/>
                </a:cubicBezTo>
              </a:path>
              <a:path w="5805" h="993">
                <a:moveTo>
                  <a:pt x="23465" y="2803"/>
                </a:moveTo>
                <a:cubicBezTo>
                  <a:pt x="23639" y="2803"/>
                  <a:pt x="23812" y="2803"/>
                  <a:pt x="23986" y="2803"/>
                </a:cubicBezTo>
                <a:cubicBezTo>
                  <a:pt x="23971" y="2864"/>
                  <a:pt x="23867" y="2953"/>
                  <a:pt x="23912" y="3026"/>
                </a:cubicBezTo>
                <a:cubicBezTo>
                  <a:pt x="23974" y="3127"/>
                  <a:pt x="24112" y="2936"/>
                  <a:pt x="24160" y="2828"/>
                </a:cubicBezTo>
                <a:cubicBezTo>
                  <a:pt x="24141" y="2830"/>
                  <a:pt x="23951" y="2872"/>
                  <a:pt x="24036" y="2952"/>
                </a:cubicBezTo>
                <a:cubicBezTo>
                  <a:pt x="24143" y="3053"/>
                  <a:pt x="24257" y="2926"/>
                  <a:pt x="24333" y="2877"/>
                </a:cubicBezTo>
              </a:path>
              <a:path w="5805" h="993">
                <a:moveTo>
                  <a:pt x="24358" y="2406"/>
                </a:moveTo>
                <a:cubicBezTo>
                  <a:pt x="24376" y="2589"/>
                  <a:pt x="24409" y="2770"/>
                  <a:pt x="24433" y="2952"/>
                </a:cubicBezTo>
                <a:cubicBezTo>
                  <a:pt x="24439" y="2996"/>
                  <a:pt x="24456" y="2911"/>
                  <a:pt x="24482" y="2853"/>
                </a:cubicBezTo>
              </a:path>
              <a:path w="5805" h="993">
                <a:moveTo>
                  <a:pt x="24284" y="2679"/>
                </a:moveTo>
                <a:cubicBezTo>
                  <a:pt x="24422" y="2685"/>
                  <a:pt x="24681" y="2652"/>
                  <a:pt x="24805" y="2704"/>
                </a:cubicBezTo>
                <a:cubicBezTo>
                  <a:pt x="24805" y="2712"/>
                  <a:pt x="24805" y="2721"/>
                  <a:pt x="24805" y="2729"/>
                </a:cubicBezTo>
              </a:path>
              <a:path w="5805" h="993">
                <a:moveTo>
                  <a:pt x="24854" y="2729"/>
                </a:moveTo>
                <a:cubicBezTo>
                  <a:pt x="24892" y="2705"/>
                  <a:pt x="25008" y="2642"/>
                  <a:pt x="25003" y="2580"/>
                </a:cubicBezTo>
                <a:cubicBezTo>
                  <a:pt x="24995" y="2572"/>
                  <a:pt x="24986" y="2563"/>
                  <a:pt x="24978" y="2555"/>
                </a:cubicBezTo>
                <a:cubicBezTo>
                  <a:pt x="24860" y="2528"/>
                  <a:pt x="24738" y="2580"/>
                  <a:pt x="24730" y="2729"/>
                </a:cubicBezTo>
                <a:cubicBezTo>
                  <a:pt x="24718" y="2948"/>
                  <a:pt x="25019" y="2902"/>
                  <a:pt x="25152" y="29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796240" y="117000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4433" y="3274"/>
                </a:moveTo>
                <a:cubicBezTo>
                  <a:pt x="24433" y="3266"/>
                  <a:pt x="24433" y="3257"/>
                  <a:pt x="24433" y="3249"/>
                </a:cubicBezTo>
              </a:path>
              <a:path w="1" h="26">
                <a:moveTo>
                  <a:pt x="24433" y="3249"/>
                </a:moveTo>
                <a:lnTo>
                  <a:pt x="24433" y="324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73960" y="1258920"/>
            <a:ext cx="965160" cy="411120"/>
          </a:xfrm>
          <a:custGeom>
            <a:avLst/>
            <a:gdLst/>
            <a:ahLst/>
            <a:rect l="l" t="t" r="r" b="b"/>
            <a:pathLst>
              <a:path w="2679" h="1142">
                <a:moveTo>
                  <a:pt x="21183" y="3820"/>
                </a:moveTo>
                <a:cubicBezTo>
                  <a:pt x="21246" y="3820"/>
                  <a:pt x="21265" y="3768"/>
                  <a:pt x="21332" y="3770"/>
                </a:cubicBezTo>
                <a:cubicBezTo>
                  <a:pt x="21605" y="3779"/>
                  <a:pt x="21452" y="4121"/>
                  <a:pt x="21332" y="4217"/>
                </a:cubicBezTo>
                <a:cubicBezTo>
                  <a:pt x="21209" y="4278"/>
                  <a:pt x="21188" y="4293"/>
                  <a:pt x="21109" y="4316"/>
                </a:cubicBezTo>
                <a:cubicBezTo>
                  <a:pt x="21108" y="4200"/>
                  <a:pt x="21203" y="4105"/>
                  <a:pt x="21332" y="4192"/>
                </a:cubicBezTo>
                <a:cubicBezTo>
                  <a:pt x="21403" y="4263"/>
                  <a:pt x="21423" y="4285"/>
                  <a:pt x="21481" y="4316"/>
                </a:cubicBezTo>
              </a:path>
              <a:path w="2679" h="1142">
                <a:moveTo>
                  <a:pt x="20960" y="4589"/>
                </a:moveTo>
                <a:cubicBezTo>
                  <a:pt x="21232" y="4651"/>
                  <a:pt x="21421" y="4652"/>
                  <a:pt x="21654" y="4465"/>
                </a:cubicBezTo>
                <a:cubicBezTo>
                  <a:pt x="21871" y="4291"/>
                  <a:pt x="21932" y="3983"/>
                  <a:pt x="21754" y="3746"/>
                </a:cubicBezTo>
                <a:cubicBezTo>
                  <a:pt x="21609" y="3553"/>
                  <a:pt x="21191" y="3408"/>
                  <a:pt x="20960" y="3522"/>
                </a:cubicBezTo>
                <a:cubicBezTo>
                  <a:pt x="20693" y="3653"/>
                  <a:pt x="20734" y="4176"/>
                  <a:pt x="20836" y="4390"/>
                </a:cubicBezTo>
                <a:cubicBezTo>
                  <a:pt x="20967" y="4663"/>
                  <a:pt x="21169" y="4562"/>
                  <a:pt x="21406" y="4539"/>
                </a:cubicBezTo>
              </a:path>
              <a:path w="2679" h="1142">
                <a:moveTo>
                  <a:pt x="22200" y="3746"/>
                </a:moveTo>
                <a:cubicBezTo>
                  <a:pt x="22121" y="3777"/>
                  <a:pt x="22037" y="3835"/>
                  <a:pt x="21977" y="3894"/>
                </a:cubicBezTo>
                <a:cubicBezTo>
                  <a:pt x="22041" y="4068"/>
                  <a:pt x="22175" y="3947"/>
                  <a:pt x="22324" y="3994"/>
                </a:cubicBezTo>
                <a:cubicBezTo>
                  <a:pt x="22341" y="4010"/>
                  <a:pt x="22357" y="4027"/>
                  <a:pt x="22374" y="4043"/>
                </a:cubicBezTo>
                <a:cubicBezTo>
                  <a:pt x="22325" y="4134"/>
                  <a:pt x="22178" y="4262"/>
                  <a:pt x="22051" y="4217"/>
                </a:cubicBezTo>
                <a:cubicBezTo>
                  <a:pt x="22051" y="4200"/>
                  <a:pt x="22051" y="4184"/>
                  <a:pt x="22051" y="4167"/>
                </a:cubicBezTo>
              </a:path>
              <a:path w="2679" h="1142">
                <a:moveTo>
                  <a:pt x="22399" y="3795"/>
                </a:moveTo>
                <a:cubicBezTo>
                  <a:pt x="22391" y="3938"/>
                  <a:pt x="22404" y="4153"/>
                  <a:pt x="22622" y="4068"/>
                </a:cubicBezTo>
                <a:cubicBezTo>
                  <a:pt x="22766" y="4012"/>
                  <a:pt x="22611" y="3879"/>
                  <a:pt x="22572" y="3820"/>
                </a:cubicBezTo>
                <a:cubicBezTo>
                  <a:pt x="22564" y="3803"/>
                  <a:pt x="22555" y="3787"/>
                  <a:pt x="22547" y="3770"/>
                </a:cubicBezTo>
              </a:path>
              <a:path w="2679" h="1142">
                <a:moveTo>
                  <a:pt x="22597" y="3497"/>
                </a:moveTo>
                <a:cubicBezTo>
                  <a:pt x="22647" y="3649"/>
                  <a:pt x="22721" y="3824"/>
                  <a:pt x="22796" y="3969"/>
                </a:cubicBezTo>
                <a:cubicBezTo>
                  <a:pt x="22820" y="3994"/>
                  <a:pt x="22828" y="4002"/>
                  <a:pt x="22845" y="4018"/>
                </a:cubicBezTo>
              </a:path>
              <a:path w="2679" h="1142">
                <a:moveTo>
                  <a:pt x="22895" y="3696"/>
                </a:moveTo>
                <a:cubicBezTo>
                  <a:pt x="22955" y="3810"/>
                  <a:pt x="23001" y="3884"/>
                  <a:pt x="23093" y="3969"/>
                </a:cubicBezTo>
                <a:cubicBezTo>
                  <a:pt x="23093" y="3857"/>
                  <a:pt x="23078" y="3753"/>
                  <a:pt x="23068" y="3646"/>
                </a:cubicBezTo>
                <a:cubicBezTo>
                  <a:pt x="23068" y="3621"/>
                  <a:pt x="23068" y="3613"/>
                  <a:pt x="23068" y="3597"/>
                </a:cubicBezTo>
              </a:path>
              <a:path w="2679" h="1142">
                <a:moveTo>
                  <a:pt x="23316" y="3696"/>
                </a:moveTo>
                <a:cubicBezTo>
                  <a:pt x="23356" y="3656"/>
                  <a:pt x="23379" y="3644"/>
                  <a:pt x="23391" y="3597"/>
                </a:cubicBezTo>
                <a:cubicBezTo>
                  <a:pt x="23296" y="3605"/>
                  <a:pt x="23158" y="3626"/>
                  <a:pt x="23217" y="3770"/>
                </a:cubicBezTo>
                <a:cubicBezTo>
                  <a:pt x="23253" y="3857"/>
                  <a:pt x="23369" y="3839"/>
                  <a:pt x="23440" y="38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99320" y="1108080"/>
            <a:ext cx="490680" cy="258840"/>
          </a:xfrm>
          <a:custGeom>
            <a:avLst/>
            <a:gdLst/>
            <a:ahLst/>
            <a:rect l="l" t="t" r="r" b="b"/>
            <a:pathLst>
              <a:path w="1365" h="720">
                <a:moveTo>
                  <a:pt x="23887" y="3497"/>
                </a:moveTo>
                <a:cubicBezTo>
                  <a:pt x="23930" y="3642"/>
                  <a:pt x="23950" y="3694"/>
                  <a:pt x="24061" y="3795"/>
                </a:cubicBezTo>
                <a:cubicBezTo>
                  <a:pt x="24133" y="3722"/>
                  <a:pt x="24038" y="3616"/>
                  <a:pt x="24011" y="3497"/>
                </a:cubicBezTo>
                <a:cubicBezTo>
                  <a:pt x="23988" y="3397"/>
                  <a:pt x="24105" y="3554"/>
                  <a:pt x="24110" y="3646"/>
                </a:cubicBezTo>
                <a:cubicBezTo>
                  <a:pt x="24110" y="3671"/>
                  <a:pt x="24110" y="3696"/>
                  <a:pt x="24110" y="3721"/>
                </a:cubicBezTo>
              </a:path>
              <a:path w="1365" h="720">
                <a:moveTo>
                  <a:pt x="24209" y="3349"/>
                </a:moveTo>
                <a:cubicBezTo>
                  <a:pt x="24170" y="3388"/>
                  <a:pt x="24169" y="3404"/>
                  <a:pt x="24135" y="3398"/>
                </a:cubicBezTo>
                <a:cubicBezTo>
                  <a:pt x="24219" y="3458"/>
                  <a:pt x="24303" y="3465"/>
                  <a:pt x="24333" y="3547"/>
                </a:cubicBezTo>
                <a:cubicBezTo>
                  <a:pt x="24357" y="3613"/>
                  <a:pt x="24310" y="3747"/>
                  <a:pt x="24209" y="3696"/>
                </a:cubicBezTo>
                <a:cubicBezTo>
                  <a:pt x="24193" y="3679"/>
                  <a:pt x="24176" y="3663"/>
                  <a:pt x="24160" y="3646"/>
                </a:cubicBezTo>
              </a:path>
              <a:path w="1365" h="720">
                <a:moveTo>
                  <a:pt x="24383" y="3373"/>
                </a:moveTo>
                <a:cubicBezTo>
                  <a:pt x="24413" y="3433"/>
                  <a:pt x="24457" y="3580"/>
                  <a:pt x="24507" y="3597"/>
                </a:cubicBezTo>
              </a:path>
              <a:path w="1365" h="720">
                <a:moveTo>
                  <a:pt x="24681" y="3522"/>
                </a:moveTo>
                <a:cubicBezTo>
                  <a:pt x="24681" y="3530"/>
                  <a:pt x="24681" y="3539"/>
                  <a:pt x="24681" y="3547"/>
                </a:cubicBezTo>
                <a:cubicBezTo>
                  <a:pt x="24729" y="3465"/>
                  <a:pt x="24681" y="3366"/>
                  <a:pt x="24705" y="3274"/>
                </a:cubicBezTo>
                <a:cubicBezTo>
                  <a:pt x="24713" y="3266"/>
                  <a:pt x="24722" y="3257"/>
                  <a:pt x="24730" y="3249"/>
                </a:cubicBezTo>
                <a:cubicBezTo>
                  <a:pt x="24832" y="3325"/>
                  <a:pt x="24892" y="3371"/>
                  <a:pt x="24929" y="3497"/>
                </a:cubicBezTo>
              </a:path>
              <a:path w="1365" h="720">
                <a:moveTo>
                  <a:pt x="25028" y="3076"/>
                </a:moveTo>
                <a:cubicBezTo>
                  <a:pt x="25003" y="3122"/>
                  <a:pt x="24866" y="3377"/>
                  <a:pt x="25003" y="3398"/>
                </a:cubicBezTo>
                <a:cubicBezTo>
                  <a:pt x="25141" y="3420"/>
                  <a:pt x="25102" y="3197"/>
                  <a:pt x="25102" y="3125"/>
                </a:cubicBezTo>
                <a:cubicBezTo>
                  <a:pt x="25227" y="3200"/>
                  <a:pt x="25269" y="3374"/>
                  <a:pt x="25251" y="3522"/>
                </a:cubicBezTo>
                <a:cubicBezTo>
                  <a:pt x="25218" y="3794"/>
                  <a:pt x="25045" y="3749"/>
                  <a:pt x="24854" y="36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769240" y="1330200"/>
            <a:ext cx="142920" cy="1890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4755" y="3746"/>
                </a:moveTo>
                <a:cubicBezTo>
                  <a:pt x="24682" y="3713"/>
                  <a:pt x="24636" y="3703"/>
                  <a:pt x="24557" y="3696"/>
                </a:cubicBezTo>
                <a:cubicBezTo>
                  <a:pt x="24516" y="3846"/>
                  <a:pt x="24533" y="3976"/>
                  <a:pt x="24606" y="4118"/>
                </a:cubicBezTo>
                <a:cubicBezTo>
                  <a:pt x="24646" y="4177"/>
                  <a:pt x="24650" y="4189"/>
                  <a:pt x="24681" y="4217"/>
                </a:cubicBezTo>
              </a:path>
              <a:path w="398" h="522">
                <a:moveTo>
                  <a:pt x="24358" y="3969"/>
                </a:moveTo>
                <a:cubicBezTo>
                  <a:pt x="24491" y="3947"/>
                  <a:pt x="24623" y="3924"/>
                  <a:pt x="24755" y="38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56720" y="1411200"/>
            <a:ext cx="830160" cy="303480"/>
          </a:xfrm>
          <a:custGeom>
            <a:avLst/>
            <a:gdLst/>
            <a:ahLst/>
            <a:rect l="l" t="t" r="r" b="b"/>
            <a:pathLst>
              <a:path w="2308" h="844">
                <a:moveTo>
                  <a:pt x="22399" y="4514"/>
                </a:moveTo>
                <a:cubicBezTo>
                  <a:pt x="22282" y="4492"/>
                  <a:pt x="22183" y="4602"/>
                  <a:pt x="22101" y="4713"/>
                </a:cubicBezTo>
                <a:cubicBezTo>
                  <a:pt x="22207" y="4750"/>
                  <a:pt x="22464" y="4834"/>
                  <a:pt x="22448" y="4614"/>
                </a:cubicBezTo>
                <a:cubicBezTo>
                  <a:pt x="22436" y="4451"/>
                  <a:pt x="22358" y="4456"/>
                  <a:pt x="22250" y="4465"/>
                </a:cubicBezTo>
              </a:path>
              <a:path w="2308" h="844">
                <a:moveTo>
                  <a:pt x="22622" y="4614"/>
                </a:moveTo>
                <a:cubicBezTo>
                  <a:pt x="22638" y="4639"/>
                  <a:pt x="22655" y="4663"/>
                  <a:pt x="22671" y="4688"/>
                </a:cubicBezTo>
                <a:cubicBezTo>
                  <a:pt x="22660" y="4595"/>
                  <a:pt x="22595" y="4463"/>
                  <a:pt x="22696" y="4390"/>
                </a:cubicBezTo>
                <a:cubicBezTo>
                  <a:pt x="22729" y="4382"/>
                  <a:pt x="22763" y="4374"/>
                  <a:pt x="22796" y="4366"/>
                </a:cubicBezTo>
              </a:path>
              <a:path w="2308" h="844">
                <a:moveTo>
                  <a:pt x="23143" y="4390"/>
                </a:moveTo>
                <a:cubicBezTo>
                  <a:pt x="23039" y="4304"/>
                  <a:pt x="22955" y="4234"/>
                  <a:pt x="22870" y="4390"/>
                </a:cubicBezTo>
                <a:cubicBezTo>
                  <a:pt x="22821" y="4511"/>
                  <a:pt x="22805" y="4549"/>
                  <a:pt x="22820" y="4638"/>
                </a:cubicBezTo>
                <a:cubicBezTo>
                  <a:pt x="23046" y="4700"/>
                  <a:pt x="23056" y="4610"/>
                  <a:pt x="23118" y="4415"/>
                </a:cubicBezTo>
              </a:path>
              <a:path w="2308" h="844">
                <a:moveTo>
                  <a:pt x="22969" y="4142"/>
                </a:moveTo>
                <a:cubicBezTo>
                  <a:pt x="23011" y="4248"/>
                  <a:pt x="23096" y="4389"/>
                  <a:pt x="23168" y="4490"/>
                </a:cubicBezTo>
                <a:cubicBezTo>
                  <a:pt x="23184" y="4506"/>
                  <a:pt x="23201" y="4523"/>
                  <a:pt x="23217" y="4539"/>
                </a:cubicBezTo>
              </a:path>
              <a:path w="2308" h="844">
                <a:moveTo>
                  <a:pt x="23341" y="4341"/>
                </a:moveTo>
                <a:cubicBezTo>
                  <a:pt x="23420" y="4292"/>
                  <a:pt x="23534" y="4241"/>
                  <a:pt x="23416" y="4167"/>
                </a:cubicBezTo>
                <a:cubicBezTo>
                  <a:pt x="23399" y="4159"/>
                  <a:pt x="23383" y="4150"/>
                  <a:pt x="23366" y="4142"/>
                </a:cubicBezTo>
                <a:cubicBezTo>
                  <a:pt x="23318" y="4197"/>
                  <a:pt x="23194" y="4439"/>
                  <a:pt x="23366" y="4465"/>
                </a:cubicBezTo>
                <a:cubicBezTo>
                  <a:pt x="23416" y="4457"/>
                  <a:pt x="23465" y="4448"/>
                  <a:pt x="23515" y="4440"/>
                </a:cubicBezTo>
              </a:path>
              <a:path w="2308" h="844">
                <a:moveTo>
                  <a:pt x="23738" y="4192"/>
                </a:moveTo>
                <a:cubicBezTo>
                  <a:pt x="23759" y="4276"/>
                  <a:pt x="23761" y="4295"/>
                  <a:pt x="23788" y="4341"/>
                </a:cubicBezTo>
                <a:cubicBezTo>
                  <a:pt x="23767" y="4259"/>
                  <a:pt x="23749" y="4186"/>
                  <a:pt x="23788" y="4093"/>
                </a:cubicBezTo>
                <a:cubicBezTo>
                  <a:pt x="23830" y="3992"/>
                  <a:pt x="24014" y="4024"/>
                  <a:pt x="24085" y="4018"/>
                </a:cubicBezTo>
              </a:path>
              <a:path w="2308" h="844">
                <a:moveTo>
                  <a:pt x="24234" y="4018"/>
                </a:moveTo>
                <a:cubicBezTo>
                  <a:pt x="24136" y="4040"/>
                  <a:pt x="23987" y="4137"/>
                  <a:pt x="24085" y="4266"/>
                </a:cubicBezTo>
                <a:cubicBezTo>
                  <a:pt x="24189" y="4402"/>
                  <a:pt x="24405" y="4216"/>
                  <a:pt x="24408" y="4093"/>
                </a:cubicBezTo>
                <a:cubicBezTo>
                  <a:pt x="24411" y="3997"/>
                  <a:pt x="24337" y="3938"/>
                  <a:pt x="24259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8920" y="4232160"/>
            <a:ext cx="8099280" cy="2108160"/>
          </a:xfrm>
          <a:custGeom>
            <a:avLst/>
            <a:gdLst/>
            <a:ahLst/>
            <a:rect l="l" t="t" r="r" b="b"/>
            <a:pathLst>
              <a:path w="22499" h="5855">
                <a:moveTo>
                  <a:pt x="5928" y="13940"/>
                </a:moveTo>
                <a:cubicBezTo>
                  <a:pt x="5928" y="13948"/>
                  <a:pt x="5928" y="13957"/>
                  <a:pt x="5928" y="13965"/>
                </a:cubicBezTo>
              </a:path>
              <a:path w="22499" h="5855">
                <a:moveTo>
                  <a:pt x="347" y="12353"/>
                </a:moveTo>
                <a:cubicBezTo>
                  <a:pt x="288" y="12353"/>
                  <a:pt x="407" y="12329"/>
                  <a:pt x="422" y="12328"/>
                </a:cubicBezTo>
                <a:cubicBezTo>
                  <a:pt x="486" y="12324"/>
                  <a:pt x="572" y="12314"/>
                  <a:pt x="620" y="12353"/>
                </a:cubicBezTo>
                <a:cubicBezTo>
                  <a:pt x="696" y="12414"/>
                  <a:pt x="604" y="12453"/>
                  <a:pt x="546" y="12477"/>
                </a:cubicBezTo>
                <a:cubicBezTo>
                  <a:pt x="540" y="12479"/>
                  <a:pt x="452" y="12477"/>
                  <a:pt x="521" y="12477"/>
                </a:cubicBezTo>
                <a:cubicBezTo>
                  <a:pt x="546" y="12477"/>
                  <a:pt x="663" y="12474"/>
                  <a:pt x="670" y="12502"/>
                </a:cubicBezTo>
                <a:cubicBezTo>
                  <a:pt x="698" y="12611"/>
                  <a:pt x="619" y="12657"/>
                  <a:pt x="521" y="12675"/>
                </a:cubicBezTo>
                <a:cubicBezTo>
                  <a:pt x="448" y="12689"/>
                  <a:pt x="403" y="12665"/>
                  <a:pt x="372" y="12650"/>
                </a:cubicBezTo>
                <a:cubicBezTo>
                  <a:pt x="347" y="12650"/>
                  <a:pt x="339" y="12650"/>
                  <a:pt x="372" y="12650"/>
                </a:cubicBezTo>
              </a:path>
              <a:path w="22499" h="5855">
                <a:moveTo>
                  <a:pt x="1166" y="12303"/>
                </a:moveTo>
                <a:cubicBezTo>
                  <a:pt x="1092" y="12303"/>
                  <a:pt x="1017" y="12303"/>
                  <a:pt x="943" y="12303"/>
                </a:cubicBezTo>
                <a:cubicBezTo>
                  <a:pt x="943" y="12354"/>
                  <a:pt x="955" y="12385"/>
                  <a:pt x="967" y="12427"/>
                </a:cubicBezTo>
                <a:cubicBezTo>
                  <a:pt x="967" y="12452"/>
                  <a:pt x="967" y="12460"/>
                  <a:pt x="967" y="12477"/>
                </a:cubicBezTo>
                <a:cubicBezTo>
                  <a:pt x="1009" y="12467"/>
                  <a:pt x="1030" y="12448"/>
                  <a:pt x="1067" y="12427"/>
                </a:cubicBezTo>
                <a:cubicBezTo>
                  <a:pt x="1144" y="12382"/>
                  <a:pt x="1201" y="12436"/>
                  <a:pt x="1240" y="12502"/>
                </a:cubicBezTo>
                <a:cubicBezTo>
                  <a:pt x="1270" y="12553"/>
                  <a:pt x="1279" y="12583"/>
                  <a:pt x="1240" y="12626"/>
                </a:cubicBezTo>
                <a:cubicBezTo>
                  <a:pt x="1201" y="12669"/>
                  <a:pt x="1116" y="12707"/>
                  <a:pt x="1067" y="12725"/>
                </a:cubicBezTo>
                <a:cubicBezTo>
                  <a:pt x="1013" y="12745"/>
                  <a:pt x="982" y="12691"/>
                  <a:pt x="943" y="12675"/>
                </a:cubicBezTo>
                <a:cubicBezTo>
                  <a:pt x="918" y="12675"/>
                  <a:pt x="910" y="12675"/>
                  <a:pt x="918" y="12650"/>
                </a:cubicBezTo>
              </a:path>
              <a:path w="22499" h="5855">
                <a:moveTo>
                  <a:pt x="1637" y="12502"/>
                </a:moveTo>
                <a:cubicBezTo>
                  <a:pt x="1706" y="12513"/>
                  <a:pt x="1764" y="12526"/>
                  <a:pt x="1836" y="12526"/>
                </a:cubicBezTo>
              </a:path>
              <a:path w="22499" h="5855">
                <a:moveTo>
                  <a:pt x="2232" y="12278"/>
                </a:moveTo>
                <a:cubicBezTo>
                  <a:pt x="2248" y="12391"/>
                  <a:pt x="2262" y="12515"/>
                  <a:pt x="2282" y="12626"/>
                </a:cubicBezTo>
                <a:cubicBezTo>
                  <a:pt x="2293" y="12686"/>
                  <a:pt x="2307" y="12697"/>
                  <a:pt x="2307" y="12750"/>
                </a:cubicBezTo>
              </a:path>
              <a:path w="22499" h="5855">
                <a:moveTo>
                  <a:pt x="819" y="12129"/>
                </a:moveTo>
                <a:cubicBezTo>
                  <a:pt x="843" y="12129"/>
                  <a:pt x="851" y="12129"/>
                  <a:pt x="843" y="12105"/>
                </a:cubicBezTo>
                <a:cubicBezTo>
                  <a:pt x="831" y="12157"/>
                  <a:pt x="797" y="12270"/>
                  <a:pt x="819" y="12328"/>
                </a:cubicBezTo>
                <a:cubicBezTo>
                  <a:pt x="835" y="12372"/>
                  <a:pt x="855" y="12426"/>
                  <a:pt x="868" y="12477"/>
                </a:cubicBezTo>
                <a:cubicBezTo>
                  <a:pt x="883" y="12539"/>
                  <a:pt x="869" y="12595"/>
                  <a:pt x="893" y="12650"/>
                </a:cubicBezTo>
                <a:cubicBezTo>
                  <a:pt x="912" y="12694"/>
                  <a:pt x="954" y="12794"/>
                  <a:pt x="992" y="12824"/>
                </a:cubicBezTo>
                <a:cubicBezTo>
                  <a:pt x="1017" y="12843"/>
                  <a:pt x="1030" y="12847"/>
                  <a:pt x="1067" y="12874"/>
                </a:cubicBezTo>
              </a:path>
              <a:path w="22499" h="5855">
                <a:moveTo>
                  <a:pt x="1215" y="12229"/>
                </a:moveTo>
                <a:cubicBezTo>
                  <a:pt x="1215" y="12204"/>
                  <a:pt x="1215" y="12196"/>
                  <a:pt x="1191" y="12204"/>
                </a:cubicBezTo>
                <a:cubicBezTo>
                  <a:pt x="1254" y="12220"/>
                  <a:pt x="1261" y="12264"/>
                  <a:pt x="1265" y="12328"/>
                </a:cubicBezTo>
                <a:cubicBezTo>
                  <a:pt x="1269" y="12396"/>
                  <a:pt x="1275" y="12438"/>
                  <a:pt x="1290" y="12502"/>
                </a:cubicBezTo>
                <a:cubicBezTo>
                  <a:pt x="1303" y="12558"/>
                  <a:pt x="1303" y="12675"/>
                  <a:pt x="1265" y="12725"/>
                </a:cubicBezTo>
                <a:cubicBezTo>
                  <a:pt x="1231" y="12768"/>
                  <a:pt x="1195" y="12788"/>
                  <a:pt x="1191" y="12824"/>
                </a:cubicBezTo>
                <a:cubicBezTo>
                  <a:pt x="1184" y="12879"/>
                  <a:pt x="1264" y="12874"/>
                  <a:pt x="1215" y="12874"/>
                </a:cubicBezTo>
                <a:cubicBezTo>
                  <a:pt x="1207" y="12874"/>
                  <a:pt x="1199" y="12874"/>
                  <a:pt x="1191" y="12874"/>
                </a:cubicBezTo>
              </a:path>
              <a:path w="22499" h="5855">
                <a:moveTo>
                  <a:pt x="1761" y="14511"/>
                </a:moveTo>
                <a:lnTo>
                  <a:pt x="1761" y="14511"/>
                </a:lnTo>
              </a:path>
              <a:path w="22499" h="5855">
                <a:moveTo>
                  <a:pt x="1439" y="13494"/>
                </a:moveTo>
                <a:cubicBezTo>
                  <a:pt x="1455" y="13494"/>
                  <a:pt x="1472" y="13494"/>
                  <a:pt x="1488" y="13494"/>
                </a:cubicBezTo>
              </a:path>
              <a:path w="22499" h="5855">
                <a:moveTo>
                  <a:pt x="1588" y="13816"/>
                </a:moveTo>
                <a:cubicBezTo>
                  <a:pt x="1609" y="13831"/>
                  <a:pt x="1664" y="13875"/>
                  <a:pt x="1687" y="13891"/>
                </a:cubicBezTo>
                <a:cubicBezTo>
                  <a:pt x="1648" y="13829"/>
                  <a:pt x="1636" y="13799"/>
                  <a:pt x="1588" y="13742"/>
                </a:cubicBezTo>
                <a:cubicBezTo>
                  <a:pt x="1551" y="13698"/>
                  <a:pt x="1507" y="13714"/>
                  <a:pt x="1463" y="13692"/>
                </a:cubicBezTo>
                <a:cubicBezTo>
                  <a:pt x="1437" y="13679"/>
                  <a:pt x="1410" y="13642"/>
                  <a:pt x="1364" y="13618"/>
                </a:cubicBezTo>
                <a:cubicBezTo>
                  <a:pt x="1313" y="13591"/>
                  <a:pt x="1270" y="13571"/>
                  <a:pt x="1215" y="13568"/>
                </a:cubicBezTo>
                <a:cubicBezTo>
                  <a:pt x="1153" y="13564"/>
                  <a:pt x="1097" y="13572"/>
                  <a:pt x="1042" y="13593"/>
                </a:cubicBezTo>
                <a:cubicBezTo>
                  <a:pt x="984" y="13615"/>
                  <a:pt x="917" y="13655"/>
                  <a:pt x="868" y="13692"/>
                </a:cubicBezTo>
                <a:cubicBezTo>
                  <a:pt x="821" y="13727"/>
                  <a:pt x="785" y="13813"/>
                  <a:pt x="769" y="13866"/>
                </a:cubicBezTo>
                <a:cubicBezTo>
                  <a:pt x="732" y="13988"/>
                  <a:pt x="694" y="14134"/>
                  <a:pt x="719" y="14263"/>
                </a:cubicBezTo>
                <a:cubicBezTo>
                  <a:pt x="739" y="14364"/>
                  <a:pt x="797" y="14467"/>
                  <a:pt x="843" y="14560"/>
                </a:cubicBezTo>
                <a:cubicBezTo>
                  <a:pt x="886" y="14647"/>
                  <a:pt x="995" y="14697"/>
                  <a:pt x="1091" y="14709"/>
                </a:cubicBezTo>
                <a:cubicBezTo>
                  <a:pt x="1234" y="14727"/>
                  <a:pt x="1299" y="14649"/>
                  <a:pt x="1414" y="14585"/>
                </a:cubicBezTo>
                <a:cubicBezTo>
                  <a:pt x="1538" y="14516"/>
                  <a:pt x="1593" y="14438"/>
                  <a:pt x="1687" y="14337"/>
                </a:cubicBezTo>
                <a:cubicBezTo>
                  <a:pt x="1729" y="14292"/>
                  <a:pt x="1734" y="14235"/>
                  <a:pt x="1761" y="14188"/>
                </a:cubicBezTo>
                <a:cubicBezTo>
                  <a:pt x="1808" y="14104"/>
                  <a:pt x="1729" y="14009"/>
                  <a:pt x="1712" y="13915"/>
                </a:cubicBezTo>
                <a:cubicBezTo>
                  <a:pt x="1701" y="13855"/>
                  <a:pt x="1684" y="13837"/>
                  <a:pt x="1637" y="13791"/>
                </a:cubicBezTo>
                <a:cubicBezTo>
                  <a:pt x="1615" y="13769"/>
                  <a:pt x="1610" y="13761"/>
                  <a:pt x="1588" y="13767"/>
                </a:cubicBezTo>
              </a:path>
              <a:path w="22499" h="5855">
                <a:moveTo>
                  <a:pt x="397" y="15280"/>
                </a:moveTo>
                <a:cubicBezTo>
                  <a:pt x="343" y="15262"/>
                  <a:pt x="406" y="15210"/>
                  <a:pt x="422" y="15205"/>
                </a:cubicBezTo>
                <a:cubicBezTo>
                  <a:pt x="438" y="15205"/>
                  <a:pt x="455" y="15205"/>
                  <a:pt x="471" y="15205"/>
                </a:cubicBezTo>
                <a:cubicBezTo>
                  <a:pt x="526" y="15328"/>
                  <a:pt x="536" y="15382"/>
                  <a:pt x="422" y="15478"/>
                </a:cubicBezTo>
                <a:cubicBezTo>
                  <a:pt x="381" y="15498"/>
                  <a:pt x="365" y="15517"/>
                  <a:pt x="372" y="15478"/>
                </a:cubicBezTo>
                <a:cubicBezTo>
                  <a:pt x="505" y="15489"/>
                  <a:pt x="505" y="15493"/>
                  <a:pt x="571" y="15602"/>
                </a:cubicBezTo>
                <a:cubicBezTo>
                  <a:pt x="494" y="15704"/>
                  <a:pt x="428" y="15729"/>
                  <a:pt x="298" y="15677"/>
                </a:cubicBezTo>
                <a:cubicBezTo>
                  <a:pt x="247" y="15657"/>
                  <a:pt x="293" y="15642"/>
                  <a:pt x="248" y="15627"/>
                </a:cubicBezTo>
              </a:path>
              <a:path w="22499" h="5855">
                <a:moveTo>
                  <a:pt x="967" y="15007"/>
                </a:moveTo>
                <a:cubicBezTo>
                  <a:pt x="901" y="15007"/>
                  <a:pt x="877" y="15050"/>
                  <a:pt x="843" y="15106"/>
                </a:cubicBezTo>
                <a:cubicBezTo>
                  <a:pt x="759" y="15243"/>
                  <a:pt x="711" y="15302"/>
                  <a:pt x="695" y="15478"/>
                </a:cubicBezTo>
                <a:cubicBezTo>
                  <a:pt x="684" y="15600"/>
                  <a:pt x="697" y="15744"/>
                  <a:pt x="819" y="15801"/>
                </a:cubicBezTo>
                <a:cubicBezTo>
                  <a:pt x="857" y="15819"/>
                  <a:pt x="843" y="15837"/>
                  <a:pt x="893" y="15801"/>
                </a:cubicBezTo>
              </a:path>
              <a:path w="22499" h="5855">
                <a:moveTo>
                  <a:pt x="1091" y="15329"/>
                </a:moveTo>
                <a:cubicBezTo>
                  <a:pt x="1073" y="15238"/>
                  <a:pt x="1074" y="15261"/>
                  <a:pt x="1017" y="15230"/>
                </a:cubicBezTo>
                <a:cubicBezTo>
                  <a:pt x="958" y="15198"/>
                  <a:pt x="905" y="15217"/>
                  <a:pt x="893" y="15280"/>
                </a:cubicBezTo>
                <a:cubicBezTo>
                  <a:pt x="871" y="15397"/>
                  <a:pt x="945" y="15360"/>
                  <a:pt x="1017" y="15429"/>
                </a:cubicBezTo>
                <a:cubicBezTo>
                  <a:pt x="1081" y="15490"/>
                  <a:pt x="1098" y="15567"/>
                  <a:pt x="1017" y="15602"/>
                </a:cubicBezTo>
                <a:cubicBezTo>
                  <a:pt x="962" y="15626"/>
                  <a:pt x="944" y="15627"/>
                  <a:pt x="893" y="15627"/>
                </a:cubicBezTo>
                <a:cubicBezTo>
                  <a:pt x="904" y="15492"/>
                  <a:pt x="943" y="15486"/>
                  <a:pt x="1017" y="15379"/>
                </a:cubicBezTo>
                <a:cubicBezTo>
                  <a:pt x="1048" y="15334"/>
                  <a:pt x="1067" y="15307"/>
                  <a:pt x="1067" y="15255"/>
                </a:cubicBezTo>
              </a:path>
              <a:path w="22499" h="5855">
                <a:moveTo>
                  <a:pt x="1141" y="14932"/>
                </a:moveTo>
                <a:cubicBezTo>
                  <a:pt x="1205" y="14932"/>
                  <a:pt x="1289" y="14996"/>
                  <a:pt x="1315" y="15056"/>
                </a:cubicBezTo>
                <a:cubicBezTo>
                  <a:pt x="1383" y="15210"/>
                  <a:pt x="1340" y="15412"/>
                  <a:pt x="1265" y="15553"/>
                </a:cubicBezTo>
                <a:cubicBezTo>
                  <a:pt x="1222" y="15634"/>
                  <a:pt x="1206" y="15622"/>
                  <a:pt x="1166" y="15652"/>
                </a:cubicBezTo>
                <a:cubicBezTo>
                  <a:pt x="1158" y="15660"/>
                  <a:pt x="1149" y="15669"/>
                  <a:pt x="1141" y="15677"/>
                </a:cubicBezTo>
              </a:path>
              <a:path w="22499" h="5855">
                <a:moveTo>
                  <a:pt x="1389" y="15379"/>
                </a:moveTo>
                <a:cubicBezTo>
                  <a:pt x="1463" y="15379"/>
                  <a:pt x="1538" y="15379"/>
                  <a:pt x="1612" y="15379"/>
                </a:cubicBezTo>
              </a:path>
              <a:path w="22499" h="5855">
                <a:moveTo>
                  <a:pt x="1910" y="15056"/>
                </a:moveTo>
                <a:cubicBezTo>
                  <a:pt x="1967" y="15038"/>
                  <a:pt x="1928" y="15235"/>
                  <a:pt x="1935" y="15304"/>
                </a:cubicBezTo>
                <a:cubicBezTo>
                  <a:pt x="1957" y="15413"/>
                  <a:pt x="1970" y="15439"/>
                  <a:pt x="1935" y="15503"/>
                </a:cubicBezTo>
              </a:path>
              <a:path w="22499" h="5855">
                <a:moveTo>
                  <a:pt x="595" y="15850"/>
                </a:moveTo>
                <a:cubicBezTo>
                  <a:pt x="603" y="15842"/>
                  <a:pt x="612" y="15833"/>
                  <a:pt x="620" y="15825"/>
                </a:cubicBezTo>
                <a:cubicBezTo>
                  <a:pt x="620" y="15874"/>
                  <a:pt x="589" y="16009"/>
                  <a:pt x="645" y="15999"/>
                </a:cubicBezTo>
                <a:cubicBezTo>
                  <a:pt x="789" y="15974"/>
                  <a:pt x="874" y="15947"/>
                  <a:pt x="1017" y="15974"/>
                </a:cubicBezTo>
                <a:cubicBezTo>
                  <a:pt x="1071" y="15984"/>
                  <a:pt x="1042" y="15804"/>
                  <a:pt x="1042" y="15776"/>
                </a:cubicBezTo>
              </a:path>
              <a:path w="22499" h="5855">
                <a:moveTo>
                  <a:pt x="645" y="15900"/>
                </a:moveTo>
                <a:cubicBezTo>
                  <a:pt x="637" y="15900"/>
                  <a:pt x="628" y="15900"/>
                  <a:pt x="620" y="15900"/>
                </a:cubicBezTo>
                <a:cubicBezTo>
                  <a:pt x="620" y="15959"/>
                  <a:pt x="606" y="15994"/>
                  <a:pt x="595" y="16049"/>
                </a:cubicBezTo>
              </a:path>
              <a:path w="22499" h="5855">
                <a:moveTo>
                  <a:pt x="670" y="16222"/>
                </a:moveTo>
                <a:cubicBezTo>
                  <a:pt x="670" y="16167"/>
                  <a:pt x="684" y="16159"/>
                  <a:pt x="744" y="16173"/>
                </a:cubicBezTo>
                <a:cubicBezTo>
                  <a:pt x="917" y="16215"/>
                  <a:pt x="877" y="16390"/>
                  <a:pt x="769" y="16495"/>
                </a:cubicBezTo>
                <a:cubicBezTo>
                  <a:pt x="615" y="16645"/>
                  <a:pt x="520" y="16568"/>
                  <a:pt x="446" y="16421"/>
                </a:cubicBezTo>
                <a:cubicBezTo>
                  <a:pt x="533" y="16334"/>
                  <a:pt x="566" y="16358"/>
                  <a:pt x="670" y="16396"/>
                </a:cubicBezTo>
                <a:cubicBezTo>
                  <a:pt x="730" y="16418"/>
                  <a:pt x="767" y="16450"/>
                  <a:pt x="819" y="16470"/>
                </a:cubicBezTo>
              </a:path>
              <a:path w="22499" h="5855">
                <a:moveTo>
                  <a:pt x="967" y="16123"/>
                </a:moveTo>
                <a:cubicBezTo>
                  <a:pt x="958" y="16204"/>
                  <a:pt x="933" y="16292"/>
                  <a:pt x="967" y="16371"/>
                </a:cubicBezTo>
                <a:cubicBezTo>
                  <a:pt x="985" y="16414"/>
                  <a:pt x="1150" y="16418"/>
                  <a:pt x="1166" y="16371"/>
                </a:cubicBezTo>
                <a:cubicBezTo>
                  <a:pt x="1166" y="16346"/>
                  <a:pt x="1166" y="16322"/>
                  <a:pt x="1166" y="16297"/>
                </a:cubicBezTo>
              </a:path>
              <a:path w="22499" h="5855">
                <a:moveTo>
                  <a:pt x="1141" y="16098"/>
                </a:moveTo>
                <a:cubicBezTo>
                  <a:pt x="1141" y="16021"/>
                  <a:pt x="1118" y="16195"/>
                  <a:pt x="1116" y="16272"/>
                </a:cubicBezTo>
                <a:cubicBezTo>
                  <a:pt x="1114" y="16330"/>
                  <a:pt x="1116" y="16388"/>
                  <a:pt x="1116" y="16446"/>
                </a:cubicBezTo>
              </a:path>
              <a:path w="22499" h="5855">
                <a:moveTo>
                  <a:pt x="1389" y="16272"/>
                </a:moveTo>
                <a:cubicBezTo>
                  <a:pt x="1424" y="16272"/>
                  <a:pt x="1423" y="16277"/>
                  <a:pt x="1364" y="16297"/>
                </a:cubicBezTo>
              </a:path>
              <a:path w="22499" h="5855">
                <a:moveTo>
                  <a:pt x="1538" y="15949"/>
                </a:moveTo>
                <a:cubicBezTo>
                  <a:pt x="1538" y="16043"/>
                  <a:pt x="1560" y="16128"/>
                  <a:pt x="1563" y="16222"/>
                </a:cubicBezTo>
                <a:cubicBezTo>
                  <a:pt x="1565" y="16300"/>
                  <a:pt x="1586" y="16330"/>
                  <a:pt x="1538" y="16346"/>
                </a:cubicBezTo>
              </a:path>
              <a:path w="22499" h="5855">
                <a:moveTo>
                  <a:pt x="1191" y="17016"/>
                </a:moveTo>
                <a:cubicBezTo>
                  <a:pt x="1183" y="17016"/>
                  <a:pt x="1174" y="17016"/>
                  <a:pt x="1166" y="17016"/>
                </a:cubicBezTo>
                <a:cubicBezTo>
                  <a:pt x="1192" y="16913"/>
                  <a:pt x="1294" y="17017"/>
                  <a:pt x="1290" y="17090"/>
                </a:cubicBezTo>
                <a:cubicBezTo>
                  <a:pt x="1284" y="17194"/>
                  <a:pt x="1113" y="17378"/>
                  <a:pt x="992" y="17314"/>
                </a:cubicBezTo>
                <a:cubicBezTo>
                  <a:pt x="984" y="17297"/>
                  <a:pt x="975" y="17281"/>
                  <a:pt x="967" y="17264"/>
                </a:cubicBezTo>
                <a:cubicBezTo>
                  <a:pt x="967" y="17170"/>
                  <a:pt x="1088" y="17174"/>
                  <a:pt x="1166" y="17190"/>
                </a:cubicBezTo>
                <a:cubicBezTo>
                  <a:pt x="1277" y="17213"/>
                  <a:pt x="1308" y="17254"/>
                  <a:pt x="1414" y="17264"/>
                </a:cubicBezTo>
              </a:path>
              <a:path w="22499" h="5855">
                <a:moveTo>
                  <a:pt x="1290" y="16842"/>
                </a:moveTo>
                <a:cubicBezTo>
                  <a:pt x="1346" y="16842"/>
                  <a:pt x="1391" y="16797"/>
                  <a:pt x="1439" y="16842"/>
                </a:cubicBezTo>
                <a:cubicBezTo>
                  <a:pt x="1527" y="16924"/>
                  <a:pt x="1384" y="17000"/>
                  <a:pt x="1339" y="17041"/>
                </a:cubicBezTo>
                <a:cubicBezTo>
                  <a:pt x="1339" y="17049"/>
                  <a:pt x="1339" y="17058"/>
                  <a:pt x="1339" y="17066"/>
                </a:cubicBezTo>
                <a:cubicBezTo>
                  <a:pt x="1409" y="17024"/>
                  <a:pt x="1530" y="17023"/>
                  <a:pt x="1538" y="17140"/>
                </a:cubicBezTo>
                <a:cubicBezTo>
                  <a:pt x="1544" y="17236"/>
                  <a:pt x="1374" y="17391"/>
                  <a:pt x="1290" y="17289"/>
                </a:cubicBezTo>
                <a:cubicBezTo>
                  <a:pt x="1290" y="17272"/>
                  <a:pt x="1290" y="17256"/>
                  <a:pt x="1290" y="17239"/>
                </a:cubicBezTo>
              </a:path>
              <a:path w="22499" h="5855">
                <a:moveTo>
                  <a:pt x="1191" y="17587"/>
                </a:moveTo>
                <a:cubicBezTo>
                  <a:pt x="1289" y="17595"/>
                  <a:pt x="1402" y="17642"/>
                  <a:pt x="1488" y="17587"/>
                </a:cubicBezTo>
                <a:cubicBezTo>
                  <a:pt x="1640" y="17490"/>
                  <a:pt x="1788" y="17326"/>
                  <a:pt x="1811" y="17140"/>
                </a:cubicBezTo>
                <a:cubicBezTo>
                  <a:pt x="1830" y="16982"/>
                  <a:pt x="1756" y="16852"/>
                  <a:pt x="1612" y="16793"/>
                </a:cubicBezTo>
                <a:cubicBezTo>
                  <a:pt x="1530" y="16759"/>
                  <a:pt x="1378" y="16714"/>
                  <a:pt x="1290" y="16718"/>
                </a:cubicBezTo>
                <a:cubicBezTo>
                  <a:pt x="1238" y="16720"/>
                  <a:pt x="1155" y="16726"/>
                  <a:pt x="1091" y="16743"/>
                </a:cubicBezTo>
                <a:cubicBezTo>
                  <a:pt x="966" y="16776"/>
                  <a:pt x="898" y="16895"/>
                  <a:pt x="868" y="17016"/>
                </a:cubicBezTo>
                <a:cubicBezTo>
                  <a:pt x="832" y="17162"/>
                  <a:pt x="818" y="17482"/>
                  <a:pt x="992" y="17562"/>
                </a:cubicBezTo>
                <a:cubicBezTo>
                  <a:pt x="1169" y="17644"/>
                  <a:pt x="1339" y="17550"/>
                  <a:pt x="1463" y="17487"/>
                </a:cubicBezTo>
              </a:path>
              <a:path w="22499" h="5855">
                <a:moveTo>
                  <a:pt x="6921" y="14858"/>
                </a:moveTo>
                <a:cubicBezTo>
                  <a:pt x="6907" y="14971"/>
                  <a:pt x="6836" y="15081"/>
                  <a:pt x="6821" y="15180"/>
                </a:cubicBezTo>
                <a:cubicBezTo>
                  <a:pt x="6829" y="15180"/>
                  <a:pt x="6838" y="15180"/>
                  <a:pt x="6846" y="15180"/>
                </a:cubicBezTo>
              </a:path>
              <a:path w="22499" h="5855">
                <a:moveTo>
                  <a:pt x="7218" y="14709"/>
                </a:moveTo>
                <a:cubicBezTo>
                  <a:pt x="7391" y="14802"/>
                  <a:pt x="7444" y="14920"/>
                  <a:pt x="7367" y="15131"/>
                </a:cubicBezTo>
                <a:cubicBezTo>
                  <a:pt x="7340" y="15204"/>
                  <a:pt x="7306" y="15217"/>
                  <a:pt x="7243" y="15230"/>
                </a:cubicBezTo>
              </a:path>
              <a:path w="22499" h="5855">
                <a:moveTo>
                  <a:pt x="5631" y="13767"/>
                </a:moveTo>
                <a:lnTo>
                  <a:pt x="5631" y="13767"/>
                </a:lnTo>
              </a:path>
              <a:path w="22499" h="5855">
                <a:moveTo>
                  <a:pt x="14635" y="11757"/>
                </a:moveTo>
                <a:cubicBezTo>
                  <a:pt x="14729" y="11904"/>
                  <a:pt x="14822" y="12021"/>
                  <a:pt x="14759" y="12204"/>
                </a:cubicBezTo>
                <a:cubicBezTo>
                  <a:pt x="14715" y="12269"/>
                  <a:pt x="14709" y="12288"/>
                  <a:pt x="14660" y="12303"/>
                </a:cubicBezTo>
              </a:path>
              <a:path w="22499" h="5855">
                <a:moveTo>
                  <a:pt x="15032" y="12080"/>
                </a:moveTo>
                <a:cubicBezTo>
                  <a:pt x="15032" y="12072"/>
                  <a:pt x="15032" y="12063"/>
                  <a:pt x="15032" y="12055"/>
                </a:cubicBezTo>
              </a:path>
              <a:path w="22499" h="5855">
                <a:moveTo>
                  <a:pt x="14486" y="12725"/>
                </a:moveTo>
                <a:cubicBezTo>
                  <a:pt x="14500" y="12836"/>
                  <a:pt x="14523" y="12943"/>
                  <a:pt x="14560" y="13047"/>
                </a:cubicBezTo>
              </a:path>
              <a:path w="22499" h="5855">
                <a:moveTo>
                  <a:pt x="22423" y="12948"/>
                </a:moveTo>
                <a:cubicBezTo>
                  <a:pt x="22499" y="12915"/>
                  <a:pt x="22605" y="12907"/>
                  <a:pt x="22696" y="12898"/>
                </a:cubicBezTo>
              </a:path>
              <a:path w="22499" h="5855">
                <a:moveTo>
                  <a:pt x="22498" y="13072"/>
                </a:moveTo>
                <a:cubicBezTo>
                  <a:pt x="22585" y="13052"/>
                  <a:pt x="22664" y="13034"/>
                  <a:pt x="22746" y="13022"/>
                </a:cubicBezTo>
              </a:path>
              <a:path w="22499" h="5855">
                <a:moveTo>
                  <a:pt x="14982" y="14387"/>
                </a:moveTo>
                <a:lnTo>
                  <a:pt x="14982" y="14387"/>
                </a:lnTo>
              </a:path>
              <a:path w="22499" h="5855">
                <a:moveTo>
                  <a:pt x="16197" y="13246"/>
                </a:moveTo>
                <a:cubicBezTo>
                  <a:pt x="16189" y="13246"/>
                  <a:pt x="16181" y="13246"/>
                  <a:pt x="16173" y="13246"/>
                </a:cubicBezTo>
              </a:path>
              <a:path w="22499" h="5855">
                <a:moveTo>
                  <a:pt x="15652" y="12353"/>
                </a:moveTo>
                <a:cubicBezTo>
                  <a:pt x="15703" y="12353"/>
                  <a:pt x="15722" y="12352"/>
                  <a:pt x="15751" y="12328"/>
                </a:cubicBezTo>
              </a:path>
              <a:path w="22499" h="5855">
                <a:moveTo>
                  <a:pt x="21555" y="13667"/>
                </a:moveTo>
                <a:cubicBezTo>
                  <a:pt x="21560" y="13743"/>
                  <a:pt x="21568" y="13794"/>
                  <a:pt x="21580" y="13866"/>
                </a:cubicBezTo>
              </a:path>
              <a:path w="22499" h="5855">
                <a:moveTo>
                  <a:pt x="21332" y="14436"/>
                </a:moveTo>
                <a:cubicBezTo>
                  <a:pt x="21433" y="14406"/>
                  <a:pt x="21535" y="14394"/>
                  <a:pt x="21630" y="14362"/>
                </a:cubicBezTo>
              </a:path>
              <a:path w="22499" h="5855">
                <a:moveTo>
                  <a:pt x="22250" y="14312"/>
                </a:moveTo>
                <a:lnTo>
                  <a:pt x="22250" y="14312"/>
                </a:lnTo>
              </a:path>
              <a:path w="22499" h="5855">
                <a:moveTo>
                  <a:pt x="21282" y="14709"/>
                </a:moveTo>
                <a:cubicBezTo>
                  <a:pt x="21420" y="14814"/>
                  <a:pt x="21614" y="14900"/>
                  <a:pt x="21530" y="15106"/>
                </a:cubicBezTo>
                <a:cubicBezTo>
                  <a:pt x="21460" y="15200"/>
                  <a:pt x="21439" y="15229"/>
                  <a:pt x="21382" y="15280"/>
                </a:cubicBezTo>
              </a:path>
              <a:path w="22499" h="5855">
                <a:moveTo>
                  <a:pt x="21605" y="15032"/>
                </a:moveTo>
                <a:cubicBezTo>
                  <a:pt x="21695" y="15022"/>
                  <a:pt x="21743" y="14997"/>
                  <a:pt x="21828" y="14957"/>
                </a:cubicBezTo>
              </a:path>
              <a:path w="22499" h="5855">
                <a:moveTo>
                  <a:pt x="21357" y="15453"/>
                </a:moveTo>
                <a:cubicBezTo>
                  <a:pt x="21407" y="15510"/>
                  <a:pt x="21444" y="15561"/>
                  <a:pt x="21481" y="15627"/>
                </a:cubicBezTo>
              </a:path>
              <a:path w="22499" h="5855">
                <a:moveTo>
                  <a:pt x="21332" y="15577"/>
                </a:moveTo>
                <a:cubicBezTo>
                  <a:pt x="21408" y="15560"/>
                  <a:pt x="21476" y="15529"/>
                  <a:pt x="21555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59000" y="4929120"/>
            <a:ext cx="625320" cy="571680"/>
          </a:xfrm>
          <a:custGeom>
            <a:avLst/>
            <a:gdLst/>
            <a:ahLst/>
            <a:rect l="l" t="t" r="r" b="b"/>
            <a:pathLst>
              <a:path w="1737" h="1589">
                <a:moveTo>
                  <a:pt x="7243" y="13891"/>
                </a:moveTo>
                <a:cubicBezTo>
                  <a:pt x="7196" y="13891"/>
                  <a:pt x="7189" y="13886"/>
                  <a:pt x="7169" y="13915"/>
                </a:cubicBezTo>
                <a:cubicBezTo>
                  <a:pt x="7179" y="13873"/>
                  <a:pt x="7296" y="13754"/>
                  <a:pt x="7342" y="13816"/>
                </a:cubicBezTo>
                <a:cubicBezTo>
                  <a:pt x="7511" y="14044"/>
                  <a:pt x="7186" y="14217"/>
                  <a:pt x="7020" y="14263"/>
                </a:cubicBezTo>
                <a:cubicBezTo>
                  <a:pt x="6987" y="14263"/>
                  <a:pt x="6954" y="14263"/>
                  <a:pt x="6921" y="14263"/>
                </a:cubicBezTo>
                <a:cubicBezTo>
                  <a:pt x="6956" y="14156"/>
                  <a:pt x="7036" y="14051"/>
                  <a:pt x="7169" y="14064"/>
                </a:cubicBezTo>
                <a:cubicBezTo>
                  <a:pt x="7295" y="14076"/>
                  <a:pt x="7354" y="14173"/>
                  <a:pt x="7417" y="14263"/>
                </a:cubicBezTo>
              </a:path>
              <a:path w="1737" h="1589">
                <a:moveTo>
                  <a:pt x="7764" y="13767"/>
                </a:moveTo>
                <a:cubicBezTo>
                  <a:pt x="7858" y="13719"/>
                  <a:pt x="7910" y="13705"/>
                  <a:pt x="8012" y="13692"/>
                </a:cubicBezTo>
                <a:cubicBezTo>
                  <a:pt x="7990" y="13867"/>
                  <a:pt x="7912" y="13919"/>
                  <a:pt x="7739" y="13965"/>
                </a:cubicBezTo>
                <a:cubicBezTo>
                  <a:pt x="7769" y="13935"/>
                  <a:pt x="7783" y="13924"/>
                  <a:pt x="7813" y="13915"/>
                </a:cubicBezTo>
                <a:cubicBezTo>
                  <a:pt x="7976" y="13942"/>
                  <a:pt x="8166" y="14100"/>
                  <a:pt x="7913" y="14238"/>
                </a:cubicBezTo>
                <a:cubicBezTo>
                  <a:pt x="7807" y="14296"/>
                  <a:pt x="7665" y="14206"/>
                  <a:pt x="7665" y="14213"/>
                </a:cubicBezTo>
              </a:path>
              <a:path w="1737" h="1589">
                <a:moveTo>
                  <a:pt x="6350" y="14833"/>
                </a:moveTo>
                <a:cubicBezTo>
                  <a:pt x="6360" y="14804"/>
                  <a:pt x="6425" y="14756"/>
                  <a:pt x="6474" y="14759"/>
                </a:cubicBezTo>
                <a:cubicBezTo>
                  <a:pt x="6482" y="14767"/>
                  <a:pt x="6491" y="14776"/>
                  <a:pt x="6499" y="14784"/>
                </a:cubicBezTo>
                <a:cubicBezTo>
                  <a:pt x="6530" y="14875"/>
                  <a:pt x="6482" y="14906"/>
                  <a:pt x="6400" y="14957"/>
                </a:cubicBezTo>
                <a:cubicBezTo>
                  <a:pt x="6463" y="14957"/>
                  <a:pt x="6532" y="14948"/>
                  <a:pt x="6524" y="15032"/>
                </a:cubicBezTo>
                <a:cubicBezTo>
                  <a:pt x="6517" y="15104"/>
                  <a:pt x="6339" y="15213"/>
                  <a:pt x="6276" y="15156"/>
                </a:cubicBezTo>
                <a:cubicBezTo>
                  <a:pt x="6276" y="15139"/>
                  <a:pt x="6276" y="15123"/>
                  <a:pt x="6276" y="15106"/>
                </a:cubicBezTo>
              </a:path>
              <a:path w="1737" h="1589">
                <a:moveTo>
                  <a:pt x="6846" y="14709"/>
                </a:moveTo>
                <a:cubicBezTo>
                  <a:pt x="6740" y="14791"/>
                  <a:pt x="6651" y="14916"/>
                  <a:pt x="6623" y="15056"/>
                </a:cubicBezTo>
                <a:cubicBezTo>
                  <a:pt x="6591" y="15213"/>
                  <a:pt x="6688" y="15184"/>
                  <a:pt x="6747" y="15255"/>
                </a:cubicBezTo>
                <a:cubicBezTo>
                  <a:pt x="6747" y="15280"/>
                  <a:pt x="6747" y="15288"/>
                  <a:pt x="6772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30840" y="4259160"/>
            <a:ext cx="1108080" cy="1474920"/>
          </a:xfrm>
          <a:custGeom>
            <a:avLst/>
            <a:gdLst/>
            <a:ahLst/>
            <a:rect l="l" t="t" r="r" b="b"/>
            <a:pathLst>
              <a:path w="3077" h="4094">
                <a:moveTo>
                  <a:pt x="13717" y="11857"/>
                </a:moveTo>
                <a:cubicBezTo>
                  <a:pt x="13748" y="11872"/>
                  <a:pt x="13660" y="11974"/>
                  <a:pt x="13643" y="12030"/>
                </a:cubicBezTo>
                <a:cubicBezTo>
                  <a:pt x="13606" y="12150"/>
                  <a:pt x="13616" y="12260"/>
                  <a:pt x="13717" y="12303"/>
                </a:cubicBezTo>
              </a:path>
              <a:path w="3077" h="4094">
                <a:moveTo>
                  <a:pt x="13891" y="11906"/>
                </a:moveTo>
                <a:cubicBezTo>
                  <a:pt x="13937" y="11906"/>
                  <a:pt x="14097" y="11868"/>
                  <a:pt x="14064" y="11956"/>
                </a:cubicBezTo>
                <a:cubicBezTo>
                  <a:pt x="14008" y="12040"/>
                  <a:pt x="13982" y="12072"/>
                  <a:pt x="13915" y="12105"/>
                </a:cubicBezTo>
                <a:cubicBezTo>
                  <a:pt x="13907" y="12113"/>
                  <a:pt x="13899" y="12121"/>
                  <a:pt x="13891" y="12129"/>
                </a:cubicBezTo>
                <a:cubicBezTo>
                  <a:pt x="13963" y="12129"/>
                  <a:pt x="14023" y="12115"/>
                  <a:pt x="14089" y="12105"/>
                </a:cubicBezTo>
                <a:cubicBezTo>
                  <a:pt x="14106" y="12105"/>
                  <a:pt x="14122" y="12105"/>
                  <a:pt x="14139" y="12105"/>
                </a:cubicBezTo>
              </a:path>
              <a:path w="3077" h="4094">
                <a:moveTo>
                  <a:pt x="14288" y="11931"/>
                </a:moveTo>
                <a:cubicBezTo>
                  <a:pt x="14288" y="12005"/>
                  <a:pt x="14288" y="12080"/>
                  <a:pt x="14288" y="12154"/>
                </a:cubicBezTo>
              </a:path>
              <a:path w="3077" h="4094">
                <a:moveTo>
                  <a:pt x="14461" y="11881"/>
                </a:moveTo>
                <a:cubicBezTo>
                  <a:pt x="14510" y="11846"/>
                  <a:pt x="14510" y="11857"/>
                  <a:pt x="14585" y="11857"/>
                </a:cubicBezTo>
                <a:cubicBezTo>
                  <a:pt x="14572" y="11988"/>
                  <a:pt x="14505" y="12025"/>
                  <a:pt x="14461" y="12129"/>
                </a:cubicBezTo>
                <a:cubicBezTo>
                  <a:pt x="14461" y="12146"/>
                  <a:pt x="14461" y="12162"/>
                  <a:pt x="14461" y="12179"/>
                </a:cubicBezTo>
                <a:cubicBezTo>
                  <a:pt x="14540" y="12179"/>
                  <a:pt x="14594" y="12170"/>
                  <a:pt x="14660" y="12154"/>
                </a:cubicBezTo>
              </a:path>
              <a:path w="3077" h="4094">
                <a:moveTo>
                  <a:pt x="15354" y="11881"/>
                </a:moveTo>
                <a:cubicBezTo>
                  <a:pt x="15368" y="11842"/>
                  <a:pt x="15390" y="11851"/>
                  <a:pt x="15453" y="11832"/>
                </a:cubicBezTo>
                <a:cubicBezTo>
                  <a:pt x="15465" y="11933"/>
                  <a:pt x="15435" y="11942"/>
                  <a:pt x="15354" y="12005"/>
                </a:cubicBezTo>
                <a:cubicBezTo>
                  <a:pt x="15411" y="11991"/>
                  <a:pt x="15453" y="11968"/>
                  <a:pt x="15478" y="12055"/>
                </a:cubicBezTo>
                <a:cubicBezTo>
                  <a:pt x="15496" y="12116"/>
                  <a:pt x="15430" y="12173"/>
                  <a:pt x="15379" y="12179"/>
                </a:cubicBezTo>
                <a:cubicBezTo>
                  <a:pt x="15371" y="12179"/>
                  <a:pt x="15362" y="12179"/>
                  <a:pt x="15354" y="12179"/>
                </a:cubicBezTo>
              </a:path>
              <a:path w="3077" h="4094">
                <a:moveTo>
                  <a:pt x="15081" y="12030"/>
                </a:moveTo>
                <a:cubicBezTo>
                  <a:pt x="15106" y="12030"/>
                  <a:pt x="15114" y="12030"/>
                  <a:pt x="15106" y="12005"/>
                </a:cubicBezTo>
                <a:cubicBezTo>
                  <a:pt x="15062" y="12020"/>
                  <a:pt x="15091" y="12049"/>
                  <a:pt x="15106" y="12005"/>
                </a:cubicBezTo>
                <a:cubicBezTo>
                  <a:pt x="15099" y="12007"/>
                  <a:pt x="15036" y="12040"/>
                  <a:pt x="15056" y="12055"/>
                </a:cubicBezTo>
                <a:cubicBezTo>
                  <a:pt x="15064" y="12055"/>
                  <a:pt x="15073" y="12055"/>
                  <a:pt x="15081" y="12055"/>
                </a:cubicBezTo>
              </a:path>
              <a:path w="3077" h="4094">
                <a:moveTo>
                  <a:pt x="14064" y="12353"/>
                </a:moveTo>
                <a:cubicBezTo>
                  <a:pt x="14064" y="12381"/>
                  <a:pt x="14062" y="12392"/>
                  <a:pt x="14039" y="12402"/>
                </a:cubicBezTo>
                <a:cubicBezTo>
                  <a:pt x="14135" y="12392"/>
                  <a:pt x="14187" y="12366"/>
                  <a:pt x="14263" y="12303"/>
                </a:cubicBezTo>
              </a:path>
              <a:path w="3077" h="4094">
                <a:moveTo>
                  <a:pt x="14238" y="12229"/>
                </a:moveTo>
                <a:cubicBezTo>
                  <a:pt x="14223" y="12302"/>
                  <a:pt x="14211" y="12446"/>
                  <a:pt x="14238" y="12526"/>
                </a:cubicBezTo>
                <a:cubicBezTo>
                  <a:pt x="14261" y="12549"/>
                  <a:pt x="14269" y="12553"/>
                  <a:pt x="14263" y="12576"/>
                </a:cubicBezTo>
              </a:path>
              <a:path w="3077" h="4094">
                <a:moveTo>
                  <a:pt x="14734" y="12502"/>
                </a:moveTo>
                <a:cubicBezTo>
                  <a:pt x="14771" y="12502"/>
                  <a:pt x="14745" y="12494"/>
                  <a:pt x="14734" y="12526"/>
                </a:cubicBezTo>
              </a:path>
              <a:path w="3077" h="4094">
                <a:moveTo>
                  <a:pt x="15081" y="12303"/>
                </a:moveTo>
                <a:cubicBezTo>
                  <a:pt x="15073" y="12303"/>
                  <a:pt x="15064" y="12303"/>
                  <a:pt x="15056" y="12303"/>
                </a:cubicBezTo>
                <a:cubicBezTo>
                  <a:pt x="15067" y="12260"/>
                  <a:pt x="15123" y="12200"/>
                  <a:pt x="15180" y="12229"/>
                </a:cubicBezTo>
                <a:cubicBezTo>
                  <a:pt x="15207" y="12243"/>
                  <a:pt x="15164" y="12315"/>
                  <a:pt x="15156" y="12328"/>
                </a:cubicBezTo>
                <a:cubicBezTo>
                  <a:pt x="15176" y="12328"/>
                  <a:pt x="15291" y="12322"/>
                  <a:pt x="15255" y="12378"/>
                </a:cubicBezTo>
                <a:cubicBezTo>
                  <a:pt x="15213" y="12419"/>
                  <a:pt x="15205" y="12427"/>
                  <a:pt x="15180" y="12452"/>
                </a:cubicBezTo>
              </a:path>
              <a:path w="3077" h="4094">
                <a:moveTo>
                  <a:pt x="14759" y="12700"/>
                </a:moveTo>
                <a:cubicBezTo>
                  <a:pt x="14849" y="12691"/>
                  <a:pt x="15044" y="12632"/>
                  <a:pt x="15081" y="12774"/>
                </a:cubicBezTo>
                <a:cubicBezTo>
                  <a:pt x="15129" y="12957"/>
                  <a:pt x="14890" y="12985"/>
                  <a:pt x="14784" y="12998"/>
                </a:cubicBezTo>
                <a:cubicBezTo>
                  <a:pt x="14826" y="12890"/>
                  <a:pt x="14875" y="12901"/>
                  <a:pt x="14982" y="12923"/>
                </a:cubicBezTo>
                <a:cubicBezTo>
                  <a:pt x="15059" y="12939"/>
                  <a:pt x="15074" y="12959"/>
                  <a:pt x="15131" y="12973"/>
                </a:cubicBezTo>
              </a:path>
              <a:path w="3077" h="4094">
                <a:moveTo>
                  <a:pt x="14486" y="13122"/>
                </a:moveTo>
                <a:cubicBezTo>
                  <a:pt x="14591" y="13167"/>
                  <a:pt x="14670" y="13171"/>
                  <a:pt x="14784" y="13171"/>
                </a:cubicBezTo>
                <a:cubicBezTo>
                  <a:pt x="14915" y="13171"/>
                  <a:pt x="15054" y="13158"/>
                  <a:pt x="15180" y="13122"/>
                </a:cubicBezTo>
                <a:cubicBezTo>
                  <a:pt x="15259" y="13100"/>
                  <a:pt x="15312" y="13061"/>
                  <a:pt x="15379" y="13022"/>
                </a:cubicBezTo>
                <a:cubicBezTo>
                  <a:pt x="15446" y="12982"/>
                  <a:pt x="15450" y="12934"/>
                  <a:pt x="15453" y="12849"/>
                </a:cubicBezTo>
                <a:cubicBezTo>
                  <a:pt x="15455" y="12805"/>
                  <a:pt x="15437" y="12728"/>
                  <a:pt x="15404" y="12700"/>
                </a:cubicBezTo>
                <a:cubicBezTo>
                  <a:pt x="15352" y="12656"/>
                  <a:pt x="15273" y="12587"/>
                  <a:pt x="15205" y="12576"/>
                </a:cubicBezTo>
                <a:cubicBezTo>
                  <a:pt x="15061" y="12553"/>
                  <a:pt x="14895" y="12579"/>
                  <a:pt x="14759" y="12601"/>
                </a:cubicBezTo>
                <a:cubicBezTo>
                  <a:pt x="14684" y="12613"/>
                  <a:pt x="14610" y="12639"/>
                  <a:pt x="14536" y="12650"/>
                </a:cubicBezTo>
                <a:cubicBezTo>
                  <a:pt x="14482" y="12658"/>
                  <a:pt x="14432" y="12689"/>
                  <a:pt x="14387" y="12725"/>
                </a:cubicBezTo>
                <a:cubicBezTo>
                  <a:pt x="14362" y="12745"/>
                  <a:pt x="14300" y="12775"/>
                  <a:pt x="14288" y="12799"/>
                </a:cubicBezTo>
                <a:cubicBezTo>
                  <a:pt x="14241" y="12889"/>
                  <a:pt x="14259" y="12983"/>
                  <a:pt x="14288" y="13072"/>
                </a:cubicBezTo>
                <a:cubicBezTo>
                  <a:pt x="14327" y="13190"/>
                  <a:pt x="14419" y="13206"/>
                  <a:pt x="14536" y="13221"/>
                </a:cubicBezTo>
                <a:cubicBezTo>
                  <a:pt x="14568" y="13225"/>
                  <a:pt x="14602" y="13219"/>
                  <a:pt x="14635" y="13221"/>
                </a:cubicBezTo>
              </a:path>
              <a:path w="3077" h="4094">
                <a:moveTo>
                  <a:pt x="13543" y="13295"/>
                </a:moveTo>
                <a:cubicBezTo>
                  <a:pt x="13502" y="13442"/>
                  <a:pt x="13472" y="13567"/>
                  <a:pt x="13519" y="13717"/>
                </a:cubicBezTo>
                <a:cubicBezTo>
                  <a:pt x="13557" y="13840"/>
                  <a:pt x="13659" y="13763"/>
                  <a:pt x="13717" y="13717"/>
                </a:cubicBezTo>
              </a:path>
              <a:path w="3077" h="4094">
                <a:moveTo>
                  <a:pt x="13742" y="13469"/>
                </a:moveTo>
                <a:cubicBezTo>
                  <a:pt x="13723" y="13526"/>
                  <a:pt x="13714" y="13533"/>
                  <a:pt x="13717" y="13568"/>
                </a:cubicBezTo>
                <a:cubicBezTo>
                  <a:pt x="13774" y="13611"/>
                  <a:pt x="13842" y="13592"/>
                  <a:pt x="13915" y="13543"/>
                </a:cubicBezTo>
              </a:path>
              <a:path w="3077" h="4094">
                <a:moveTo>
                  <a:pt x="13915" y="13345"/>
                </a:moveTo>
                <a:cubicBezTo>
                  <a:pt x="13888" y="13490"/>
                  <a:pt x="13870" y="13598"/>
                  <a:pt x="13891" y="13742"/>
                </a:cubicBezTo>
              </a:path>
              <a:path w="3077" h="4094">
                <a:moveTo>
                  <a:pt x="14114" y="13444"/>
                </a:moveTo>
                <a:cubicBezTo>
                  <a:pt x="14125" y="13509"/>
                  <a:pt x="14113" y="13639"/>
                  <a:pt x="14139" y="13692"/>
                </a:cubicBezTo>
                <a:cubicBezTo>
                  <a:pt x="14147" y="13692"/>
                  <a:pt x="14155" y="13692"/>
                  <a:pt x="14163" y="13692"/>
                </a:cubicBezTo>
              </a:path>
              <a:path w="3077" h="4094">
                <a:moveTo>
                  <a:pt x="14089" y="13618"/>
                </a:moveTo>
                <a:cubicBezTo>
                  <a:pt x="14156" y="13601"/>
                  <a:pt x="14224" y="13556"/>
                  <a:pt x="14288" y="13519"/>
                </a:cubicBezTo>
              </a:path>
              <a:path w="3077" h="4094">
                <a:moveTo>
                  <a:pt x="14288" y="13444"/>
                </a:moveTo>
                <a:cubicBezTo>
                  <a:pt x="14321" y="13444"/>
                  <a:pt x="14354" y="13444"/>
                  <a:pt x="14387" y="13444"/>
                </a:cubicBezTo>
                <a:cubicBezTo>
                  <a:pt x="14387" y="13584"/>
                  <a:pt x="14358" y="13635"/>
                  <a:pt x="14263" y="13742"/>
                </a:cubicBezTo>
                <a:cubicBezTo>
                  <a:pt x="14255" y="13750"/>
                  <a:pt x="14246" y="13759"/>
                  <a:pt x="14238" y="13767"/>
                </a:cubicBezTo>
                <a:cubicBezTo>
                  <a:pt x="14326" y="13767"/>
                  <a:pt x="14399" y="13713"/>
                  <a:pt x="14486" y="13692"/>
                </a:cubicBezTo>
                <a:cubicBezTo>
                  <a:pt x="14511" y="13692"/>
                  <a:pt x="14519" y="13692"/>
                  <a:pt x="14536" y="13692"/>
                </a:cubicBezTo>
              </a:path>
              <a:path w="3077" h="4094">
                <a:moveTo>
                  <a:pt x="14511" y="13246"/>
                </a:moveTo>
                <a:cubicBezTo>
                  <a:pt x="14557" y="13361"/>
                  <a:pt x="14679" y="13373"/>
                  <a:pt x="14709" y="13519"/>
                </a:cubicBezTo>
                <a:cubicBezTo>
                  <a:pt x="14745" y="13693"/>
                  <a:pt x="14635" y="13716"/>
                  <a:pt x="14585" y="13841"/>
                </a:cubicBezTo>
              </a:path>
              <a:path w="3077" h="4094">
                <a:moveTo>
                  <a:pt x="15056" y="13543"/>
                </a:moveTo>
                <a:cubicBezTo>
                  <a:pt x="15024" y="13554"/>
                  <a:pt x="15034" y="13558"/>
                  <a:pt x="15007" y="13593"/>
                </a:cubicBezTo>
                <a:cubicBezTo>
                  <a:pt x="15037" y="13583"/>
                  <a:pt x="15062" y="13558"/>
                  <a:pt x="15032" y="13543"/>
                </a:cubicBezTo>
              </a:path>
              <a:path w="3077" h="4094">
                <a:moveTo>
                  <a:pt x="15354" y="13295"/>
                </a:moveTo>
                <a:cubicBezTo>
                  <a:pt x="15423" y="13279"/>
                  <a:pt x="15444" y="13271"/>
                  <a:pt x="15503" y="13271"/>
                </a:cubicBezTo>
                <a:cubicBezTo>
                  <a:pt x="15495" y="13369"/>
                  <a:pt x="15500" y="13383"/>
                  <a:pt x="15429" y="13444"/>
                </a:cubicBezTo>
                <a:cubicBezTo>
                  <a:pt x="15451" y="13450"/>
                  <a:pt x="15553" y="13489"/>
                  <a:pt x="15553" y="13519"/>
                </a:cubicBezTo>
                <a:cubicBezTo>
                  <a:pt x="15553" y="13612"/>
                  <a:pt x="15448" y="13667"/>
                  <a:pt x="15379" y="13692"/>
                </a:cubicBezTo>
                <a:cubicBezTo>
                  <a:pt x="15371" y="13692"/>
                  <a:pt x="15362" y="13692"/>
                  <a:pt x="15354" y="13692"/>
                </a:cubicBezTo>
              </a:path>
              <a:path w="3077" h="4094">
                <a:moveTo>
                  <a:pt x="14015" y="13940"/>
                </a:moveTo>
                <a:cubicBezTo>
                  <a:pt x="13987" y="13884"/>
                  <a:pt x="13947" y="14049"/>
                  <a:pt x="13940" y="14089"/>
                </a:cubicBezTo>
                <a:cubicBezTo>
                  <a:pt x="13927" y="14161"/>
                  <a:pt x="13985" y="14241"/>
                  <a:pt x="14064" y="14238"/>
                </a:cubicBezTo>
                <a:cubicBezTo>
                  <a:pt x="14111" y="14236"/>
                  <a:pt x="14230" y="14205"/>
                  <a:pt x="14263" y="14163"/>
                </a:cubicBezTo>
                <a:cubicBezTo>
                  <a:pt x="14278" y="14145"/>
                  <a:pt x="14283" y="14090"/>
                  <a:pt x="14288" y="14064"/>
                </a:cubicBezTo>
                <a:cubicBezTo>
                  <a:pt x="14185" y="14064"/>
                  <a:pt x="14192" y="14054"/>
                  <a:pt x="14163" y="14139"/>
                </a:cubicBezTo>
                <a:cubicBezTo>
                  <a:pt x="14133" y="14227"/>
                  <a:pt x="14145" y="14156"/>
                  <a:pt x="14163" y="14213"/>
                </a:cubicBezTo>
              </a:path>
              <a:path w="3077" h="4094">
                <a:moveTo>
                  <a:pt x="14486" y="14039"/>
                </a:moveTo>
                <a:cubicBezTo>
                  <a:pt x="14519" y="14039"/>
                  <a:pt x="14536" y="14072"/>
                  <a:pt x="14536" y="14039"/>
                </a:cubicBezTo>
                <a:cubicBezTo>
                  <a:pt x="14536" y="13985"/>
                  <a:pt x="14543" y="14072"/>
                  <a:pt x="14511" y="14039"/>
                </a:cubicBezTo>
              </a:path>
              <a:path w="3077" h="4094">
                <a:moveTo>
                  <a:pt x="14759" y="13915"/>
                </a:moveTo>
                <a:cubicBezTo>
                  <a:pt x="14782" y="13877"/>
                  <a:pt x="14810" y="13857"/>
                  <a:pt x="14858" y="13841"/>
                </a:cubicBezTo>
                <a:cubicBezTo>
                  <a:pt x="14876" y="13905"/>
                  <a:pt x="14873" y="13932"/>
                  <a:pt x="14808" y="13965"/>
                </a:cubicBezTo>
                <a:cubicBezTo>
                  <a:pt x="14850" y="13965"/>
                  <a:pt x="14901" y="13944"/>
                  <a:pt x="14908" y="13990"/>
                </a:cubicBezTo>
                <a:cubicBezTo>
                  <a:pt x="14918" y="14052"/>
                  <a:pt x="14860" y="14093"/>
                  <a:pt x="14808" y="14114"/>
                </a:cubicBezTo>
                <a:cubicBezTo>
                  <a:pt x="14784" y="14114"/>
                  <a:pt x="14776" y="14114"/>
                  <a:pt x="14784" y="14089"/>
                </a:cubicBezTo>
              </a:path>
              <a:path w="3077" h="4094">
                <a:moveTo>
                  <a:pt x="15478" y="13692"/>
                </a:moveTo>
                <a:cubicBezTo>
                  <a:pt x="15478" y="13857"/>
                  <a:pt x="15478" y="14023"/>
                  <a:pt x="15478" y="14188"/>
                </a:cubicBezTo>
              </a:path>
              <a:path w="3077" h="4094">
                <a:moveTo>
                  <a:pt x="15925" y="13618"/>
                </a:moveTo>
                <a:cubicBezTo>
                  <a:pt x="15873" y="13716"/>
                  <a:pt x="15789" y="13821"/>
                  <a:pt x="15751" y="13915"/>
                </a:cubicBezTo>
                <a:cubicBezTo>
                  <a:pt x="15854" y="13961"/>
                  <a:pt x="16127" y="14009"/>
                  <a:pt x="16049" y="14188"/>
                </a:cubicBezTo>
                <a:cubicBezTo>
                  <a:pt x="16024" y="14213"/>
                  <a:pt x="15999" y="14238"/>
                  <a:pt x="15974" y="14263"/>
                </a:cubicBezTo>
                <a:cubicBezTo>
                  <a:pt x="15818" y="14211"/>
                  <a:pt x="15834" y="14061"/>
                  <a:pt x="15875" y="13915"/>
                </a:cubicBezTo>
                <a:cubicBezTo>
                  <a:pt x="15895" y="13845"/>
                  <a:pt x="16071" y="13643"/>
                  <a:pt x="15974" y="13643"/>
                </a:cubicBezTo>
              </a:path>
              <a:path w="3077" h="4094">
                <a:moveTo>
                  <a:pt x="15329" y="14387"/>
                </a:moveTo>
                <a:cubicBezTo>
                  <a:pt x="15583" y="14424"/>
                  <a:pt x="15754" y="14391"/>
                  <a:pt x="15999" y="14312"/>
                </a:cubicBezTo>
                <a:cubicBezTo>
                  <a:pt x="16152" y="14263"/>
                  <a:pt x="16354" y="14213"/>
                  <a:pt x="16446" y="14064"/>
                </a:cubicBezTo>
                <a:cubicBezTo>
                  <a:pt x="16533" y="13924"/>
                  <a:pt x="16499" y="13796"/>
                  <a:pt x="16421" y="13667"/>
                </a:cubicBezTo>
                <a:cubicBezTo>
                  <a:pt x="16326" y="13510"/>
                  <a:pt x="16164" y="13522"/>
                  <a:pt x="15999" y="13519"/>
                </a:cubicBezTo>
                <a:cubicBezTo>
                  <a:pt x="15806" y="13516"/>
                  <a:pt x="15548" y="13502"/>
                  <a:pt x="15379" y="13618"/>
                </a:cubicBezTo>
                <a:cubicBezTo>
                  <a:pt x="15234" y="13718"/>
                  <a:pt x="15171" y="13898"/>
                  <a:pt x="15156" y="14064"/>
                </a:cubicBezTo>
                <a:cubicBezTo>
                  <a:pt x="15134" y="14299"/>
                  <a:pt x="15279" y="14445"/>
                  <a:pt x="15503" y="14486"/>
                </a:cubicBezTo>
                <a:cubicBezTo>
                  <a:pt x="15632" y="14486"/>
                  <a:pt x="15665" y="14497"/>
                  <a:pt x="15726" y="14436"/>
                </a:cubicBezTo>
              </a:path>
              <a:path w="3077" h="4094">
                <a:moveTo>
                  <a:pt x="13519" y="14585"/>
                </a:moveTo>
                <a:cubicBezTo>
                  <a:pt x="13531" y="14636"/>
                  <a:pt x="13419" y="14817"/>
                  <a:pt x="13419" y="14932"/>
                </a:cubicBezTo>
                <a:cubicBezTo>
                  <a:pt x="13419" y="15010"/>
                  <a:pt x="13428" y="15128"/>
                  <a:pt x="13494" y="15156"/>
                </a:cubicBezTo>
                <a:cubicBezTo>
                  <a:pt x="13510" y="15164"/>
                  <a:pt x="13527" y="15172"/>
                  <a:pt x="13543" y="15180"/>
                </a:cubicBezTo>
              </a:path>
              <a:path w="3077" h="4094">
                <a:moveTo>
                  <a:pt x="13618" y="14684"/>
                </a:moveTo>
                <a:cubicBezTo>
                  <a:pt x="13618" y="14757"/>
                  <a:pt x="13579" y="14812"/>
                  <a:pt x="13568" y="14883"/>
                </a:cubicBezTo>
                <a:cubicBezTo>
                  <a:pt x="13554" y="14980"/>
                  <a:pt x="13560" y="15039"/>
                  <a:pt x="13667" y="15056"/>
                </a:cubicBezTo>
                <a:cubicBezTo>
                  <a:pt x="13758" y="15070"/>
                  <a:pt x="13796" y="15038"/>
                  <a:pt x="13816" y="14957"/>
                </a:cubicBezTo>
                <a:cubicBezTo>
                  <a:pt x="13816" y="14932"/>
                  <a:pt x="13816" y="14924"/>
                  <a:pt x="13816" y="14908"/>
                </a:cubicBezTo>
                <a:cubicBezTo>
                  <a:pt x="13726" y="14908"/>
                  <a:pt x="13692" y="14908"/>
                  <a:pt x="13667" y="15007"/>
                </a:cubicBezTo>
                <a:cubicBezTo>
                  <a:pt x="13667" y="15056"/>
                  <a:pt x="13667" y="15073"/>
                  <a:pt x="13667" y="15106"/>
                </a:cubicBezTo>
              </a:path>
              <a:path w="3077" h="4094">
                <a:moveTo>
                  <a:pt x="14039" y="14709"/>
                </a:moveTo>
                <a:cubicBezTo>
                  <a:pt x="14039" y="14792"/>
                  <a:pt x="14039" y="14874"/>
                  <a:pt x="14039" y="14957"/>
                </a:cubicBezTo>
              </a:path>
              <a:path w="3077" h="4094">
                <a:moveTo>
                  <a:pt x="13940" y="14833"/>
                </a:moveTo>
                <a:cubicBezTo>
                  <a:pt x="14012" y="14833"/>
                  <a:pt x="14070" y="14820"/>
                  <a:pt x="14139" y="14808"/>
                </a:cubicBezTo>
              </a:path>
              <a:path w="3077" h="4094">
                <a:moveTo>
                  <a:pt x="14213" y="14684"/>
                </a:moveTo>
                <a:cubicBezTo>
                  <a:pt x="14302" y="14620"/>
                  <a:pt x="14285" y="14701"/>
                  <a:pt x="14312" y="14759"/>
                </a:cubicBezTo>
                <a:cubicBezTo>
                  <a:pt x="14374" y="14892"/>
                  <a:pt x="14258" y="14899"/>
                  <a:pt x="14188" y="14982"/>
                </a:cubicBezTo>
                <a:cubicBezTo>
                  <a:pt x="14188" y="14990"/>
                  <a:pt x="14188" y="14999"/>
                  <a:pt x="14188" y="15007"/>
                </a:cubicBezTo>
                <a:cubicBezTo>
                  <a:pt x="14240" y="15007"/>
                  <a:pt x="14352" y="14974"/>
                  <a:pt x="14387" y="14982"/>
                </a:cubicBezTo>
                <a:cubicBezTo>
                  <a:pt x="14387" y="15007"/>
                  <a:pt x="14387" y="15015"/>
                  <a:pt x="14412" y="15007"/>
                </a:cubicBezTo>
              </a:path>
              <a:path w="3077" h="4094">
                <a:moveTo>
                  <a:pt x="14362" y="14511"/>
                </a:moveTo>
                <a:cubicBezTo>
                  <a:pt x="14444" y="14629"/>
                  <a:pt x="14540" y="14735"/>
                  <a:pt x="14560" y="14883"/>
                </a:cubicBezTo>
                <a:cubicBezTo>
                  <a:pt x="14574" y="14985"/>
                  <a:pt x="14528" y="15083"/>
                  <a:pt x="14461" y="15156"/>
                </a:cubicBezTo>
                <a:cubicBezTo>
                  <a:pt x="14453" y="15164"/>
                  <a:pt x="14444" y="15172"/>
                  <a:pt x="14436" y="15180"/>
                </a:cubicBezTo>
              </a:path>
              <a:path w="3077" h="4094">
                <a:moveTo>
                  <a:pt x="14660" y="14858"/>
                </a:moveTo>
                <a:cubicBezTo>
                  <a:pt x="14673" y="14911"/>
                  <a:pt x="14702" y="14921"/>
                  <a:pt x="14709" y="14858"/>
                </a:cubicBezTo>
                <a:cubicBezTo>
                  <a:pt x="14712" y="14827"/>
                  <a:pt x="14573" y="14858"/>
                  <a:pt x="14684" y="14858"/>
                </a:cubicBezTo>
              </a:path>
              <a:path w="3077" h="4094">
                <a:moveTo>
                  <a:pt x="14932" y="14610"/>
                </a:moveTo>
                <a:cubicBezTo>
                  <a:pt x="15000" y="14610"/>
                  <a:pt x="15064" y="14592"/>
                  <a:pt x="15131" y="14585"/>
                </a:cubicBezTo>
                <a:cubicBezTo>
                  <a:pt x="15114" y="14697"/>
                  <a:pt x="15089" y="14751"/>
                  <a:pt x="15007" y="14833"/>
                </a:cubicBezTo>
                <a:cubicBezTo>
                  <a:pt x="15027" y="14779"/>
                  <a:pt x="15162" y="14638"/>
                  <a:pt x="15180" y="14808"/>
                </a:cubicBezTo>
                <a:cubicBezTo>
                  <a:pt x="15193" y="14928"/>
                  <a:pt x="15105" y="14991"/>
                  <a:pt x="15007" y="15007"/>
                </a:cubicBezTo>
              </a:path>
              <a:path w="3077" h="4094">
                <a:moveTo>
                  <a:pt x="13791" y="15180"/>
                </a:moveTo>
                <a:cubicBezTo>
                  <a:pt x="13801" y="15229"/>
                  <a:pt x="13812" y="15267"/>
                  <a:pt x="13841" y="15304"/>
                </a:cubicBezTo>
                <a:cubicBezTo>
                  <a:pt x="13858" y="15255"/>
                  <a:pt x="13990" y="15280"/>
                  <a:pt x="14039" y="15280"/>
                </a:cubicBezTo>
                <a:cubicBezTo>
                  <a:pt x="14130" y="15280"/>
                  <a:pt x="14158" y="15289"/>
                  <a:pt x="14238" y="15304"/>
                </a:cubicBezTo>
                <a:cubicBezTo>
                  <a:pt x="14246" y="15263"/>
                  <a:pt x="14291" y="15175"/>
                  <a:pt x="14263" y="15131"/>
                </a:cubicBezTo>
                <a:cubicBezTo>
                  <a:pt x="14249" y="15108"/>
                  <a:pt x="14238" y="15133"/>
                  <a:pt x="14238" y="15081"/>
                </a:cubicBezTo>
              </a:path>
              <a:path w="3077" h="4094">
                <a:moveTo>
                  <a:pt x="14089" y="15602"/>
                </a:moveTo>
                <a:cubicBezTo>
                  <a:pt x="14089" y="15558"/>
                  <a:pt x="14091" y="15563"/>
                  <a:pt x="14064" y="15528"/>
                </a:cubicBezTo>
                <a:cubicBezTo>
                  <a:pt x="13949" y="15547"/>
                  <a:pt x="13868" y="15576"/>
                  <a:pt x="13841" y="15701"/>
                </a:cubicBezTo>
                <a:cubicBezTo>
                  <a:pt x="13841" y="15709"/>
                  <a:pt x="13841" y="15718"/>
                  <a:pt x="13841" y="15726"/>
                </a:cubicBezTo>
                <a:cubicBezTo>
                  <a:pt x="13891" y="15732"/>
                  <a:pt x="14072" y="15733"/>
                  <a:pt x="14089" y="15776"/>
                </a:cubicBezTo>
                <a:cubicBezTo>
                  <a:pt x="14122" y="15860"/>
                  <a:pt x="14061" y="15889"/>
                  <a:pt x="14015" y="15925"/>
                </a:cubicBezTo>
                <a:cubicBezTo>
                  <a:pt x="13999" y="15818"/>
                  <a:pt x="14033" y="15757"/>
                  <a:pt x="14039" y="15652"/>
                </a:cubicBezTo>
                <a:cubicBezTo>
                  <a:pt x="14039" y="15607"/>
                  <a:pt x="14036" y="15594"/>
                  <a:pt x="14064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48680" y="4384800"/>
            <a:ext cx="1260360" cy="1322280"/>
          </a:xfrm>
          <a:custGeom>
            <a:avLst/>
            <a:gdLst/>
            <a:ahLst/>
            <a:rect l="l" t="t" r="r" b="b"/>
            <a:pathLst>
              <a:path w="3499" h="3672">
                <a:moveTo>
                  <a:pt x="20613" y="12402"/>
                </a:moveTo>
                <a:cubicBezTo>
                  <a:pt x="20624" y="12361"/>
                  <a:pt x="20672" y="12301"/>
                  <a:pt x="20712" y="12278"/>
                </a:cubicBezTo>
                <a:cubicBezTo>
                  <a:pt x="20720" y="12278"/>
                  <a:pt x="20729" y="12278"/>
                  <a:pt x="20737" y="12278"/>
                </a:cubicBezTo>
                <a:cubicBezTo>
                  <a:pt x="20803" y="12412"/>
                  <a:pt x="20801" y="12407"/>
                  <a:pt x="20687" y="12502"/>
                </a:cubicBezTo>
                <a:cubicBezTo>
                  <a:pt x="20761" y="12502"/>
                  <a:pt x="20832" y="12503"/>
                  <a:pt x="20836" y="12601"/>
                </a:cubicBezTo>
                <a:cubicBezTo>
                  <a:pt x="20842" y="12749"/>
                  <a:pt x="20672" y="12735"/>
                  <a:pt x="20588" y="12725"/>
                </a:cubicBezTo>
                <a:cubicBezTo>
                  <a:pt x="20563" y="12725"/>
                  <a:pt x="20555" y="12725"/>
                  <a:pt x="20563" y="12700"/>
                </a:cubicBezTo>
              </a:path>
              <a:path w="3499" h="3672">
                <a:moveTo>
                  <a:pt x="21109" y="12179"/>
                </a:moveTo>
                <a:cubicBezTo>
                  <a:pt x="21044" y="12308"/>
                  <a:pt x="20992" y="12363"/>
                  <a:pt x="20985" y="12526"/>
                </a:cubicBezTo>
                <a:cubicBezTo>
                  <a:pt x="20980" y="12647"/>
                  <a:pt x="20999" y="12749"/>
                  <a:pt x="21134" y="12774"/>
                </a:cubicBezTo>
                <a:cubicBezTo>
                  <a:pt x="21142" y="12774"/>
                  <a:pt x="21150" y="12774"/>
                  <a:pt x="21158" y="12774"/>
                </a:cubicBezTo>
              </a:path>
              <a:path w="3499" h="3672">
                <a:moveTo>
                  <a:pt x="21233" y="12328"/>
                </a:moveTo>
                <a:cubicBezTo>
                  <a:pt x="21282" y="12328"/>
                  <a:pt x="21299" y="12328"/>
                  <a:pt x="21332" y="12328"/>
                </a:cubicBezTo>
                <a:cubicBezTo>
                  <a:pt x="21369" y="12456"/>
                  <a:pt x="21276" y="12508"/>
                  <a:pt x="21183" y="12601"/>
                </a:cubicBezTo>
                <a:cubicBezTo>
                  <a:pt x="21175" y="12609"/>
                  <a:pt x="21166" y="12618"/>
                  <a:pt x="21158" y="12626"/>
                </a:cubicBezTo>
                <a:cubicBezTo>
                  <a:pt x="21201" y="12657"/>
                  <a:pt x="21304" y="12650"/>
                  <a:pt x="21382" y="12650"/>
                </a:cubicBezTo>
                <a:cubicBezTo>
                  <a:pt x="21406" y="12650"/>
                  <a:pt x="21415" y="12650"/>
                  <a:pt x="21431" y="12650"/>
                </a:cubicBezTo>
              </a:path>
              <a:path w="3499" h="3672">
                <a:moveTo>
                  <a:pt x="21382" y="12179"/>
                </a:moveTo>
                <a:cubicBezTo>
                  <a:pt x="21500" y="12209"/>
                  <a:pt x="21605" y="12332"/>
                  <a:pt x="21654" y="12452"/>
                </a:cubicBezTo>
                <a:cubicBezTo>
                  <a:pt x="21725" y="12625"/>
                  <a:pt x="21610" y="12666"/>
                  <a:pt x="21530" y="12774"/>
                </a:cubicBezTo>
                <a:cubicBezTo>
                  <a:pt x="21530" y="12799"/>
                  <a:pt x="21530" y="12807"/>
                  <a:pt x="21506" y="12799"/>
                </a:cubicBezTo>
              </a:path>
              <a:path w="3499" h="3672">
                <a:moveTo>
                  <a:pt x="21927" y="12328"/>
                </a:moveTo>
                <a:cubicBezTo>
                  <a:pt x="21901" y="12427"/>
                  <a:pt x="21903" y="12521"/>
                  <a:pt x="21903" y="12626"/>
                </a:cubicBezTo>
              </a:path>
              <a:path w="3499" h="3672">
                <a:moveTo>
                  <a:pt x="21754" y="12502"/>
                </a:moveTo>
                <a:cubicBezTo>
                  <a:pt x="21849" y="12502"/>
                  <a:pt x="21933" y="12484"/>
                  <a:pt x="22027" y="12477"/>
                </a:cubicBezTo>
                <a:cubicBezTo>
                  <a:pt x="22035" y="12477"/>
                  <a:pt x="22043" y="12477"/>
                  <a:pt x="22051" y="12477"/>
                </a:cubicBezTo>
              </a:path>
              <a:path w="3499" h="3672">
                <a:moveTo>
                  <a:pt x="22225" y="12303"/>
                </a:moveTo>
                <a:cubicBezTo>
                  <a:pt x="22276" y="12290"/>
                  <a:pt x="22312" y="12278"/>
                  <a:pt x="22374" y="12278"/>
                </a:cubicBezTo>
                <a:cubicBezTo>
                  <a:pt x="22551" y="12278"/>
                  <a:pt x="22377" y="12518"/>
                  <a:pt x="22349" y="12551"/>
                </a:cubicBezTo>
                <a:cubicBezTo>
                  <a:pt x="22291" y="12621"/>
                  <a:pt x="22207" y="12663"/>
                  <a:pt x="22175" y="12700"/>
                </a:cubicBezTo>
                <a:cubicBezTo>
                  <a:pt x="22175" y="12708"/>
                  <a:pt x="22175" y="12717"/>
                  <a:pt x="22175" y="12725"/>
                </a:cubicBezTo>
                <a:cubicBezTo>
                  <a:pt x="22228" y="12725"/>
                  <a:pt x="22237" y="12713"/>
                  <a:pt x="22275" y="12675"/>
                </a:cubicBezTo>
                <a:cubicBezTo>
                  <a:pt x="22306" y="12643"/>
                  <a:pt x="22377" y="12640"/>
                  <a:pt x="22423" y="12650"/>
                </a:cubicBezTo>
                <a:cubicBezTo>
                  <a:pt x="22529" y="12674"/>
                  <a:pt x="22601" y="12676"/>
                  <a:pt x="22696" y="12650"/>
                </a:cubicBezTo>
                <a:cubicBezTo>
                  <a:pt x="22704" y="12650"/>
                  <a:pt x="22713" y="12650"/>
                  <a:pt x="22721" y="12650"/>
                </a:cubicBezTo>
              </a:path>
              <a:path w="3499" h="3672">
                <a:moveTo>
                  <a:pt x="21109" y="12948"/>
                </a:moveTo>
                <a:cubicBezTo>
                  <a:pt x="21109" y="12902"/>
                  <a:pt x="21097" y="12880"/>
                  <a:pt x="21059" y="12948"/>
                </a:cubicBezTo>
                <a:cubicBezTo>
                  <a:pt x="21005" y="13046"/>
                  <a:pt x="20987" y="13164"/>
                  <a:pt x="20960" y="13271"/>
                </a:cubicBezTo>
                <a:cubicBezTo>
                  <a:pt x="21042" y="13330"/>
                  <a:pt x="21152" y="13266"/>
                  <a:pt x="21233" y="13221"/>
                </a:cubicBezTo>
                <a:cubicBezTo>
                  <a:pt x="21286" y="13192"/>
                  <a:pt x="21253" y="13130"/>
                  <a:pt x="21233" y="13097"/>
                </a:cubicBezTo>
                <a:cubicBezTo>
                  <a:pt x="21190" y="13124"/>
                  <a:pt x="21054" y="13208"/>
                  <a:pt x="21134" y="13246"/>
                </a:cubicBezTo>
                <a:cubicBezTo>
                  <a:pt x="21159" y="13254"/>
                  <a:pt x="21183" y="13263"/>
                  <a:pt x="21208" y="13271"/>
                </a:cubicBezTo>
              </a:path>
              <a:path w="3499" h="3672">
                <a:moveTo>
                  <a:pt x="21654" y="12948"/>
                </a:moveTo>
                <a:cubicBezTo>
                  <a:pt x="21654" y="13043"/>
                  <a:pt x="21639" y="13128"/>
                  <a:pt x="21630" y="13221"/>
                </a:cubicBezTo>
              </a:path>
              <a:path w="3499" h="3672">
                <a:moveTo>
                  <a:pt x="21431" y="13097"/>
                </a:moveTo>
                <a:cubicBezTo>
                  <a:pt x="21549" y="13087"/>
                  <a:pt x="21663" y="13059"/>
                  <a:pt x="21779" y="13047"/>
                </a:cubicBezTo>
              </a:path>
              <a:path w="3499" h="3672">
                <a:moveTo>
                  <a:pt x="21952" y="12923"/>
                </a:moveTo>
                <a:cubicBezTo>
                  <a:pt x="22017" y="12907"/>
                  <a:pt x="22047" y="12879"/>
                  <a:pt x="22126" y="12874"/>
                </a:cubicBezTo>
                <a:cubicBezTo>
                  <a:pt x="22154" y="12874"/>
                  <a:pt x="22164" y="12876"/>
                  <a:pt x="22175" y="12898"/>
                </a:cubicBezTo>
                <a:cubicBezTo>
                  <a:pt x="22145" y="13029"/>
                  <a:pt x="22065" y="13133"/>
                  <a:pt x="21977" y="13246"/>
                </a:cubicBezTo>
                <a:cubicBezTo>
                  <a:pt x="21969" y="13254"/>
                  <a:pt x="21960" y="13263"/>
                  <a:pt x="21952" y="13271"/>
                </a:cubicBezTo>
                <a:cubicBezTo>
                  <a:pt x="21979" y="13216"/>
                  <a:pt x="22104" y="13167"/>
                  <a:pt x="22175" y="13171"/>
                </a:cubicBezTo>
                <a:cubicBezTo>
                  <a:pt x="22206" y="13173"/>
                  <a:pt x="22264" y="13212"/>
                  <a:pt x="22299" y="13221"/>
                </a:cubicBezTo>
              </a:path>
              <a:path w="3499" h="3672">
                <a:moveTo>
                  <a:pt x="23589" y="12526"/>
                </a:moveTo>
                <a:cubicBezTo>
                  <a:pt x="23490" y="12490"/>
                  <a:pt x="23308" y="12485"/>
                  <a:pt x="23217" y="12576"/>
                </a:cubicBezTo>
                <a:cubicBezTo>
                  <a:pt x="23209" y="12601"/>
                  <a:pt x="23200" y="12625"/>
                  <a:pt x="23192" y="12650"/>
                </a:cubicBezTo>
                <a:cubicBezTo>
                  <a:pt x="23318" y="12744"/>
                  <a:pt x="23457" y="12790"/>
                  <a:pt x="23564" y="12898"/>
                </a:cubicBezTo>
                <a:cubicBezTo>
                  <a:pt x="23510" y="13008"/>
                  <a:pt x="23418" y="13070"/>
                  <a:pt x="23292" y="12973"/>
                </a:cubicBezTo>
                <a:cubicBezTo>
                  <a:pt x="23119" y="12840"/>
                  <a:pt x="23428" y="12688"/>
                  <a:pt x="23490" y="12626"/>
                </a:cubicBezTo>
                <a:cubicBezTo>
                  <a:pt x="23512" y="12582"/>
                  <a:pt x="23515" y="12570"/>
                  <a:pt x="23540" y="12551"/>
                </a:cubicBezTo>
              </a:path>
              <a:path w="3499" h="3672">
                <a:moveTo>
                  <a:pt x="22994" y="13097"/>
                </a:moveTo>
                <a:cubicBezTo>
                  <a:pt x="23051" y="13135"/>
                  <a:pt x="23112" y="13208"/>
                  <a:pt x="23192" y="13221"/>
                </a:cubicBezTo>
                <a:cubicBezTo>
                  <a:pt x="23352" y="13247"/>
                  <a:pt x="23546" y="13185"/>
                  <a:pt x="23688" y="13122"/>
                </a:cubicBezTo>
                <a:cubicBezTo>
                  <a:pt x="23816" y="13065"/>
                  <a:pt x="23859" y="13021"/>
                  <a:pt x="23887" y="12898"/>
                </a:cubicBezTo>
                <a:cubicBezTo>
                  <a:pt x="23909" y="12803"/>
                  <a:pt x="23928" y="12719"/>
                  <a:pt x="23887" y="12626"/>
                </a:cubicBezTo>
                <a:cubicBezTo>
                  <a:pt x="23843" y="12526"/>
                  <a:pt x="23771" y="12503"/>
                  <a:pt x="23688" y="12452"/>
                </a:cubicBezTo>
                <a:cubicBezTo>
                  <a:pt x="23598" y="12397"/>
                  <a:pt x="23496" y="12365"/>
                  <a:pt x="23391" y="12353"/>
                </a:cubicBezTo>
                <a:cubicBezTo>
                  <a:pt x="23290" y="12341"/>
                  <a:pt x="23211" y="12368"/>
                  <a:pt x="23118" y="12378"/>
                </a:cubicBezTo>
                <a:cubicBezTo>
                  <a:pt x="23011" y="12389"/>
                  <a:pt x="22966" y="12403"/>
                  <a:pt x="22895" y="12477"/>
                </a:cubicBezTo>
                <a:cubicBezTo>
                  <a:pt x="22796" y="12580"/>
                  <a:pt x="22755" y="12681"/>
                  <a:pt x="22746" y="12824"/>
                </a:cubicBezTo>
                <a:cubicBezTo>
                  <a:pt x="22742" y="12878"/>
                  <a:pt x="22769" y="13003"/>
                  <a:pt x="22796" y="13047"/>
                </a:cubicBezTo>
                <a:cubicBezTo>
                  <a:pt x="22843" y="13126"/>
                  <a:pt x="22942" y="13180"/>
                  <a:pt x="23019" y="13221"/>
                </a:cubicBezTo>
                <a:cubicBezTo>
                  <a:pt x="23072" y="13249"/>
                  <a:pt x="23111" y="13246"/>
                  <a:pt x="23168" y="13246"/>
                </a:cubicBezTo>
                <a:cubicBezTo>
                  <a:pt x="23201" y="13246"/>
                  <a:pt x="23234" y="13246"/>
                  <a:pt x="23267" y="13246"/>
                </a:cubicBezTo>
              </a:path>
              <a:path w="3499" h="3672">
                <a:moveTo>
                  <a:pt x="20538" y="13692"/>
                </a:moveTo>
                <a:cubicBezTo>
                  <a:pt x="20609" y="13645"/>
                  <a:pt x="20677" y="13609"/>
                  <a:pt x="20687" y="13717"/>
                </a:cubicBezTo>
                <a:cubicBezTo>
                  <a:pt x="20695" y="13809"/>
                  <a:pt x="20672" y="13793"/>
                  <a:pt x="20613" y="13841"/>
                </a:cubicBezTo>
                <a:cubicBezTo>
                  <a:pt x="20605" y="13841"/>
                  <a:pt x="20596" y="13841"/>
                  <a:pt x="20588" y="13841"/>
                </a:cubicBezTo>
                <a:cubicBezTo>
                  <a:pt x="20682" y="13841"/>
                  <a:pt x="20732" y="13859"/>
                  <a:pt x="20687" y="13965"/>
                </a:cubicBezTo>
                <a:cubicBezTo>
                  <a:pt x="20665" y="14017"/>
                  <a:pt x="20428" y="14133"/>
                  <a:pt x="20414" y="14064"/>
                </a:cubicBezTo>
                <a:cubicBezTo>
                  <a:pt x="20422" y="14048"/>
                  <a:pt x="20431" y="14031"/>
                  <a:pt x="20439" y="14015"/>
                </a:cubicBezTo>
              </a:path>
              <a:path w="3499" h="3672">
                <a:moveTo>
                  <a:pt x="20886" y="13568"/>
                </a:moveTo>
                <a:cubicBezTo>
                  <a:pt x="20837" y="13714"/>
                  <a:pt x="20758" y="13880"/>
                  <a:pt x="20786" y="14039"/>
                </a:cubicBezTo>
                <a:cubicBezTo>
                  <a:pt x="20794" y="14084"/>
                  <a:pt x="20877" y="14083"/>
                  <a:pt x="20910" y="14089"/>
                </a:cubicBezTo>
              </a:path>
              <a:path w="3499" h="3672">
                <a:moveTo>
                  <a:pt x="21183" y="13643"/>
                </a:moveTo>
                <a:cubicBezTo>
                  <a:pt x="21152" y="13643"/>
                  <a:pt x="21075" y="13648"/>
                  <a:pt x="21059" y="13667"/>
                </a:cubicBezTo>
                <a:cubicBezTo>
                  <a:pt x="21029" y="13703"/>
                  <a:pt x="21021" y="13764"/>
                  <a:pt x="20985" y="13791"/>
                </a:cubicBezTo>
                <a:cubicBezTo>
                  <a:pt x="21049" y="13839"/>
                  <a:pt x="21129" y="13806"/>
                  <a:pt x="21208" y="13841"/>
                </a:cubicBezTo>
                <a:cubicBezTo>
                  <a:pt x="21216" y="13849"/>
                  <a:pt x="21225" y="13858"/>
                  <a:pt x="21233" y="13866"/>
                </a:cubicBezTo>
                <a:cubicBezTo>
                  <a:pt x="21203" y="13985"/>
                  <a:pt x="21151" y="13965"/>
                  <a:pt x="21034" y="13965"/>
                </a:cubicBezTo>
              </a:path>
              <a:path w="3499" h="3672">
                <a:moveTo>
                  <a:pt x="21282" y="13543"/>
                </a:moveTo>
                <a:cubicBezTo>
                  <a:pt x="21337" y="13677"/>
                  <a:pt x="21420" y="13836"/>
                  <a:pt x="21307" y="13965"/>
                </a:cubicBezTo>
                <a:cubicBezTo>
                  <a:pt x="21279" y="13997"/>
                  <a:pt x="21222" y="14030"/>
                  <a:pt x="21183" y="14039"/>
                </a:cubicBezTo>
              </a:path>
              <a:path w="3499" h="3672">
                <a:moveTo>
                  <a:pt x="21382" y="13791"/>
                </a:moveTo>
                <a:cubicBezTo>
                  <a:pt x="21494" y="13784"/>
                  <a:pt x="21595" y="13754"/>
                  <a:pt x="21704" y="13742"/>
                </a:cubicBezTo>
              </a:path>
              <a:path w="3499" h="3672">
                <a:moveTo>
                  <a:pt x="21853" y="13568"/>
                </a:moveTo>
                <a:cubicBezTo>
                  <a:pt x="21897" y="13568"/>
                  <a:pt x="21947" y="13563"/>
                  <a:pt x="21952" y="13618"/>
                </a:cubicBezTo>
                <a:cubicBezTo>
                  <a:pt x="21964" y="13765"/>
                  <a:pt x="21888" y="13763"/>
                  <a:pt x="21828" y="13866"/>
                </a:cubicBezTo>
                <a:cubicBezTo>
                  <a:pt x="21828" y="13874"/>
                  <a:pt x="21828" y="13883"/>
                  <a:pt x="21828" y="13891"/>
                </a:cubicBezTo>
                <a:cubicBezTo>
                  <a:pt x="21938" y="13891"/>
                  <a:pt x="22042" y="13871"/>
                  <a:pt x="22151" y="13866"/>
                </a:cubicBezTo>
                <a:cubicBezTo>
                  <a:pt x="22159" y="13866"/>
                  <a:pt x="22167" y="13866"/>
                  <a:pt x="22175" y="13866"/>
                </a:cubicBezTo>
              </a:path>
              <a:path w="3499" h="3672">
                <a:moveTo>
                  <a:pt x="20662" y="14213"/>
                </a:moveTo>
                <a:cubicBezTo>
                  <a:pt x="20740" y="14239"/>
                  <a:pt x="20661" y="14252"/>
                  <a:pt x="20836" y="14213"/>
                </a:cubicBezTo>
                <a:cubicBezTo>
                  <a:pt x="20910" y="14196"/>
                  <a:pt x="20961" y="14188"/>
                  <a:pt x="21034" y="14188"/>
                </a:cubicBezTo>
                <a:cubicBezTo>
                  <a:pt x="21073" y="14188"/>
                  <a:pt x="21076" y="14128"/>
                  <a:pt x="21084" y="14089"/>
                </a:cubicBezTo>
              </a:path>
              <a:path w="3499" h="3672">
                <a:moveTo>
                  <a:pt x="20811" y="14387"/>
                </a:moveTo>
                <a:cubicBezTo>
                  <a:pt x="20811" y="14313"/>
                  <a:pt x="20786" y="14552"/>
                  <a:pt x="20786" y="14560"/>
                </a:cubicBezTo>
                <a:cubicBezTo>
                  <a:pt x="20786" y="14568"/>
                  <a:pt x="20786" y="14577"/>
                  <a:pt x="20786" y="14585"/>
                </a:cubicBezTo>
              </a:path>
              <a:path w="3499" h="3672">
                <a:moveTo>
                  <a:pt x="21158" y="14312"/>
                </a:moveTo>
                <a:cubicBezTo>
                  <a:pt x="21121" y="14318"/>
                  <a:pt x="21030" y="14321"/>
                  <a:pt x="21010" y="14362"/>
                </a:cubicBezTo>
                <a:cubicBezTo>
                  <a:pt x="21003" y="14377"/>
                  <a:pt x="21010" y="14419"/>
                  <a:pt x="21010" y="14436"/>
                </a:cubicBezTo>
                <a:cubicBezTo>
                  <a:pt x="21078" y="14436"/>
                  <a:pt x="21132" y="14411"/>
                  <a:pt x="21158" y="14486"/>
                </a:cubicBezTo>
                <a:cubicBezTo>
                  <a:pt x="21158" y="14494"/>
                  <a:pt x="21158" y="14503"/>
                  <a:pt x="21158" y="14511"/>
                </a:cubicBezTo>
                <a:cubicBezTo>
                  <a:pt x="21091" y="14548"/>
                  <a:pt x="21050" y="14609"/>
                  <a:pt x="20985" y="14560"/>
                </a:cubicBezTo>
              </a:path>
              <a:path w="3499" h="3672">
                <a:moveTo>
                  <a:pt x="21431" y="14312"/>
                </a:moveTo>
                <a:cubicBezTo>
                  <a:pt x="21431" y="14378"/>
                  <a:pt x="21431" y="14445"/>
                  <a:pt x="21431" y="14511"/>
                </a:cubicBezTo>
              </a:path>
              <a:path w="3499" h="3672">
                <a:moveTo>
                  <a:pt x="21679" y="14263"/>
                </a:moveTo>
                <a:cubicBezTo>
                  <a:pt x="21711" y="14220"/>
                  <a:pt x="21742" y="14220"/>
                  <a:pt x="21803" y="14213"/>
                </a:cubicBezTo>
                <a:cubicBezTo>
                  <a:pt x="21792" y="14360"/>
                  <a:pt x="21754" y="14383"/>
                  <a:pt x="21679" y="14486"/>
                </a:cubicBezTo>
                <a:cubicBezTo>
                  <a:pt x="21651" y="14525"/>
                  <a:pt x="21835" y="14511"/>
                  <a:pt x="21853" y="14511"/>
                </a:cubicBezTo>
                <a:cubicBezTo>
                  <a:pt x="21861" y="14511"/>
                  <a:pt x="21870" y="14511"/>
                  <a:pt x="21878" y="14511"/>
                </a:cubicBezTo>
              </a:path>
              <a:path w="3499" h="3672">
                <a:moveTo>
                  <a:pt x="22051" y="14213"/>
                </a:moveTo>
                <a:cubicBezTo>
                  <a:pt x="22151" y="14204"/>
                  <a:pt x="22149" y="14173"/>
                  <a:pt x="22175" y="14238"/>
                </a:cubicBezTo>
              </a:path>
              <a:path w="3499" h="3672">
                <a:moveTo>
                  <a:pt x="22076" y="14312"/>
                </a:moveTo>
                <a:cubicBezTo>
                  <a:pt x="22164" y="14330"/>
                  <a:pt x="22140" y="14328"/>
                  <a:pt x="22250" y="14312"/>
                </a:cubicBezTo>
              </a:path>
              <a:path w="3499" h="3672">
                <a:moveTo>
                  <a:pt x="22622" y="14039"/>
                </a:moveTo>
                <a:cubicBezTo>
                  <a:pt x="22640" y="14079"/>
                  <a:pt x="22692" y="14288"/>
                  <a:pt x="22746" y="14288"/>
                </a:cubicBezTo>
                <a:cubicBezTo>
                  <a:pt x="22746" y="14280"/>
                  <a:pt x="22746" y="14271"/>
                  <a:pt x="22746" y="14263"/>
                </a:cubicBezTo>
              </a:path>
              <a:path w="3499" h="3672">
                <a:moveTo>
                  <a:pt x="22796" y="13965"/>
                </a:moveTo>
                <a:cubicBezTo>
                  <a:pt x="22837" y="13960"/>
                  <a:pt x="22960" y="13909"/>
                  <a:pt x="22994" y="13940"/>
                </a:cubicBezTo>
                <a:cubicBezTo>
                  <a:pt x="23048" y="13989"/>
                  <a:pt x="23063" y="14121"/>
                  <a:pt x="23068" y="14188"/>
                </a:cubicBezTo>
                <a:cubicBezTo>
                  <a:pt x="23071" y="14231"/>
                  <a:pt x="23055" y="14225"/>
                  <a:pt x="23093" y="14238"/>
                </a:cubicBezTo>
              </a:path>
              <a:path w="3499" h="3672">
                <a:moveTo>
                  <a:pt x="22374" y="14511"/>
                </a:moveTo>
                <a:cubicBezTo>
                  <a:pt x="22492" y="14558"/>
                  <a:pt x="22570" y="14573"/>
                  <a:pt x="22696" y="14560"/>
                </a:cubicBezTo>
                <a:cubicBezTo>
                  <a:pt x="22943" y="14534"/>
                  <a:pt x="23294" y="14449"/>
                  <a:pt x="23490" y="14288"/>
                </a:cubicBezTo>
                <a:cubicBezTo>
                  <a:pt x="23674" y="14137"/>
                  <a:pt x="23624" y="13953"/>
                  <a:pt x="23465" y="13816"/>
                </a:cubicBezTo>
                <a:cubicBezTo>
                  <a:pt x="23250" y="13631"/>
                  <a:pt x="23060" y="13604"/>
                  <a:pt x="22796" y="13667"/>
                </a:cubicBezTo>
                <a:cubicBezTo>
                  <a:pt x="22565" y="13722"/>
                  <a:pt x="22284" y="13831"/>
                  <a:pt x="22175" y="14064"/>
                </a:cubicBezTo>
                <a:cubicBezTo>
                  <a:pt x="22024" y="14385"/>
                  <a:pt x="22457" y="14447"/>
                  <a:pt x="22647" y="14486"/>
                </a:cubicBezTo>
              </a:path>
              <a:path w="3499" h="3672">
                <a:moveTo>
                  <a:pt x="20464" y="14982"/>
                </a:moveTo>
                <a:cubicBezTo>
                  <a:pt x="20498" y="14969"/>
                  <a:pt x="20610" y="14897"/>
                  <a:pt x="20613" y="14957"/>
                </a:cubicBezTo>
                <a:cubicBezTo>
                  <a:pt x="20618" y="15040"/>
                  <a:pt x="20612" y="15032"/>
                  <a:pt x="20563" y="15081"/>
                </a:cubicBezTo>
                <a:cubicBezTo>
                  <a:pt x="20626" y="15081"/>
                  <a:pt x="20665" y="15133"/>
                  <a:pt x="20662" y="15205"/>
                </a:cubicBezTo>
                <a:cubicBezTo>
                  <a:pt x="20658" y="15291"/>
                  <a:pt x="20547" y="15280"/>
                  <a:pt x="20489" y="15280"/>
                </a:cubicBezTo>
                <a:cubicBezTo>
                  <a:pt x="20464" y="15280"/>
                  <a:pt x="20456" y="15280"/>
                  <a:pt x="20464" y="15255"/>
                </a:cubicBezTo>
              </a:path>
              <a:path w="3499" h="3672">
                <a:moveTo>
                  <a:pt x="20811" y="14833"/>
                </a:moveTo>
                <a:cubicBezTo>
                  <a:pt x="20766" y="14970"/>
                  <a:pt x="20735" y="15112"/>
                  <a:pt x="20786" y="15255"/>
                </a:cubicBezTo>
                <a:cubicBezTo>
                  <a:pt x="20798" y="15289"/>
                  <a:pt x="20882" y="15298"/>
                  <a:pt x="20910" y="15304"/>
                </a:cubicBezTo>
              </a:path>
              <a:path w="3499" h="3672">
                <a:moveTo>
                  <a:pt x="20985" y="14908"/>
                </a:moveTo>
                <a:cubicBezTo>
                  <a:pt x="20999" y="14993"/>
                  <a:pt x="21039" y="15072"/>
                  <a:pt x="21059" y="15156"/>
                </a:cubicBezTo>
                <a:cubicBezTo>
                  <a:pt x="21059" y="15164"/>
                  <a:pt x="21059" y="15172"/>
                  <a:pt x="21059" y="15180"/>
                </a:cubicBezTo>
              </a:path>
              <a:path w="3499" h="3672">
                <a:moveTo>
                  <a:pt x="21208" y="14908"/>
                </a:moveTo>
                <a:cubicBezTo>
                  <a:pt x="21191" y="14990"/>
                  <a:pt x="21180" y="15022"/>
                  <a:pt x="21208" y="15106"/>
                </a:cubicBezTo>
                <a:cubicBezTo>
                  <a:pt x="21286" y="15132"/>
                  <a:pt x="21372" y="15104"/>
                  <a:pt x="21332" y="14982"/>
                </a:cubicBezTo>
                <a:cubicBezTo>
                  <a:pt x="21298" y="14876"/>
                  <a:pt x="21266" y="14933"/>
                  <a:pt x="21233" y="14883"/>
                </a:cubicBezTo>
              </a:path>
              <a:path w="3499" h="3672">
                <a:moveTo>
                  <a:pt x="21679" y="14883"/>
                </a:moveTo>
                <a:cubicBezTo>
                  <a:pt x="21679" y="14974"/>
                  <a:pt x="21690" y="15045"/>
                  <a:pt x="21704" y="15131"/>
                </a:cubicBezTo>
              </a:path>
              <a:path w="3499" h="3672">
                <a:moveTo>
                  <a:pt x="21903" y="14883"/>
                </a:moveTo>
                <a:cubicBezTo>
                  <a:pt x="22016" y="14857"/>
                  <a:pt x="21990" y="14845"/>
                  <a:pt x="22076" y="14883"/>
                </a:cubicBezTo>
                <a:cubicBezTo>
                  <a:pt x="22056" y="14975"/>
                  <a:pt x="22002" y="15026"/>
                  <a:pt x="21952" y="15106"/>
                </a:cubicBezTo>
                <a:cubicBezTo>
                  <a:pt x="22028" y="15100"/>
                  <a:pt x="22100" y="15089"/>
                  <a:pt x="22175" y="15081"/>
                </a:cubicBezTo>
              </a:path>
              <a:path w="3499" h="3672">
                <a:moveTo>
                  <a:pt x="20687" y="15329"/>
                </a:moveTo>
                <a:cubicBezTo>
                  <a:pt x="20738" y="15456"/>
                  <a:pt x="20709" y="15459"/>
                  <a:pt x="20861" y="15429"/>
                </a:cubicBezTo>
                <a:cubicBezTo>
                  <a:pt x="20982" y="15405"/>
                  <a:pt x="21083" y="15354"/>
                  <a:pt x="21208" y="15354"/>
                </a:cubicBezTo>
                <a:cubicBezTo>
                  <a:pt x="21198" y="15294"/>
                  <a:pt x="21183" y="15243"/>
                  <a:pt x="21183" y="15180"/>
                </a:cubicBezTo>
              </a:path>
              <a:path w="3499" h="3672">
                <a:moveTo>
                  <a:pt x="20662" y="15652"/>
                </a:moveTo>
                <a:cubicBezTo>
                  <a:pt x="20698" y="15623"/>
                  <a:pt x="20769" y="15560"/>
                  <a:pt x="20786" y="15627"/>
                </a:cubicBezTo>
                <a:cubicBezTo>
                  <a:pt x="20797" y="15674"/>
                  <a:pt x="20765" y="15687"/>
                  <a:pt x="20737" y="15701"/>
                </a:cubicBezTo>
                <a:cubicBezTo>
                  <a:pt x="20775" y="15701"/>
                  <a:pt x="20909" y="15686"/>
                  <a:pt x="20861" y="15776"/>
                </a:cubicBezTo>
                <a:cubicBezTo>
                  <a:pt x="20819" y="15855"/>
                  <a:pt x="20675" y="15903"/>
                  <a:pt x="20712" y="15776"/>
                </a:cubicBezTo>
              </a:path>
              <a:path w="3499" h="3672">
                <a:moveTo>
                  <a:pt x="21059" y="15528"/>
                </a:moveTo>
                <a:cubicBezTo>
                  <a:pt x="20987" y="15633"/>
                  <a:pt x="20985" y="15594"/>
                  <a:pt x="20985" y="15726"/>
                </a:cubicBezTo>
                <a:cubicBezTo>
                  <a:pt x="21079" y="15720"/>
                  <a:pt x="21266" y="15707"/>
                  <a:pt x="21158" y="15553"/>
                </a:cubicBezTo>
                <a:cubicBezTo>
                  <a:pt x="21118" y="15533"/>
                  <a:pt x="21112" y="15524"/>
                  <a:pt x="21084" y="15528"/>
                </a:cubicBezTo>
              </a:path>
              <a:path w="3499" h="3672">
                <a:moveTo>
                  <a:pt x="21605" y="15453"/>
                </a:moveTo>
                <a:cubicBezTo>
                  <a:pt x="21646" y="15446"/>
                  <a:pt x="21688" y="15436"/>
                  <a:pt x="21729" y="15429"/>
                </a:cubicBezTo>
                <a:cubicBezTo>
                  <a:pt x="21768" y="15506"/>
                  <a:pt x="21754" y="15553"/>
                  <a:pt x="21704" y="15627"/>
                </a:cubicBezTo>
                <a:cubicBezTo>
                  <a:pt x="21768" y="15666"/>
                  <a:pt x="21807" y="15654"/>
                  <a:pt x="21878" y="15627"/>
                </a:cubicBezTo>
              </a:path>
              <a:path w="3499" h="3672">
                <a:moveTo>
                  <a:pt x="22101" y="15478"/>
                </a:moveTo>
                <a:cubicBezTo>
                  <a:pt x="22134" y="15478"/>
                  <a:pt x="22167" y="15478"/>
                  <a:pt x="22200" y="15478"/>
                </a:cubicBezTo>
              </a:path>
              <a:path w="3499" h="3672">
                <a:moveTo>
                  <a:pt x="22572" y="15156"/>
                </a:moveTo>
                <a:cubicBezTo>
                  <a:pt x="22600" y="15145"/>
                  <a:pt x="22842" y="15061"/>
                  <a:pt x="22771" y="15180"/>
                </a:cubicBezTo>
                <a:cubicBezTo>
                  <a:pt x="22713" y="15238"/>
                  <a:pt x="22704" y="15247"/>
                  <a:pt x="22671" y="15280"/>
                </a:cubicBezTo>
                <a:cubicBezTo>
                  <a:pt x="22730" y="15280"/>
                  <a:pt x="22771" y="15273"/>
                  <a:pt x="22820" y="15255"/>
                </a:cubicBezTo>
                <a:cubicBezTo>
                  <a:pt x="22827" y="15337"/>
                  <a:pt x="22704" y="15619"/>
                  <a:pt x="22572" y="15503"/>
                </a:cubicBezTo>
                <a:cubicBezTo>
                  <a:pt x="22572" y="15470"/>
                  <a:pt x="22572" y="15437"/>
                  <a:pt x="22572" y="15404"/>
                </a:cubicBezTo>
              </a:path>
              <a:path w="3499" h="3672">
                <a:moveTo>
                  <a:pt x="22920" y="15081"/>
                </a:moveTo>
                <a:cubicBezTo>
                  <a:pt x="22977" y="15058"/>
                  <a:pt x="23075" y="14975"/>
                  <a:pt x="23143" y="15056"/>
                </a:cubicBezTo>
                <a:cubicBezTo>
                  <a:pt x="23255" y="15190"/>
                  <a:pt x="23039" y="15301"/>
                  <a:pt x="22994" y="15379"/>
                </a:cubicBezTo>
                <a:cubicBezTo>
                  <a:pt x="23002" y="15379"/>
                  <a:pt x="23011" y="15379"/>
                  <a:pt x="23019" y="15379"/>
                </a:cubicBezTo>
                <a:cubicBezTo>
                  <a:pt x="23148" y="15364"/>
                  <a:pt x="23260" y="15320"/>
                  <a:pt x="23391" y="15304"/>
                </a:cubicBezTo>
              </a:path>
              <a:path w="3499" h="3672">
                <a:moveTo>
                  <a:pt x="22473" y="15652"/>
                </a:moveTo>
                <a:cubicBezTo>
                  <a:pt x="22743" y="15689"/>
                  <a:pt x="22977" y="15721"/>
                  <a:pt x="23242" y="15627"/>
                </a:cubicBezTo>
                <a:cubicBezTo>
                  <a:pt x="23399" y="15572"/>
                  <a:pt x="23686" y="15404"/>
                  <a:pt x="23738" y="15230"/>
                </a:cubicBezTo>
                <a:cubicBezTo>
                  <a:pt x="23790" y="15055"/>
                  <a:pt x="23644" y="14831"/>
                  <a:pt x="23490" y="14759"/>
                </a:cubicBezTo>
                <a:cubicBezTo>
                  <a:pt x="23246" y="14644"/>
                  <a:pt x="22968" y="14684"/>
                  <a:pt x="22721" y="14759"/>
                </a:cubicBezTo>
                <a:cubicBezTo>
                  <a:pt x="22433" y="14847"/>
                  <a:pt x="22143" y="15057"/>
                  <a:pt x="22225" y="15404"/>
                </a:cubicBezTo>
                <a:cubicBezTo>
                  <a:pt x="22289" y="15678"/>
                  <a:pt x="22511" y="15633"/>
                  <a:pt x="2272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5840" y="4518000"/>
            <a:ext cx="17280" cy="260280"/>
          </a:xfrm>
          <a:custGeom>
            <a:avLst/>
            <a:gdLst/>
            <a:ahLst/>
            <a:rect l="l" t="t" r="r" b="b"/>
            <a:pathLst>
              <a:path w="50" h="721">
                <a:moveTo>
                  <a:pt x="7293" y="12551"/>
                </a:moveTo>
                <a:cubicBezTo>
                  <a:pt x="7301" y="12760"/>
                  <a:pt x="7322" y="12965"/>
                  <a:pt x="7342" y="13171"/>
                </a:cubicBezTo>
                <a:cubicBezTo>
                  <a:pt x="7346" y="13212"/>
                  <a:pt x="7342" y="13288"/>
                  <a:pt x="7342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9040" y="4483080"/>
            <a:ext cx="16200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7665" y="12700"/>
                </a:moveTo>
                <a:cubicBezTo>
                  <a:pt x="7665" y="12667"/>
                  <a:pt x="7665" y="12634"/>
                  <a:pt x="7665" y="12601"/>
                </a:cubicBezTo>
                <a:cubicBezTo>
                  <a:pt x="7665" y="12700"/>
                  <a:pt x="7665" y="12799"/>
                  <a:pt x="7665" y="12898"/>
                </a:cubicBezTo>
                <a:cubicBezTo>
                  <a:pt x="7752" y="12876"/>
                  <a:pt x="7838" y="12853"/>
                  <a:pt x="7938" y="12849"/>
                </a:cubicBezTo>
                <a:cubicBezTo>
                  <a:pt x="7990" y="12847"/>
                  <a:pt x="7995" y="12863"/>
                  <a:pt x="8037" y="12874"/>
                </a:cubicBezTo>
                <a:cubicBezTo>
                  <a:pt x="8020" y="12739"/>
                  <a:pt x="7993" y="12625"/>
                  <a:pt x="7938" y="12502"/>
                </a:cubicBezTo>
                <a:cubicBezTo>
                  <a:pt x="7874" y="12358"/>
                  <a:pt x="8035" y="12862"/>
                  <a:pt x="8037" y="12874"/>
                </a:cubicBezTo>
                <a:cubicBezTo>
                  <a:pt x="8040" y="12887"/>
                  <a:pt x="8067" y="13246"/>
                  <a:pt x="8111" y="13246"/>
                </a:cubicBezTo>
                <a:cubicBezTo>
                  <a:pt x="8111" y="13238"/>
                  <a:pt x="8111" y="13229"/>
                  <a:pt x="8111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1920" y="5259240"/>
            <a:ext cx="6912000" cy="884520"/>
          </a:xfrm>
          <a:custGeom>
            <a:avLst/>
            <a:gdLst/>
            <a:ahLst/>
            <a:rect l="l" t="t" r="r" b="b"/>
            <a:pathLst>
              <a:path w="19200" h="2457">
                <a:moveTo>
                  <a:pt x="3423" y="14610"/>
                </a:moveTo>
                <a:cubicBezTo>
                  <a:pt x="3423" y="14618"/>
                  <a:pt x="3423" y="14627"/>
                  <a:pt x="3423" y="14635"/>
                </a:cubicBezTo>
              </a:path>
              <a:path w="19200" h="2457">
                <a:moveTo>
                  <a:pt x="14387" y="15751"/>
                </a:moveTo>
                <a:lnTo>
                  <a:pt x="14387" y="15751"/>
                </a:lnTo>
                <a:lnTo>
                  <a:pt x="14387" y="15751"/>
                </a:lnTo>
              </a:path>
              <a:path w="19200" h="2457">
                <a:moveTo>
                  <a:pt x="14486" y="16024"/>
                </a:moveTo>
                <a:cubicBezTo>
                  <a:pt x="14601" y="16158"/>
                  <a:pt x="14680" y="16286"/>
                  <a:pt x="14684" y="16470"/>
                </a:cubicBezTo>
                <a:cubicBezTo>
                  <a:pt x="14687" y="16596"/>
                  <a:pt x="14647" y="16615"/>
                  <a:pt x="14560" y="16669"/>
                </a:cubicBezTo>
              </a:path>
              <a:path w="19200" h="2457">
                <a:moveTo>
                  <a:pt x="14982" y="16470"/>
                </a:moveTo>
                <a:lnTo>
                  <a:pt x="14982" y="16470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15032" y="16446"/>
                </a:moveTo>
                <a:lnTo>
                  <a:pt x="15032" y="16446"/>
                </a:lnTo>
              </a:path>
              <a:path w="19200" h="2457">
                <a:moveTo>
                  <a:pt x="21158" y="16321"/>
                </a:moveTo>
                <a:lnTo>
                  <a:pt x="21158" y="16321"/>
                </a:lnTo>
                <a:lnTo>
                  <a:pt x="21158" y="16321"/>
                </a:lnTo>
              </a:path>
              <a:path w="19200" h="2457">
                <a:moveTo>
                  <a:pt x="20811" y="16173"/>
                </a:moveTo>
                <a:cubicBezTo>
                  <a:pt x="20792" y="16227"/>
                  <a:pt x="20733" y="16311"/>
                  <a:pt x="20712" y="16396"/>
                </a:cubicBezTo>
                <a:cubicBezTo>
                  <a:pt x="20685" y="16504"/>
                  <a:pt x="20657" y="16607"/>
                  <a:pt x="20737" y="16694"/>
                </a:cubicBezTo>
                <a:cubicBezTo>
                  <a:pt x="20759" y="16716"/>
                  <a:pt x="20764" y="16724"/>
                  <a:pt x="20786" y="16718"/>
                </a:cubicBezTo>
              </a:path>
              <a:path w="19200" h="2457">
                <a:moveTo>
                  <a:pt x="21456" y="16073"/>
                </a:moveTo>
                <a:cubicBezTo>
                  <a:pt x="21562" y="16232"/>
                  <a:pt x="21662" y="16369"/>
                  <a:pt x="21580" y="16570"/>
                </a:cubicBezTo>
                <a:cubicBezTo>
                  <a:pt x="21538" y="16633"/>
                  <a:pt x="21534" y="16658"/>
                  <a:pt x="21481" y="16644"/>
                </a:cubicBezTo>
              </a:path>
              <a:path w="19200" h="2457">
                <a:moveTo>
                  <a:pt x="21481" y="16892"/>
                </a:moveTo>
                <a:cubicBezTo>
                  <a:pt x="21487" y="16957"/>
                  <a:pt x="21498" y="17003"/>
                  <a:pt x="21506" y="17066"/>
                </a:cubicBezTo>
              </a:path>
              <a:path w="19200" h="2457">
                <a:moveTo>
                  <a:pt x="22423" y="16842"/>
                </a:moveTo>
                <a:cubicBezTo>
                  <a:pt x="22487" y="16824"/>
                  <a:pt x="22557" y="16793"/>
                  <a:pt x="22622" y="16768"/>
                </a:cubicBezTo>
              </a:path>
              <a:path w="19200" h="2457">
                <a:moveTo>
                  <a:pt x="22622" y="16768"/>
                </a:moveTo>
                <a:lnTo>
                  <a:pt x="22622" y="1676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59000" y="5357880"/>
            <a:ext cx="447840" cy="366480"/>
          </a:xfrm>
          <a:custGeom>
            <a:avLst/>
            <a:gdLst/>
            <a:ahLst/>
            <a:rect l="l" t="t" r="r" b="b"/>
            <a:pathLst>
              <a:path w="1241" h="1018">
                <a:moveTo>
                  <a:pt x="7069" y="14908"/>
                </a:moveTo>
                <a:cubicBezTo>
                  <a:pt x="7015" y="14980"/>
                  <a:pt x="6980" y="15049"/>
                  <a:pt x="6945" y="15131"/>
                </a:cubicBezTo>
                <a:cubicBezTo>
                  <a:pt x="7057" y="15159"/>
                  <a:pt x="7220" y="15165"/>
                  <a:pt x="7169" y="14982"/>
                </a:cubicBezTo>
                <a:cubicBezTo>
                  <a:pt x="7146" y="14901"/>
                  <a:pt x="7119" y="14956"/>
                  <a:pt x="7119" y="14883"/>
                </a:cubicBezTo>
              </a:path>
              <a:path w="1241" h="1018">
                <a:moveTo>
                  <a:pt x="6350" y="15280"/>
                </a:moveTo>
                <a:cubicBezTo>
                  <a:pt x="6390" y="15306"/>
                  <a:pt x="6375" y="15365"/>
                  <a:pt x="6375" y="15429"/>
                </a:cubicBezTo>
                <a:cubicBezTo>
                  <a:pt x="6533" y="15413"/>
                  <a:pt x="6685" y="15383"/>
                  <a:pt x="6846" y="15379"/>
                </a:cubicBezTo>
                <a:cubicBezTo>
                  <a:pt x="6920" y="15379"/>
                  <a:pt x="6929" y="15379"/>
                  <a:pt x="6970" y="15379"/>
                </a:cubicBezTo>
                <a:cubicBezTo>
                  <a:pt x="6970" y="15329"/>
                  <a:pt x="6970" y="15280"/>
                  <a:pt x="6970" y="15230"/>
                </a:cubicBezTo>
              </a:path>
              <a:path w="1241" h="1018">
                <a:moveTo>
                  <a:pt x="6424" y="15677"/>
                </a:moveTo>
                <a:cubicBezTo>
                  <a:pt x="6370" y="15677"/>
                  <a:pt x="6335" y="15643"/>
                  <a:pt x="6424" y="15602"/>
                </a:cubicBezTo>
                <a:cubicBezTo>
                  <a:pt x="6507" y="15581"/>
                  <a:pt x="6522" y="15573"/>
                  <a:pt x="6573" y="15577"/>
                </a:cubicBezTo>
                <a:cubicBezTo>
                  <a:pt x="6544" y="15636"/>
                  <a:pt x="6429" y="15819"/>
                  <a:pt x="6424" y="15751"/>
                </a:cubicBezTo>
                <a:cubicBezTo>
                  <a:pt x="6465" y="15745"/>
                  <a:pt x="6679" y="15709"/>
                  <a:pt x="6573" y="15825"/>
                </a:cubicBezTo>
                <a:cubicBezTo>
                  <a:pt x="6451" y="15959"/>
                  <a:pt x="6301" y="15931"/>
                  <a:pt x="6300" y="15776"/>
                </a:cubicBezTo>
              </a:path>
              <a:path w="1241" h="1018">
                <a:moveTo>
                  <a:pt x="6871" y="15528"/>
                </a:moveTo>
                <a:cubicBezTo>
                  <a:pt x="6798" y="15641"/>
                  <a:pt x="6781" y="15719"/>
                  <a:pt x="6821" y="15850"/>
                </a:cubicBezTo>
                <a:cubicBezTo>
                  <a:pt x="6953" y="15824"/>
                  <a:pt x="7114" y="15715"/>
                  <a:pt x="6921" y="15577"/>
                </a:cubicBezTo>
                <a:cubicBezTo>
                  <a:pt x="6888" y="15569"/>
                  <a:pt x="6854" y="15561"/>
                  <a:pt x="6821" y="15553"/>
                </a:cubicBezTo>
              </a:path>
              <a:path w="1241" h="1018">
                <a:moveTo>
                  <a:pt x="7144" y="15652"/>
                </a:moveTo>
                <a:cubicBezTo>
                  <a:pt x="7232" y="15669"/>
                  <a:pt x="7302" y="15677"/>
                  <a:pt x="7392" y="15677"/>
                </a:cubicBezTo>
              </a:path>
              <a:path w="1241" h="1018">
                <a:moveTo>
                  <a:pt x="7516" y="15453"/>
                </a:moveTo>
                <a:cubicBezTo>
                  <a:pt x="7516" y="15577"/>
                  <a:pt x="7516" y="15701"/>
                  <a:pt x="7516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81240" y="5384880"/>
            <a:ext cx="366840" cy="250920"/>
          </a:xfrm>
          <a:custGeom>
            <a:avLst/>
            <a:gdLst/>
            <a:ahLst/>
            <a:rect l="l" t="t" r="r" b="b"/>
            <a:pathLst>
              <a:path w="1018" h="696">
                <a:moveTo>
                  <a:pt x="8930" y="15007"/>
                </a:moveTo>
                <a:cubicBezTo>
                  <a:pt x="8919" y="15052"/>
                  <a:pt x="8893" y="15087"/>
                  <a:pt x="8855" y="15106"/>
                </a:cubicBezTo>
                <a:cubicBezTo>
                  <a:pt x="8905" y="15027"/>
                  <a:pt x="9144" y="14847"/>
                  <a:pt x="9103" y="15106"/>
                </a:cubicBezTo>
                <a:cubicBezTo>
                  <a:pt x="9061" y="15370"/>
                  <a:pt x="8796" y="15492"/>
                  <a:pt x="8582" y="15503"/>
                </a:cubicBezTo>
                <a:cubicBezTo>
                  <a:pt x="8583" y="15328"/>
                  <a:pt x="8749" y="15263"/>
                  <a:pt x="8905" y="15404"/>
                </a:cubicBezTo>
                <a:cubicBezTo>
                  <a:pt x="8943" y="15438"/>
                  <a:pt x="8951" y="15558"/>
                  <a:pt x="8979" y="15503"/>
                </a:cubicBezTo>
              </a:path>
              <a:path w="1018" h="696">
                <a:moveTo>
                  <a:pt x="9525" y="15032"/>
                </a:moveTo>
                <a:cubicBezTo>
                  <a:pt x="9480" y="14928"/>
                  <a:pt x="9405" y="14916"/>
                  <a:pt x="9327" y="15032"/>
                </a:cubicBezTo>
                <a:cubicBezTo>
                  <a:pt x="9225" y="15183"/>
                  <a:pt x="9327" y="15340"/>
                  <a:pt x="9475" y="15180"/>
                </a:cubicBezTo>
                <a:cubicBezTo>
                  <a:pt x="9508" y="15131"/>
                  <a:pt x="9542" y="15081"/>
                  <a:pt x="9575" y="15032"/>
                </a:cubicBezTo>
                <a:cubicBezTo>
                  <a:pt x="9575" y="15015"/>
                  <a:pt x="9575" y="14999"/>
                  <a:pt x="9575" y="14982"/>
                </a:cubicBezTo>
                <a:cubicBezTo>
                  <a:pt x="9561" y="15180"/>
                  <a:pt x="9528" y="15385"/>
                  <a:pt x="9475" y="15577"/>
                </a:cubicBezTo>
                <a:cubicBezTo>
                  <a:pt x="9455" y="15618"/>
                  <a:pt x="9447" y="15624"/>
                  <a:pt x="9451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75120" y="5286240"/>
            <a:ext cx="1117800" cy="785880"/>
          </a:xfrm>
          <a:custGeom>
            <a:avLst/>
            <a:gdLst/>
            <a:ahLst/>
            <a:rect l="l" t="t" r="r" b="b"/>
            <a:pathLst>
              <a:path w="3102" h="2184">
                <a:moveTo>
                  <a:pt x="14511" y="15528"/>
                </a:moveTo>
                <a:cubicBezTo>
                  <a:pt x="14536" y="15502"/>
                  <a:pt x="14623" y="15400"/>
                  <a:pt x="14660" y="15404"/>
                </a:cubicBezTo>
                <a:cubicBezTo>
                  <a:pt x="14668" y="15412"/>
                  <a:pt x="14676" y="15421"/>
                  <a:pt x="14684" y="15429"/>
                </a:cubicBezTo>
                <a:cubicBezTo>
                  <a:pt x="14667" y="15471"/>
                  <a:pt x="14652" y="15486"/>
                  <a:pt x="14610" y="15503"/>
                </a:cubicBezTo>
                <a:cubicBezTo>
                  <a:pt x="14673" y="15519"/>
                  <a:pt x="14742" y="15575"/>
                  <a:pt x="14734" y="15652"/>
                </a:cubicBezTo>
                <a:cubicBezTo>
                  <a:pt x="14721" y="15769"/>
                  <a:pt x="14560" y="15725"/>
                  <a:pt x="14511" y="15776"/>
                </a:cubicBezTo>
                <a:cubicBezTo>
                  <a:pt x="14519" y="15776"/>
                  <a:pt x="14528" y="15776"/>
                  <a:pt x="14536" y="15776"/>
                </a:cubicBezTo>
              </a:path>
              <a:path w="3102" h="2184">
                <a:moveTo>
                  <a:pt x="15453" y="15156"/>
                </a:moveTo>
                <a:cubicBezTo>
                  <a:pt x="15405" y="15354"/>
                  <a:pt x="15445" y="15126"/>
                  <a:pt x="15503" y="15156"/>
                </a:cubicBezTo>
                <a:cubicBezTo>
                  <a:pt x="15717" y="15268"/>
                  <a:pt x="15497" y="15540"/>
                  <a:pt x="15379" y="15627"/>
                </a:cubicBezTo>
                <a:cubicBezTo>
                  <a:pt x="15354" y="15635"/>
                  <a:pt x="15329" y="15644"/>
                  <a:pt x="15304" y="15652"/>
                </a:cubicBezTo>
                <a:cubicBezTo>
                  <a:pt x="15291" y="15570"/>
                  <a:pt x="15314" y="15337"/>
                  <a:pt x="15478" y="15429"/>
                </a:cubicBezTo>
                <a:cubicBezTo>
                  <a:pt x="15569" y="15480"/>
                  <a:pt x="15572" y="15583"/>
                  <a:pt x="15553" y="15652"/>
                </a:cubicBezTo>
              </a:path>
              <a:path w="3102" h="2184">
                <a:moveTo>
                  <a:pt x="15751" y="15106"/>
                </a:moveTo>
                <a:cubicBezTo>
                  <a:pt x="15775" y="15211"/>
                  <a:pt x="15729" y="15333"/>
                  <a:pt x="15875" y="15329"/>
                </a:cubicBezTo>
                <a:cubicBezTo>
                  <a:pt x="16004" y="15325"/>
                  <a:pt x="16053" y="15270"/>
                  <a:pt x="16123" y="15180"/>
                </a:cubicBezTo>
              </a:path>
              <a:path w="3102" h="2184">
                <a:moveTo>
                  <a:pt x="15999" y="14982"/>
                </a:moveTo>
                <a:cubicBezTo>
                  <a:pt x="15999" y="15224"/>
                  <a:pt x="16017" y="15465"/>
                  <a:pt x="15999" y="15701"/>
                </a:cubicBezTo>
                <a:cubicBezTo>
                  <a:pt x="15999" y="15709"/>
                  <a:pt x="15999" y="15718"/>
                  <a:pt x="15999" y="15726"/>
                </a:cubicBezTo>
              </a:path>
              <a:path w="3102" h="2184">
                <a:moveTo>
                  <a:pt x="15354" y="16024"/>
                </a:moveTo>
                <a:cubicBezTo>
                  <a:pt x="15677" y="16003"/>
                  <a:pt x="16005" y="15959"/>
                  <a:pt x="16297" y="15801"/>
                </a:cubicBezTo>
                <a:cubicBezTo>
                  <a:pt x="16546" y="15667"/>
                  <a:pt x="16728" y="15341"/>
                  <a:pt x="16619" y="15056"/>
                </a:cubicBezTo>
                <a:cubicBezTo>
                  <a:pt x="16508" y="14766"/>
                  <a:pt x="16212" y="14690"/>
                  <a:pt x="15949" y="14709"/>
                </a:cubicBezTo>
                <a:cubicBezTo>
                  <a:pt x="15692" y="14727"/>
                  <a:pt x="15447" y="14830"/>
                  <a:pt x="15304" y="15056"/>
                </a:cubicBezTo>
                <a:cubicBezTo>
                  <a:pt x="15179" y="15255"/>
                  <a:pt x="15142" y="15634"/>
                  <a:pt x="15304" y="15825"/>
                </a:cubicBezTo>
                <a:cubicBezTo>
                  <a:pt x="15474" y="16026"/>
                  <a:pt x="15726" y="15876"/>
                  <a:pt x="15925" y="15825"/>
                </a:cubicBezTo>
              </a:path>
              <a:path w="3102" h="2184">
                <a:moveTo>
                  <a:pt x="14387" y="16793"/>
                </a:moveTo>
                <a:cubicBezTo>
                  <a:pt x="14387" y="16843"/>
                  <a:pt x="14387" y="16854"/>
                  <a:pt x="14436" y="16867"/>
                </a:cubicBezTo>
                <a:cubicBezTo>
                  <a:pt x="14436" y="16839"/>
                  <a:pt x="14434" y="16829"/>
                  <a:pt x="14412" y="16818"/>
                </a:cubicBezTo>
              </a:path>
              <a:path w="3102" h="2184">
                <a:moveTo>
                  <a:pt x="13618" y="16049"/>
                </a:moveTo>
                <a:cubicBezTo>
                  <a:pt x="13690" y="16072"/>
                  <a:pt x="13553" y="16190"/>
                  <a:pt x="13543" y="16247"/>
                </a:cubicBezTo>
                <a:cubicBezTo>
                  <a:pt x="13521" y="16369"/>
                  <a:pt x="13545" y="16505"/>
                  <a:pt x="13568" y="16619"/>
                </a:cubicBezTo>
              </a:path>
              <a:path w="3102" h="2184">
                <a:moveTo>
                  <a:pt x="13990" y="16197"/>
                </a:moveTo>
                <a:cubicBezTo>
                  <a:pt x="13911" y="16207"/>
                  <a:pt x="13904" y="16217"/>
                  <a:pt x="13841" y="16272"/>
                </a:cubicBezTo>
                <a:cubicBezTo>
                  <a:pt x="13874" y="16355"/>
                  <a:pt x="13984" y="16403"/>
                  <a:pt x="14015" y="16495"/>
                </a:cubicBezTo>
                <a:cubicBezTo>
                  <a:pt x="14055" y="16615"/>
                  <a:pt x="13954" y="16601"/>
                  <a:pt x="13891" y="16594"/>
                </a:cubicBezTo>
                <a:cubicBezTo>
                  <a:pt x="13901" y="16471"/>
                  <a:pt x="13957" y="16389"/>
                  <a:pt x="13990" y="16272"/>
                </a:cubicBezTo>
                <a:cubicBezTo>
                  <a:pt x="13990" y="16247"/>
                  <a:pt x="13990" y="16239"/>
                  <a:pt x="13990" y="16222"/>
                </a:cubicBezTo>
              </a:path>
              <a:path w="3102" h="2184">
                <a:moveTo>
                  <a:pt x="14238" y="16297"/>
                </a:moveTo>
                <a:cubicBezTo>
                  <a:pt x="14238" y="16380"/>
                  <a:pt x="14238" y="16462"/>
                  <a:pt x="14238" y="16545"/>
                </a:cubicBezTo>
              </a:path>
              <a:path w="3102" h="2184">
                <a:moveTo>
                  <a:pt x="14163" y="16446"/>
                </a:moveTo>
                <a:cubicBezTo>
                  <a:pt x="14231" y="16432"/>
                  <a:pt x="14297" y="16400"/>
                  <a:pt x="14362" y="16371"/>
                </a:cubicBezTo>
              </a:path>
              <a:path w="3102" h="2184">
                <a:moveTo>
                  <a:pt x="14387" y="16247"/>
                </a:moveTo>
                <a:cubicBezTo>
                  <a:pt x="14485" y="16261"/>
                  <a:pt x="14491" y="16353"/>
                  <a:pt x="14436" y="16446"/>
                </a:cubicBezTo>
                <a:cubicBezTo>
                  <a:pt x="14412" y="16486"/>
                  <a:pt x="14366" y="16535"/>
                  <a:pt x="14337" y="16545"/>
                </a:cubicBezTo>
                <a:cubicBezTo>
                  <a:pt x="14381" y="16545"/>
                  <a:pt x="14449" y="16553"/>
                  <a:pt x="14486" y="16570"/>
                </a:cubicBezTo>
                <a:cubicBezTo>
                  <a:pt x="14527" y="16589"/>
                  <a:pt x="14535" y="16594"/>
                  <a:pt x="14585" y="16594"/>
                </a:cubicBezTo>
              </a:path>
              <a:path w="3102" h="2184">
                <a:moveTo>
                  <a:pt x="14982" y="16470"/>
                </a:moveTo>
                <a:cubicBezTo>
                  <a:pt x="15007" y="16470"/>
                  <a:pt x="15015" y="16470"/>
                  <a:pt x="15032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7760" y="5742000"/>
            <a:ext cx="1419120" cy="492120"/>
          </a:xfrm>
          <a:custGeom>
            <a:avLst/>
            <a:gdLst/>
            <a:ahLst/>
            <a:rect l="l" t="t" r="r" b="b"/>
            <a:pathLst>
              <a:path w="3945" h="1366">
                <a:moveTo>
                  <a:pt x="20513" y="16421"/>
                </a:moveTo>
                <a:cubicBezTo>
                  <a:pt x="20474" y="16421"/>
                  <a:pt x="20534" y="16384"/>
                  <a:pt x="20563" y="16371"/>
                </a:cubicBezTo>
                <a:cubicBezTo>
                  <a:pt x="20571" y="16371"/>
                  <a:pt x="20580" y="16371"/>
                  <a:pt x="20588" y="16371"/>
                </a:cubicBezTo>
                <a:cubicBezTo>
                  <a:pt x="20616" y="16417"/>
                  <a:pt x="20618" y="16450"/>
                  <a:pt x="20588" y="16495"/>
                </a:cubicBezTo>
                <a:cubicBezTo>
                  <a:pt x="20580" y="16503"/>
                  <a:pt x="20571" y="16512"/>
                  <a:pt x="20563" y="16520"/>
                </a:cubicBezTo>
                <a:cubicBezTo>
                  <a:pt x="20627" y="16533"/>
                  <a:pt x="20683" y="16564"/>
                  <a:pt x="20613" y="16644"/>
                </a:cubicBezTo>
                <a:cubicBezTo>
                  <a:pt x="20574" y="16688"/>
                  <a:pt x="20517" y="16694"/>
                  <a:pt x="20464" y="16694"/>
                </a:cubicBezTo>
              </a:path>
              <a:path w="3945" h="1366">
                <a:moveTo>
                  <a:pt x="20886" y="16346"/>
                </a:moveTo>
                <a:cubicBezTo>
                  <a:pt x="20886" y="16445"/>
                  <a:pt x="20886" y="16545"/>
                  <a:pt x="20886" y="16644"/>
                </a:cubicBezTo>
              </a:path>
              <a:path w="3945" h="1366">
                <a:moveTo>
                  <a:pt x="21134" y="16321"/>
                </a:moveTo>
                <a:cubicBezTo>
                  <a:pt x="21067" y="16348"/>
                  <a:pt x="21007" y="16437"/>
                  <a:pt x="21010" y="16520"/>
                </a:cubicBezTo>
                <a:cubicBezTo>
                  <a:pt x="21018" y="16537"/>
                  <a:pt x="21026" y="16553"/>
                  <a:pt x="21034" y="16570"/>
                </a:cubicBezTo>
                <a:cubicBezTo>
                  <a:pt x="21124" y="16570"/>
                  <a:pt x="21258" y="16544"/>
                  <a:pt x="21258" y="16421"/>
                </a:cubicBezTo>
                <a:cubicBezTo>
                  <a:pt x="21258" y="16330"/>
                  <a:pt x="21166" y="16321"/>
                  <a:pt x="21109" y="16321"/>
                </a:cubicBezTo>
              </a:path>
              <a:path w="3945" h="1366">
                <a:moveTo>
                  <a:pt x="21307" y="16297"/>
                </a:moveTo>
                <a:cubicBezTo>
                  <a:pt x="21291" y="16361"/>
                  <a:pt x="21216" y="16449"/>
                  <a:pt x="21282" y="16520"/>
                </a:cubicBezTo>
                <a:cubicBezTo>
                  <a:pt x="21367" y="16612"/>
                  <a:pt x="21513" y="16465"/>
                  <a:pt x="21506" y="16371"/>
                </a:cubicBezTo>
                <a:cubicBezTo>
                  <a:pt x="21499" y="16278"/>
                  <a:pt x="21426" y="16261"/>
                  <a:pt x="21357" y="16222"/>
                </a:cubicBezTo>
              </a:path>
              <a:path w="3945" h="1366">
                <a:moveTo>
                  <a:pt x="21704" y="16247"/>
                </a:moveTo>
                <a:cubicBezTo>
                  <a:pt x="21730" y="16325"/>
                  <a:pt x="21754" y="16388"/>
                  <a:pt x="21754" y="16470"/>
                </a:cubicBezTo>
              </a:path>
              <a:path w="3945" h="1366">
                <a:moveTo>
                  <a:pt x="21630" y="16396"/>
                </a:moveTo>
                <a:cubicBezTo>
                  <a:pt x="21704" y="16371"/>
                  <a:pt x="21779" y="16346"/>
                  <a:pt x="21853" y="16321"/>
                </a:cubicBezTo>
              </a:path>
              <a:path w="3945" h="1366">
                <a:moveTo>
                  <a:pt x="21977" y="16222"/>
                </a:moveTo>
                <a:cubicBezTo>
                  <a:pt x="21999" y="16196"/>
                  <a:pt x="22126" y="16108"/>
                  <a:pt x="22126" y="16222"/>
                </a:cubicBezTo>
                <a:cubicBezTo>
                  <a:pt x="22126" y="16325"/>
                  <a:pt x="22043" y="16380"/>
                  <a:pt x="22027" y="16470"/>
                </a:cubicBezTo>
                <a:cubicBezTo>
                  <a:pt x="22027" y="16478"/>
                  <a:pt x="22027" y="16487"/>
                  <a:pt x="22027" y="16495"/>
                </a:cubicBezTo>
                <a:cubicBezTo>
                  <a:pt x="22118" y="16495"/>
                  <a:pt x="22208" y="16495"/>
                  <a:pt x="22299" y="16495"/>
                </a:cubicBezTo>
              </a:path>
              <a:path w="3945" h="1366">
                <a:moveTo>
                  <a:pt x="20588" y="16842"/>
                </a:moveTo>
                <a:cubicBezTo>
                  <a:pt x="20588" y="16818"/>
                  <a:pt x="20588" y="16809"/>
                  <a:pt x="20588" y="16793"/>
                </a:cubicBezTo>
                <a:cubicBezTo>
                  <a:pt x="20588" y="16887"/>
                  <a:pt x="20615" y="16862"/>
                  <a:pt x="20712" y="16842"/>
                </a:cubicBezTo>
                <a:cubicBezTo>
                  <a:pt x="20814" y="16821"/>
                  <a:pt x="20906" y="16818"/>
                  <a:pt x="21010" y="16818"/>
                </a:cubicBezTo>
                <a:cubicBezTo>
                  <a:pt x="21054" y="16818"/>
                  <a:pt x="21068" y="16821"/>
                  <a:pt x="21084" y="16793"/>
                </a:cubicBezTo>
                <a:cubicBezTo>
                  <a:pt x="21061" y="16742"/>
                  <a:pt x="21043" y="16698"/>
                  <a:pt x="21034" y="16644"/>
                </a:cubicBezTo>
              </a:path>
              <a:path w="3945" h="1366">
                <a:moveTo>
                  <a:pt x="20464" y="16991"/>
                </a:moveTo>
                <a:cubicBezTo>
                  <a:pt x="20499" y="17005"/>
                  <a:pt x="20618" y="16958"/>
                  <a:pt x="20638" y="17016"/>
                </a:cubicBezTo>
                <a:cubicBezTo>
                  <a:pt x="20666" y="17100"/>
                  <a:pt x="20618" y="17109"/>
                  <a:pt x="20563" y="17140"/>
                </a:cubicBezTo>
                <a:cubicBezTo>
                  <a:pt x="20599" y="17149"/>
                  <a:pt x="20691" y="17155"/>
                  <a:pt x="20662" y="17214"/>
                </a:cubicBezTo>
                <a:cubicBezTo>
                  <a:pt x="20623" y="17293"/>
                  <a:pt x="20557" y="17331"/>
                  <a:pt x="20489" y="17289"/>
                </a:cubicBezTo>
              </a:path>
              <a:path w="3945" h="1366">
                <a:moveTo>
                  <a:pt x="20861" y="16991"/>
                </a:moveTo>
                <a:cubicBezTo>
                  <a:pt x="20833" y="17081"/>
                  <a:pt x="20818" y="17128"/>
                  <a:pt x="20836" y="17214"/>
                </a:cubicBezTo>
                <a:cubicBezTo>
                  <a:pt x="20929" y="17214"/>
                  <a:pt x="21001" y="17217"/>
                  <a:pt x="20985" y="17090"/>
                </a:cubicBezTo>
                <a:cubicBezTo>
                  <a:pt x="20978" y="17038"/>
                  <a:pt x="20868" y="17028"/>
                  <a:pt x="20861" y="17041"/>
                </a:cubicBezTo>
              </a:path>
              <a:path w="3945" h="1366">
                <a:moveTo>
                  <a:pt x="21134" y="16942"/>
                </a:moveTo>
                <a:cubicBezTo>
                  <a:pt x="21134" y="17076"/>
                  <a:pt x="21123" y="17133"/>
                  <a:pt x="21233" y="17214"/>
                </a:cubicBezTo>
                <a:cubicBezTo>
                  <a:pt x="21323" y="17124"/>
                  <a:pt x="21330" y="17046"/>
                  <a:pt x="21208" y="16966"/>
                </a:cubicBezTo>
                <a:cubicBezTo>
                  <a:pt x="21167" y="16946"/>
                  <a:pt x="21150" y="16949"/>
                  <a:pt x="21158" y="16917"/>
                </a:cubicBezTo>
              </a:path>
              <a:path w="3945" h="1366">
                <a:moveTo>
                  <a:pt x="21382" y="17016"/>
                </a:moveTo>
                <a:cubicBezTo>
                  <a:pt x="21496" y="16999"/>
                  <a:pt x="21580" y="16970"/>
                  <a:pt x="21679" y="16917"/>
                </a:cubicBezTo>
              </a:path>
              <a:path w="3945" h="1366">
                <a:moveTo>
                  <a:pt x="21704" y="16867"/>
                </a:moveTo>
                <a:cubicBezTo>
                  <a:pt x="21746" y="16859"/>
                  <a:pt x="21806" y="16822"/>
                  <a:pt x="21853" y="16842"/>
                </a:cubicBezTo>
                <a:cubicBezTo>
                  <a:pt x="21937" y="16877"/>
                  <a:pt x="21846" y="17036"/>
                  <a:pt x="21803" y="17066"/>
                </a:cubicBezTo>
                <a:cubicBezTo>
                  <a:pt x="21758" y="17098"/>
                  <a:pt x="21891" y="17046"/>
                  <a:pt x="21903" y="17041"/>
                </a:cubicBezTo>
                <a:cubicBezTo>
                  <a:pt x="21951" y="17017"/>
                  <a:pt x="21965" y="17008"/>
                  <a:pt x="22002" y="17016"/>
                </a:cubicBezTo>
              </a:path>
              <a:path w="3945" h="1366">
                <a:moveTo>
                  <a:pt x="22423" y="16743"/>
                </a:moveTo>
                <a:cubicBezTo>
                  <a:pt x="22476" y="16743"/>
                  <a:pt x="22486" y="16736"/>
                  <a:pt x="22547" y="16718"/>
                </a:cubicBezTo>
              </a:path>
              <a:path w="3945" h="1366">
                <a:moveTo>
                  <a:pt x="22895" y="16545"/>
                </a:moveTo>
                <a:cubicBezTo>
                  <a:pt x="22961" y="16536"/>
                  <a:pt x="23106" y="16469"/>
                  <a:pt x="23143" y="16570"/>
                </a:cubicBezTo>
                <a:cubicBezTo>
                  <a:pt x="23152" y="16594"/>
                  <a:pt x="23037" y="16658"/>
                  <a:pt x="23019" y="16669"/>
                </a:cubicBezTo>
                <a:cubicBezTo>
                  <a:pt x="23080" y="16669"/>
                  <a:pt x="23112" y="16675"/>
                  <a:pt x="23168" y="16694"/>
                </a:cubicBezTo>
                <a:cubicBezTo>
                  <a:pt x="23141" y="16812"/>
                  <a:pt x="23083" y="16888"/>
                  <a:pt x="22944" y="16867"/>
                </a:cubicBezTo>
                <a:cubicBezTo>
                  <a:pt x="22936" y="16859"/>
                  <a:pt x="22928" y="16850"/>
                  <a:pt x="22920" y="16842"/>
                </a:cubicBezTo>
              </a:path>
              <a:path w="3945" h="1366">
                <a:moveTo>
                  <a:pt x="23292" y="16470"/>
                </a:moveTo>
                <a:cubicBezTo>
                  <a:pt x="23214" y="16531"/>
                  <a:pt x="23184" y="16579"/>
                  <a:pt x="23143" y="16669"/>
                </a:cubicBezTo>
                <a:cubicBezTo>
                  <a:pt x="23220" y="16746"/>
                  <a:pt x="23380" y="16849"/>
                  <a:pt x="23440" y="16669"/>
                </a:cubicBezTo>
                <a:cubicBezTo>
                  <a:pt x="23483" y="16539"/>
                  <a:pt x="23374" y="16463"/>
                  <a:pt x="23267" y="16446"/>
                </a:cubicBezTo>
              </a:path>
              <a:path w="3945" h="1366">
                <a:moveTo>
                  <a:pt x="23564" y="16346"/>
                </a:moveTo>
                <a:cubicBezTo>
                  <a:pt x="23697" y="16333"/>
                  <a:pt x="23780" y="16333"/>
                  <a:pt x="23912" y="16371"/>
                </a:cubicBezTo>
                <a:cubicBezTo>
                  <a:pt x="23896" y="16573"/>
                  <a:pt x="23808" y="16550"/>
                  <a:pt x="23688" y="16694"/>
                </a:cubicBezTo>
                <a:cubicBezTo>
                  <a:pt x="23688" y="16702"/>
                  <a:pt x="23688" y="16710"/>
                  <a:pt x="23688" y="16718"/>
                </a:cubicBezTo>
                <a:cubicBezTo>
                  <a:pt x="23774" y="16706"/>
                  <a:pt x="23849" y="16694"/>
                  <a:pt x="23937" y="16694"/>
                </a:cubicBezTo>
                <a:cubicBezTo>
                  <a:pt x="23953" y="16694"/>
                  <a:pt x="23970" y="16694"/>
                  <a:pt x="23986" y="16694"/>
                </a:cubicBezTo>
              </a:path>
              <a:path w="3945" h="1366">
                <a:moveTo>
                  <a:pt x="22597" y="17190"/>
                </a:moveTo>
                <a:cubicBezTo>
                  <a:pt x="22881" y="17168"/>
                  <a:pt x="23164" y="17112"/>
                  <a:pt x="23440" y="17041"/>
                </a:cubicBezTo>
                <a:cubicBezTo>
                  <a:pt x="23739" y="16964"/>
                  <a:pt x="23949" y="16832"/>
                  <a:pt x="24185" y="16644"/>
                </a:cubicBezTo>
                <a:cubicBezTo>
                  <a:pt x="24322" y="16535"/>
                  <a:pt x="24447" y="16413"/>
                  <a:pt x="24383" y="16222"/>
                </a:cubicBezTo>
                <a:cubicBezTo>
                  <a:pt x="24330" y="16064"/>
                  <a:pt x="24004" y="15967"/>
                  <a:pt x="23862" y="15949"/>
                </a:cubicBezTo>
                <a:cubicBezTo>
                  <a:pt x="23494" y="15903"/>
                  <a:pt x="23106" y="16011"/>
                  <a:pt x="22845" y="16272"/>
                </a:cubicBezTo>
                <a:cubicBezTo>
                  <a:pt x="22631" y="16486"/>
                  <a:pt x="22622" y="16641"/>
                  <a:pt x="22597" y="16917"/>
                </a:cubicBezTo>
                <a:cubicBezTo>
                  <a:pt x="22937" y="17051"/>
                  <a:pt x="23083" y="17023"/>
                  <a:pt x="23465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1120" y="5946840"/>
            <a:ext cx="71640" cy="90360"/>
          </a:xfrm>
          <a:custGeom>
            <a:avLst/>
            <a:gdLst/>
            <a:ahLst/>
            <a:rect l="l" t="t" r="r" b="b"/>
            <a:pathLst>
              <a:path w="199" h="249">
                <a:moveTo>
                  <a:pt x="1166" y="16644"/>
                </a:moveTo>
                <a:cubicBezTo>
                  <a:pt x="1166" y="16636"/>
                  <a:pt x="1166" y="16627"/>
                  <a:pt x="1166" y="16619"/>
                </a:cubicBezTo>
                <a:cubicBezTo>
                  <a:pt x="1166" y="16560"/>
                  <a:pt x="1134" y="16684"/>
                  <a:pt x="1141" y="16743"/>
                </a:cubicBezTo>
                <a:cubicBezTo>
                  <a:pt x="1150" y="16815"/>
                  <a:pt x="1269" y="16735"/>
                  <a:pt x="1339" y="16718"/>
                </a:cubicBezTo>
                <a:cubicBezTo>
                  <a:pt x="1330" y="16646"/>
                  <a:pt x="1314" y="16586"/>
                  <a:pt x="1290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24120" y="5313240"/>
            <a:ext cx="169920" cy="125640"/>
          </a:xfrm>
          <a:custGeom>
            <a:avLst/>
            <a:gdLst/>
            <a:ahLst/>
            <a:rect l="l" t="t" r="r" b="b"/>
            <a:pathLst>
              <a:path w="473" h="348">
                <a:moveTo>
                  <a:pt x="7590" y="14932"/>
                </a:moveTo>
                <a:cubicBezTo>
                  <a:pt x="7532" y="14932"/>
                  <a:pt x="7657" y="14954"/>
                  <a:pt x="7689" y="14957"/>
                </a:cubicBezTo>
                <a:cubicBezTo>
                  <a:pt x="7730" y="14961"/>
                  <a:pt x="7772" y="14957"/>
                  <a:pt x="7813" y="14957"/>
                </a:cubicBezTo>
              </a:path>
              <a:path w="473" h="348">
                <a:moveTo>
                  <a:pt x="8012" y="14784"/>
                </a:moveTo>
                <a:cubicBezTo>
                  <a:pt x="8012" y="14759"/>
                  <a:pt x="8012" y="14751"/>
                  <a:pt x="8037" y="14759"/>
                </a:cubicBezTo>
                <a:cubicBezTo>
                  <a:pt x="8037" y="14875"/>
                  <a:pt x="8037" y="14990"/>
                  <a:pt x="8037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10120" y="5823000"/>
            <a:ext cx="544680" cy="677880"/>
          </a:xfrm>
          <a:custGeom>
            <a:avLst/>
            <a:gdLst/>
            <a:ahLst/>
            <a:rect l="l" t="t" r="r" b="b"/>
            <a:pathLst>
              <a:path w="1515" h="1886">
                <a:moveTo>
                  <a:pt x="15032" y="16446"/>
                </a:moveTo>
                <a:cubicBezTo>
                  <a:pt x="15032" y="16415"/>
                  <a:pt x="15024" y="16379"/>
                  <a:pt x="15007" y="16371"/>
                </a:cubicBezTo>
                <a:cubicBezTo>
                  <a:pt x="14955" y="16345"/>
                  <a:pt x="14943" y="16432"/>
                  <a:pt x="14957" y="16446"/>
                </a:cubicBezTo>
                <a:cubicBezTo>
                  <a:pt x="15027" y="16429"/>
                  <a:pt x="15015" y="16329"/>
                  <a:pt x="14957" y="16371"/>
                </a:cubicBezTo>
                <a:cubicBezTo>
                  <a:pt x="14906" y="16408"/>
                  <a:pt x="14935" y="16441"/>
                  <a:pt x="14957" y="16470"/>
                </a:cubicBezTo>
                <a:cubicBezTo>
                  <a:pt x="14957" y="16435"/>
                  <a:pt x="14962" y="16418"/>
                  <a:pt x="14982" y="16396"/>
                </a:cubicBezTo>
              </a:path>
              <a:path w="1515" h="1886">
                <a:moveTo>
                  <a:pt x="15255" y="16197"/>
                </a:moveTo>
                <a:cubicBezTo>
                  <a:pt x="15289" y="16190"/>
                  <a:pt x="15320" y="16180"/>
                  <a:pt x="15354" y="16173"/>
                </a:cubicBezTo>
                <a:cubicBezTo>
                  <a:pt x="15410" y="16264"/>
                  <a:pt x="15347" y="16279"/>
                  <a:pt x="15304" y="16346"/>
                </a:cubicBezTo>
                <a:cubicBezTo>
                  <a:pt x="15275" y="16391"/>
                  <a:pt x="15334" y="16287"/>
                  <a:pt x="15379" y="16321"/>
                </a:cubicBezTo>
                <a:cubicBezTo>
                  <a:pt x="15429" y="16358"/>
                  <a:pt x="15445" y="16487"/>
                  <a:pt x="15379" y="16520"/>
                </a:cubicBezTo>
                <a:cubicBezTo>
                  <a:pt x="15338" y="16541"/>
                  <a:pt x="15277" y="16495"/>
                  <a:pt x="15230" y="16495"/>
                </a:cubicBezTo>
              </a:path>
              <a:path w="1515" h="1886">
                <a:moveTo>
                  <a:pt x="14039" y="16793"/>
                </a:moveTo>
                <a:cubicBezTo>
                  <a:pt x="14024" y="16872"/>
                  <a:pt x="13980" y="16970"/>
                  <a:pt x="13940" y="17041"/>
                </a:cubicBezTo>
                <a:cubicBezTo>
                  <a:pt x="13913" y="17089"/>
                  <a:pt x="13884" y="17092"/>
                  <a:pt x="13965" y="17066"/>
                </a:cubicBezTo>
              </a:path>
              <a:path w="1515" h="1886">
                <a:moveTo>
                  <a:pt x="14362" y="16892"/>
                </a:moveTo>
                <a:cubicBezTo>
                  <a:pt x="14337" y="16866"/>
                  <a:pt x="14251" y="16857"/>
                  <a:pt x="14213" y="16917"/>
                </a:cubicBezTo>
                <a:cubicBezTo>
                  <a:pt x="14177" y="16973"/>
                  <a:pt x="14170" y="17052"/>
                  <a:pt x="14163" y="17115"/>
                </a:cubicBezTo>
                <a:cubicBezTo>
                  <a:pt x="14247" y="17129"/>
                  <a:pt x="14310" y="17151"/>
                  <a:pt x="14387" y="17090"/>
                </a:cubicBezTo>
                <a:cubicBezTo>
                  <a:pt x="14438" y="17050"/>
                  <a:pt x="14537" y="16956"/>
                  <a:pt x="14461" y="16892"/>
                </a:cubicBezTo>
                <a:cubicBezTo>
                  <a:pt x="14390" y="16832"/>
                  <a:pt x="14326" y="16818"/>
                  <a:pt x="14238" y="16818"/>
                </a:cubicBezTo>
              </a:path>
              <a:path w="1515" h="1886">
                <a:moveTo>
                  <a:pt x="14709" y="16942"/>
                </a:moveTo>
                <a:cubicBezTo>
                  <a:pt x="14709" y="17026"/>
                  <a:pt x="14718" y="17013"/>
                  <a:pt x="14784" y="16966"/>
                </a:cubicBezTo>
                <a:cubicBezTo>
                  <a:pt x="14743" y="16966"/>
                  <a:pt x="14726" y="16975"/>
                  <a:pt x="14734" y="16942"/>
                </a:cubicBezTo>
              </a:path>
              <a:path w="1515" h="1886">
                <a:moveTo>
                  <a:pt x="15007" y="16718"/>
                </a:moveTo>
                <a:cubicBezTo>
                  <a:pt x="15040" y="16718"/>
                  <a:pt x="15073" y="16718"/>
                  <a:pt x="15106" y="16718"/>
                </a:cubicBezTo>
                <a:cubicBezTo>
                  <a:pt x="15106" y="16786"/>
                  <a:pt x="15095" y="16802"/>
                  <a:pt x="15081" y="16842"/>
                </a:cubicBezTo>
                <a:cubicBezTo>
                  <a:pt x="15152" y="16842"/>
                  <a:pt x="15266" y="16826"/>
                  <a:pt x="15230" y="16942"/>
                </a:cubicBezTo>
                <a:cubicBezTo>
                  <a:pt x="15211" y="17002"/>
                  <a:pt x="15127" y="17006"/>
                  <a:pt x="15081" y="17016"/>
                </a:cubicBezTo>
              </a:path>
              <a:path w="1515" h="1886">
                <a:moveTo>
                  <a:pt x="14387" y="17264"/>
                </a:moveTo>
                <a:cubicBezTo>
                  <a:pt x="14436" y="17264"/>
                  <a:pt x="14506" y="17240"/>
                  <a:pt x="14536" y="17289"/>
                </a:cubicBezTo>
                <a:cubicBezTo>
                  <a:pt x="14602" y="17398"/>
                  <a:pt x="14477" y="17466"/>
                  <a:pt x="14412" y="17537"/>
                </a:cubicBezTo>
                <a:cubicBezTo>
                  <a:pt x="14395" y="17537"/>
                  <a:pt x="14379" y="17537"/>
                  <a:pt x="14362" y="17537"/>
                </a:cubicBezTo>
                <a:cubicBezTo>
                  <a:pt x="14409" y="17525"/>
                  <a:pt x="14506" y="17446"/>
                  <a:pt x="14560" y="17487"/>
                </a:cubicBezTo>
                <a:cubicBezTo>
                  <a:pt x="14656" y="17560"/>
                  <a:pt x="14455" y="17758"/>
                  <a:pt x="14412" y="17785"/>
                </a:cubicBezTo>
                <a:cubicBezTo>
                  <a:pt x="14295" y="17857"/>
                  <a:pt x="14295" y="17768"/>
                  <a:pt x="14263" y="17686"/>
                </a:cubicBezTo>
              </a:path>
              <a:path w="1515" h="1886">
                <a:moveTo>
                  <a:pt x="14833" y="17289"/>
                </a:moveTo>
                <a:cubicBezTo>
                  <a:pt x="14801" y="17404"/>
                  <a:pt x="14784" y="17486"/>
                  <a:pt x="14784" y="17611"/>
                </a:cubicBezTo>
                <a:cubicBezTo>
                  <a:pt x="14877" y="17611"/>
                  <a:pt x="15038" y="17623"/>
                  <a:pt x="15056" y="17487"/>
                </a:cubicBezTo>
                <a:cubicBezTo>
                  <a:pt x="15082" y="17292"/>
                  <a:pt x="14875" y="17299"/>
                  <a:pt x="14759" y="17314"/>
                </a:cubicBezTo>
              </a:path>
              <a:path w="1515" h="1886">
                <a:moveTo>
                  <a:pt x="14213" y="18033"/>
                </a:moveTo>
                <a:cubicBezTo>
                  <a:pt x="14432" y="18024"/>
                  <a:pt x="14623" y="17995"/>
                  <a:pt x="14833" y="17934"/>
                </a:cubicBezTo>
                <a:cubicBezTo>
                  <a:pt x="15010" y="17883"/>
                  <a:pt x="15186" y="17841"/>
                  <a:pt x="15304" y="17686"/>
                </a:cubicBezTo>
                <a:cubicBezTo>
                  <a:pt x="15394" y="17567"/>
                  <a:pt x="15440" y="17433"/>
                  <a:pt x="15379" y="17289"/>
                </a:cubicBezTo>
                <a:cubicBezTo>
                  <a:pt x="15322" y="17153"/>
                  <a:pt x="15153" y="17137"/>
                  <a:pt x="15032" y="17090"/>
                </a:cubicBezTo>
                <a:cubicBezTo>
                  <a:pt x="14918" y="17046"/>
                  <a:pt x="14782" y="16983"/>
                  <a:pt x="14660" y="16966"/>
                </a:cubicBezTo>
                <a:cubicBezTo>
                  <a:pt x="14570" y="16953"/>
                  <a:pt x="14471" y="17013"/>
                  <a:pt x="14387" y="17041"/>
                </a:cubicBezTo>
                <a:cubicBezTo>
                  <a:pt x="14304" y="17069"/>
                  <a:pt x="14153" y="17150"/>
                  <a:pt x="14089" y="17214"/>
                </a:cubicBezTo>
                <a:cubicBezTo>
                  <a:pt x="14001" y="17302"/>
                  <a:pt x="13953" y="17441"/>
                  <a:pt x="13940" y="17562"/>
                </a:cubicBezTo>
                <a:cubicBezTo>
                  <a:pt x="13927" y="17686"/>
                  <a:pt x="13925" y="17857"/>
                  <a:pt x="14015" y="17959"/>
                </a:cubicBezTo>
                <a:cubicBezTo>
                  <a:pt x="14143" y="18104"/>
                  <a:pt x="14350" y="18044"/>
                  <a:pt x="14511" y="18008"/>
                </a:cubicBezTo>
                <a:cubicBezTo>
                  <a:pt x="14662" y="17965"/>
                  <a:pt x="14700" y="17959"/>
                  <a:pt x="14784" y="179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96120" y="615960"/>
            <a:ext cx="633600" cy="304920"/>
          </a:xfrm>
          <a:custGeom>
            <a:avLst/>
            <a:gdLst/>
            <a:ahLst/>
            <a:rect l="l" t="t" r="r" b="b"/>
            <a:pathLst>
              <a:path w="1763" h="844">
                <a:moveTo>
                  <a:pt x="20762" y="1761"/>
                </a:moveTo>
                <a:cubicBezTo>
                  <a:pt x="20557" y="1703"/>
                  <a:pt x="20452" y="1718"/>
                  <a:pt x="20265" y="1811"/>
                </a:cubicBezTo>
                <a:cubicBezTo>
                  <a:pt x="20347" y="1958"/>
                  <a:pt x="20572" y="2026"/>
                  <a:pt x="20737" y="2108"/>
                </a:cubicBezTo>
                <a:cubicBezTo>
                  <a:pt x="20704" y="2178"/>
                  <a:pt x="20373" y="2480"/>
                  <a:pt x="20265" y="2257"/>
                </a:cubicBezTo>
                <a:cubicBezTo>
                  <a:pt x="20273" y="2207"/>
                  <a:pt x="20282" y="2158"/>
                  <a:pt x="20290" y="2108"/>
                </a:cubicBezTo>
              </a:path>
              <a:path w="1763" h="844">
                <a:moveTo>
                  <a:pt x="21010" y="1712"/>
                </a:moveTo>
                <a:cubicBezTo>
                  <a:pt x="21010" y="1896"/>
                  <a:pt x="21028" y="2074"/>
                  <a:pt x="21034" y="2257"/>
                </a:cubicBezTo>
                <a:cubicBezTo>
                  <a:pt x="21034" y="2274"/>
                  <a:pt x="21034" y="2290"/>
                  <a:pt x="21034" y="2307"/>
                </a:cubicBezTo>
              </a:path>
              <a:path w="1763" h="844">
                <a:moveTo>
                  <a:pt x="20836" y="2009"/>
                </a:moveTo>
                <a:cubicBezTo>
                  <a:pt x="21001" y="2009"/>
                  <a:pt x="21167" y="2009"/>
                  <a:pt x="21332" y="2009"/>
                </a:cubicBezTo>
                <a:cubicBezTo>
                  <a:pt x="21266" y="1971"/>
                  <a:pt x="21230" y="1950"/>
                  <a:pt x="21183" y="2009"/>
                </a:cubicBezTo>
                <a:cubicBezTo>
                  <a:pt x="21036" y="2192"/>
                  <a:pt x="21263" y="2332"/>
                  <a:pt x="21431" y="2307"/>
                </a:cubicBezTo>
                <a:cubicBezTo>
                  <a:pt x="21583" y="2284"/>
                  <a:pt x="21615" y="2066"/>
                  <a:pt x="21679" y="2158"/>
                </a:cubicBezTo>
                <a:cubicBezTo>
                  <a:pt x="21735" y="2238"/>
                  <a:pt x="21699" y="2448"/>
                  <a:pt x="21704" y="2555"/>
                </a:cubicBezTo>
                <a:cubicBezTo>
                  <a:pt x="21673" y="2402"/>
                  <a:pt x="21572" y="2031"/>
                  <a:pt x="21803" y="1960"/>
                </a:cubicBezTo>
                <a:cubicBezTo>
                  <a:pt x="21861" y="1968"/>
                  <a:pt x="21919" y="1976"/>
                  <a:pt x="21977" y="1984"/>
                </a:cubicBezTo>
                <a:cubicBezTo>
                  <a:pt x="22022" y="2154"/>
                  <a:pt x="21956" y="2372"/>
                  <a:pt x="21704" y="2307"/>
                </a:cubicBezTo>
                <a:cubicBezTo>
                  <a:pt x="21671" y="2282"/>
                  <a:pt x="21638" y="2257"/>
                  <a:pt x="21605" y="22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848800" y="16081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581" y="4465"/>
                </a:moveTo>
                <a:lnTo>
                  <a:pt x="24581" y="4465"/>
                </a:lnTo>
                <a:lnTo>
                  <a:pt x="24581" y="4465"/>
                </a:lnTo>
              </a:path>
              <a:path w="1" h="1">
                <a:moveTo>
                  <a:pt x="24581" y="4465"/>
                </a:moveTo>
                <a:lnTo>
                  <a:pt x="24581" y="446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15200" y="1490760"/>
            <a:ext cx="920880" cy="581040"/>
          </a:xfrm>
          <a:custGeom>
            <a:avLst/>
            <a:gdLst/>
            <a:ahLst/>
            <a:rect l="l" t="t" r="r" b="b"/>
            <a:pathLst>
              <a:path w="2556" h="1614">
                <a:moveTo>
                  <a:pt x="23019" y="5184"/>
                </a:moveTo>
                <a:cubicBezTo>
                  <a:pt x="22913" y="5205"/>
                  <a:pt x="22792" y="5337"/>
                  <a:pt x="22820" y="5457"/>
                </a:cubicBezTo>
                <a:cubicBezTo>
                  <a:pt x="22845" y="5482"/>
                  <a:pt x="22870" y="5506"/>
                  <a:pt x="22895" y="5531"/>
                </a:cubicBezTo>
                <a:cubicBezTo>
                  <a:pt x="23095" y="5473"/>
                  <a:pt x="23229" y="5440"/>
                  <a:pt x="23044" y="5234"/>
                </a:cubicBezTo>
                <a:cubicBezTo>
                  <a:pt x="23019" y="5217"/>
                  <a:pt x="22994" y="5201"/>
                  <a:pt x="22969" y="5184"/>
                </a:cubicBezTo>
              </a:path>
              <a:path w="2556" h="1614">
                <a:moveTo>
                  <a:pt x="23292" y="5407"/>
                </a:moveTo>
                <a:cubicBezTo>
                  <a:pt x="23342" y="5504"/>
                  <a:pt x="23426" y="5651"/>
                  <a:pt x="23465" y="5755"/>
                </a:cubicBezTo>
                <a:cubicBezTo>
                  <a:pt x="23342" y="5672"/>
                  <a:pt x="23239" y="5417"/>
                  <a:pt x="23242" y="5259"/>
                </a:cubicBezTo>
                <a:cubicBezTo>
                  <a:pt x="23283" y="5138"/>
                  <a:pt x="23279" y="5109"/>
                  <a:pt x="23341" y="5060"/>
                </a:cubicBezTo>
                <a:cubicBezTo>
                  <a:pt x="23444" y="5164"/>
                  <a:pt x="23600" y="5340"/>
                  <a:pt x="23366" y="5432"/>
                </a:cubicBezTo>
                <a:cubicBezTo>
                  <a:pt x="23265" y="5432"/>
                  <a:pt x="23230" y="5431"/>
                  <a:pt x="23192" y="5358"/>
                </a:cubicBezTo>
              </a:path>
              <a:path w="2556" h="1614">
                <a:moveTo>
                  <a:pt x="23515" y="5184"/>
                </a:moveTo>
                <a:cubicBezTo>
                  <a:pt x="23575" y="5139"/>
                  <a:pt x="23657" y="5119"/>
                  <a:pt x="23688" y="5035"/>
                </a:cubicBezTo>
                <a:cubicBezTo>
                  <a:pt x="23720" y="4948"/>
                  <a:pt x="23614" y="4947"/>
                  <a:pt x="23564" y="4936"/>
                </a:cubicBezTo>
                <a:cubicBezTo>
                  <a:pt x="23505" y="5012"/>
                  <a:pt x="23432" y="5263"/>
                  <a:pt x="23614" y="5308"/>
                </a:cubicBezTo>
                <a:cubicBezTo>
                  <a:pt x="23744" y="5282"/>
                  <a:pt x="23790" y="5270"/>
                  <a:pt x="23862" y="5209"/>
                </a:cubicBezTo>
              </a:path>
              <a:path w="2556" h="1614">
                <a:moveTo>
                  <a:pt x="23912" y="5011"/>
                </a:moveTo>
                <a:cubicBezTo>
                  <a:pt x="23956" y="5100"/>
                  <a:pt x="23969" y="5123"/>
                  <a:pt x="23986" y="5184"/>
                </a:cubicBezTo>
                <a:cubicBezTo>
                  <a:pt x="23892" y="5109"/>
                  <a:pt x="23867" y="4963"/>
                  <a:pt x="23912" y="4837"/>
                </a:cubicBezTo>
                <a:cubicBezTo>
                  <a:pt x="23967" y="4752"/>
                  <a:pt x="23995" y="4727"/>
                  <a:pt x="24085" y="4762"/>
                </a:cubicBezTo>
              </a:path>
              <a:path w="2556" h="1614">
                <a:moveTo>
                  <a:pt x="24135" y="4812"/>
                </a:moveTo>
                <a:cubicBezTo>
                  <a:pt x="24135" y="4772"/>
                  <a:pt x="24124" y="4753"/>
                  <a:pt x="24085" y="4738"/>
                </a:cubicBezTo>
                <a:cubicBezTo>
                  <a:pt x="24060" y="4771"/>
                  <a:pt x="24044" y="5081"/>
                  <a:pt x="24110" y="5035"/>
                </a:cubicBezTo>
                <a:cubicBezTo>
                  <a:pt x="24167" y="4995"/>
                  <a:pt x="24135" y="4835"/>
                  <a:pt x="24135" y="4787"/>
                </a:cubicBezTo>
                <a:cubicBezTo>
                  <a:pt x="24146" y="4850"/>
                  <a:pt x="24208" y="5004"/>
                  <a:pt x="24309" y="4936"/>
                </a:cubicBezTo>
                <a:cubicBezTo>
                  <a:pt x="24334" y="4903"/>
                  <a:pt x="24358" y="4870"/>
                  <a:pt x="24383" y="4837"/>
                </a:cubicBezTo>
              </a:path>
              <a:path w="2556" h="1614">
                <a:moveTo>
                  <a:pt x="24259" y="4465"/>
                </a:moveTo>
                <a:cubicBezTo>
                  <a:pt x="24328" y="4609"/>
                  <a:pt x="24414" y="4759"/>
                  <a:pt x="24457" y="4911"/>
                </a:cubicBezTo>
              </a:path>
              <a:path w="2556" h="1614">
                <a:moveTo>
                  <a:pt x="24234" y="4688"/>
                </a:moveTo>
                <a:cubicBezTo>
                  <a:pt x="24309" y="4645"/>
                  <a:pt x="24441" y="4578"/>
                  <a:pt x="24532" y="4589"/>
                </a:cubicBezTo>
                <a:cubicBezTo>
                  <a:pt x="24642" y="4602"/>
                  <a:pt x="24664" y="4680"/>
                  <a:pt x="24705" y="4762"/>
                </a:cubicBezTo>
              </a:path>
              <a:path w="2556" h="1614">
                <a:moveTo>
                  <a:pt x="24854" y="4589"/>
                </a:moveTo>
                <a:cubicBezTo>
                  <a:pt x="24826" y="4560"/>
                  <a:pt x="24719" y="4632"/>
                  <a:pt x="24730" y="4713"/>
                </a:cubicBezTo>
                <a:cubicBezTo>
                  <a:pt x="24749" y="4853"/>
                  <a:pt x="24923" y="4693"/>
                  <a:pt x="24929" y="4638"/>
                </a:cubicBezTo>
                <a:cubicBezTo>
                  <a:pt x="24939" y="4554"/>
                  <a:pt x="24844" y="4534"/>
                  <a:pt x="24829" y="4490"/>
                </a:cubicBezTo>
              </a:path>
              <a:path w="2556" h="1614">
                <a:moveTo>
                  <a:pt x="24954" y="4514"/>
                </a:moveTo>
                <a:cubicBezTo>
                  <a:pt x="24962" y="4522"/>
                  <a:pt x="24970" y="4531"/>
                  <a:pt x="24978" y="4539"/>
                </a:cubicBezTo>
                <a:cubicBezTo>
                  <a:pt x="25028" y="4522"/>
                  <a:pt x="24975" y="4434"/>
                  <a:pt x="25003" y="4366"/>
                </a:cubicBezTo>
                <a:cubicBezTo>
                  <a:pt x="25059" y="4232"/>
                  <a:pt x="25179" y="4423"/>
                  <a:pt x="25202" y="4465"/>
                </a:cubicBezTo>
                <a:cubicBezTo>
                  <a:pt x="25210" y="4490"/>
                  <a:pt x="25218" y="4514"/>
                  <a:pt x="25226" y="4539"/>
                </a:cubicBezTo>
              </a:path>
              <a:path w="2556" h="1614">
                <a:moveTo>
                  <a:pt x="25226" y="4167"/>
                </a:moveTo>
                <a:cubicBezTo>
                  <a:pt x="25206" y="4125"/>
                  <a:pt x="25200" y="4176"/>
                  <a:pt x="25177" y="4217"/>
                </a:cubicBezTo>
                <a:cubicBezTo>
                  <a:pt x="25313" y="4307"/>
                  <a:pt x="25434" y="4180"/>
                  <a:pt x="25375" y="4440"/>
                </a:cubicBezTo>
                <a:cubicBezTo>
                  <a:pt x="25312" y="4472"/>
                  <a:pt x="25280" y="4477"/>
                  <a:pt x="25226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2803680"/>
            <a:ext cx="447480" cy="403200"/>
          </a:xfrm>
          <a:custGeom>
            <a:avLst/>
            <a:gdLst/>
            <a:ahLst/>
            <a:rect l="l" t="t" r="r" b="b"/>
            <a:pathLst>
              <a:path w="1241" h="1117">
                <a:moveTo>
                  <a:pt x="9996" y="8210"/>
                </a:moveTo>
                <a:cubicBezTo>
                  <a:pt x="9919" y="8213"/>
                  <a:pt x="10150" y="8069"/>
                  <a:pt x="10220" y="8086"/>
                </a:cubicBezTo>
                <a:cubicBezTo>
                  <a:pt x="10543" y="8165"/>
                  <a:pt x="10333" y="8495"/>
                  <a:pt x="10145" y="8582"/>
                </a:cubicBezTo>
                <a:cubicBezTo>
                  <a:pt x="10023" y="8602"/>
                  <a:pt x="9992" y="8630"/>
                  <a:pt x="9947" y="8558"/>
                </a:cubicBezTo>
                <a:cubicBezTo>
                  <a:pt x="10103" y="8401"/>
                  <a:pt x="10172" y="8398"/>
                  <a:pt x="10393" y="8458"/>
                </a:cubicBezTo>
                <a:cubicBezTo>
                  <a:pt x="10418" y="8466"/>
                  <a:pt x="10443" y="8475"/>
                  <a:pt x="10468" y="8483"/>
                </a:cubicBezTo>
              </a:path>
              <a:path w="1241" h="1117">
                <a:moveTo>
                  <a:pt x="9847" y="8781"/>
                </a:moveTo>
                <a:cubicBezTo>
                  <a:pt x="10125" y="8834"/>
                  <a:pt x="10441" y="8904"/>
                  <a:pt x="10641" y="8632"/>
                </a:cubicBezTo>
                <a:cubicBezTo>
                  <a:pt x="10768" y="8460"/>
                  <a:pt x="10812" y="8055"/>
                  <a:pt x="10616" y="7913"/>
                </a:cubicBezTo>
                <a:cubicBezTo>
                  <a:pt x="10354" y="7722"/>
                  <a:pt x="9943" y="7727"/>
                  <a:pt x="9723" y="7962"/>
                </a:cubicBezTo>
                <a:cubicBezTo>
                  <a:pt x="9483" y="8219"/>
                  <a:pt x="9387" y="8598"/>
                  <a:pt x="9699" y="8830"/>
                </a:cubicBezTo>
                <a:cubicBezTo>
                  <a:pt x="9897" y="8977"/>
                  <a:pt x="10075" y="8895"/>
                  <a:pt x="10269" y="88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62760" y="2820960"/>
            <a:ext cx="509400" cy="420840"/>
          </a:xfrm>
          <a:custGeom>
            <a:avLst/>
            <a:gdLst/>
            <a:ahLst/>
            <a:rect l="l" t="t" r="r" b="b"/>
            <a:pathLst>
              <a:path w="1415" h="1167">
                <a:moveTo>
                  <a:pt x="17314" y="8260"/>
                </a:moveTo>
                <a:cubicBezTo>
                  <a:pt x="17379" y="8194"/>
                  <a:pt x="17508" y="8097"/>
                  <a:pt x="17611" y="8186"/>
                </a:cubicBezTo>
                <a:cubicBezTo>
                  <a:pt x="17692" y="8256"/>
                  <a:pt x="17580" y="8321"/>
                  <a:pt x="17537" y="8359"/>
                </a:cubicBezTo>
                <a:cubicBezTo>
                  <a:pt x="17628" y="8348"/>
                  <a:pt x="17807" y="8283"/>
                  <a:pt x="17785" y="8458"/>
                </a:cubicBezTo>
                <a:cubicBezTo>
                  <a:pt x="17763" y="8640"/>
                  <a:pt x="17589" y="8642"/>
                  <a:pt x="17462" y="8607"/>
                </a:cubicBezTo>
              </a:path>
              <a:path w="1415" h="1167">
                <a:moveTo>
                  <a:pt x="17338" y="8905"/>
                </a:moveTo>
                <a:cubicBezTo>
                  <a:pt x="17643" y="8971"/>
                  <a:pt x="17793" y="8890"/>
                  <a:pt x="18033" y="8682"/>
                </a:cubicBezTo>
                <a:cubicBezTo>
                  <a:pt x="18221" y="8519"/>
                  <a:pt x="18299" y="8359"/>
                  <a:pt x="18182" y="8136"/>
                </a:cubicBezTo>
                <a:cubicBezTo>
                  <a:pt x="18061" y="7905"/>
                  <a:pt x="17934" y="7848"/>
                  <a:pt x="17686" y="7838"/>
                </a:cubicBezTo>
                <a:cubicBezTo>
                  <a:pt x="17480" y="7830"/>
                  <a:pt x="17336" y="7883"/>
                  <a:pt x="17165" y="7987"/>
                </a:cubicBezTo>
                <a:cubicBezTo>
                  <a:pt x="17024" y="8072"/>
                  <a:pt x="16860" y="8179"/>
                  <a:pt x="16842" y="8359"/>
                </a:cubicBezTo>
                <a:cubicBezTo>
                  <a:pt x="16818" y="8595"/>
                  <a:pt x="16922" y="8819"/>
                  <a:pt x="17115" y="8954"/>
                </a:cubicBezTo>
                <a:cubicBezTo>
                  <a:pt x="17243" y="9043"/>
                  <a:pt x="17399" y="8999"/>
                  <a:pt x="17537" y="8954"/>
                </a:cubicBezTo>
                <a:cubicBezTo>
                  <a:pt x="17569" y="8943"/>
                  <a:pt x="17575" y="8937"/>
                  <a:pt x="17611" y="89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31920" y="3848040"/>
            <a:ext cx="2179440" cy="90720"/>
          </a:xfrm>
          <a:custGeom>
            <a:avLst/>
            <a:gdLst/>
            <a:ahLst/>
            <a:rect l="l" t="t" r="r" b="b"/>
            <a:pathLst>
              <a:path w="6053" h="249">
                <a:moveTo>
                  <a:pt x="3423" y="10840"/>
                </a:moveTo>
                <a:cubicBezTo>
                  <a:pt x="3656" y="10840"/>
                  <a:pt x="3885" y="10861"/>
                  <a:pt x="4118" y="10864"/>
                </a:cubicBezTo>
                <a:cubicBezTo>
                  <a:pt x="4328" y="10867"/>
                  <a:pt x="4553" y="10867"/>
                  <a:pt x="4762" y="10889"/>
                </a:cubicBezTo>
                <a:cubicBezTo>
                  <a:pt x="4967" y="10911"/>
                  <a:pt x="5177" y="10933"/>
                  <a:pt x="5383" y="10939"/>
                </a:cubicBezTo>
                <a:cubicBezTo>
                  <a:pt x="5554" y="10944"/>
                  <a:pt x="5709" y="10892"/>
                  <a:pt x="5879" y="10889"/>
                </a:cubicBezTo>
                <a:cubicBezTo>
                  <a:pt x="6096" y="10885"/>
                  <a:pt x="6309" y="10851"/>
                  <a:pt x="6524" y="10840"/>
                </a:cubicBezTo>
                <a:cubicBezTo>
                  <a:pt x="6713" y="10830"/>
                  <a:pt x="6906" y="10832"/>
                  <a:pt x="7094" y="10815"/>
                </a:cubicBezTo>
                <a:cubicBezTo>
                  <a:pt x="7376" y="10790"/>
                  <a:pt x="7654" y="10768"/>
                  <a:pt x="7938" y="10765"/>
                </a:cubicBezTo>
                <a:cubicBezTo>
                  <a:pt x="8188" y="10762"/>
                  <a:pt x="8438" y="10776"/>
                  <a:pt x="8682" y="10790"/>
                </a:cubicBezTo>
                <a:cubicBezTo>
                  <a:pt x="8846" y="10799"/>
                  <a:pt x="8994" y="10768"/>
                  <a:pt x="9153" y="10740"/>
                </a:cubicBezTo>
                <a:cubicBezTo>
                  <a:pt x="9237" y="10725"/>
                  <a:pt x="9353" y="10700"/>
                  <a:pt x="9426" y="10691"/>
                </a:cubicBezTo>
                <a:cubicBezTo>
                  <a:pt x="9442" y="10691"/>
                  <a:pt x="9459" y="10691"/>
                  <a:pt x="9475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98800" y="3946680"/>
            <a:ext cx="71280" cy="2278080"/>
          </a:xfrm>
          <a:custGeom>
            <a:avLst/>
            <a:gdLst/>
            <a:ahLst/>
            <a:rect l="l" t="t" r="r" b="b"/>
            <a:pathLst>
              <a:path w="200" h="6326">
                <a:moveTo>
                  <a:pt x="6003" y="10988"/>
                </a:moveTo>
                <a:cubicBezTo>
                  <a:pt x="6003" y="11095"/>
                  <a:pt x="6003" y="11154"/>
                  <a:pt x="6003" y="11261"/>
                </a:cubicBezTo>
                <a:cubicBezTo>
                  <a:pt x="6003" y="11397"/>
                  <a:pt x="5985" y="11528"/>
                  <a:pt x="5978" y="11658"/>
                </a:cubicBezTo>
                <a:cubicBezTo>
                  <a:pt x="5971" y="11799"/>
                  <a:pt x="5970" y="11940"/>
                  <a:pt x="5953" y="12080"/>
                </a:cubicBezTo>
                <a:cubicBezTo>
                  <a:pt x="5935" y="12229"/>
                  <a:pt x="5892" y="12380"/>
                  <a:pt x="5879" y="12526"/>
                </a:cubicBezTo>
                <a:cubicBezTo>
                  <a:pt x="5862" y="12723"/>
                  <a:pt x="5858" y="12926"/>
                  <a:pt x="5854" y="13122"/>
                </a:cubicBezTo>
                <a:cubicBezTo>
                  <a:pt x="5851" y="13273"/>
                  <a:pt x="5832" y="13418"/>
                  <a:pt x="5829" y="13568"/>
                </a:cubicBezTo>
                <a:cubicBezTo>
                  <a:pt x="5825" y="13762"/>
                  <a:pt x="5843" y="13948"/>
                  <a:pt x="5854" y="14139"/>
                </a:cubicBezTo>
                <a:cubicBezTo>
                  <a:pt x="5867" y="14378"/>
                  <a:pt x="5866" y="14621"/>
                  <a:pt x="5879" y="14858"/>
                </a:cubicBezTo>
                <a:cubicBezTo>
                  <a:pt x="5887" y="15009"/>
                  <a:pt x="5897" y="15155"/>
                  <a:pt x="5904" y="15304"/>
                </a:cubicBezTo>
                <a:cubicBezTo>
                  <a:pt x="5910" y="15430"/>
                  <a:pt x="5925" y="15552"/>
                  <a:pt x="5928" y="15677"/>
                </a:cubicBezTo>
                <a:cubicBezTo>
                  <a:pt x="5932" y="15855"/>
                  <a:pt x="5932" y="16046"/>
                  <a:pt x="5953" y="16222"/>
                </a:cubicBezTo>
                <a:cubicBezTo>
                  <a:pt x="5971" y="16372"/>
                  <a:pt x="6000" y="16518"/>
                  <a:pt x="6003" y="16669"/>
                </a:cubicBezTo>
                <a:cubicBezTo>
                  <a:pt x="6005" y="16749"/>
                  <a:pt x="5995" y="16854"/>
                  <a:pt x="6003" y="16917"/>
                </a:cubicBezTo>
                <a:cubicBezTo>
                  <a:pt x="6013" y="16992"/>
                  <a:pt x="5999" y="17019"/>
                  <a:pt x="6003" y="17090"/>
                </a:cubicBezTo>
                <a:cubicBezTo>
                  <a:pt x="6005" y="17137"/>
                  <a:pt x="6007" y="17181"/>
                  <a:pt x="6003" y="17239"/>
                </a:cubicBezTo>
                <a:cubicBezTo>
                  <a:pt x="6003" y="17264"/>
                  <a:pt x="6003" y="17272"/>
                  <a:pt x="6003" y="172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51000" y="4340160"/>
            <a:ext cx="2160360" cy="44640"/>
          </a:xfrm>
          <a:custGeom>
            <a:avLst/>
            <a:gdLst/>
            <a:ahLst/>
            <a:rect l="l" t="t" r="r" b="b"/>
            <a:pathLst>
              <a:path w="6003" h="125">
                <a:moveTo>
                  <a:pt x="3473" y="12129"/>
                </a:moveTo>
                <a:cubicBezTo>
                  <a:pt x="3535" y="12142"/>
                  <a:pt x="3621" y="12173"/>
                  <a:pt x="3696" y="12179"/>
                </a:cubicBezTo>
                <a:cubicBezTo>
                  <a:pt x="3857" y="12191"/>
                  <a:pt x="4011" y="12166"/>
                  <a:pt x="4167" y="12154"/>
                </a:cubicBezTo>
                <a:cubicBezTo>
                  <a:pt x="4371" y="12139"/>
                  <a:pt x="4587" y="12141"/>
                  <a:pt x="4787" y="12129"/>
                </a:cubicBezTo>
                <a:cubicBezTo>
                  <a:pt x="5044" y="12114"/>
                  <a:pt x="5303" y="12133"/>
                  <a:pt x="5556" y="12154"/>
                </a:cubicBezTo>
                <a:cubicBezTo>
                  <a:pt x="5680" y="12164"/>
                  <a:pt x="5806" y="12169"/>
                  <a:pt x="5928" y="12179"/>
                </a:cubicBezTo>
                <a:cubicBezTo>
                  <a:pt x="6173" y="12200"/>
                  <a:pt x="6426" y="12157"/>
                  <a:pt x="6672" y="12154"/>
                </a:cubicBezTo>
                <a:cubicBezTo>
                  <a:pt x="7119" y="12149"/>
                  <a:pt x="7569" y="12165"/>
                  <a:pt x="8012" y="12129"/>
                </a:cubicBezTo>
                <a:cubicBezTo>
                  <a:pt x="8158" y="12117"/>
                  <a:pt x="8314" y="12112"/>
                  <a:pt x="8458" y="12105"/>
                </a:cubicBezTo>
                <a:cubicBezTo>
                  <a:pt x="8599" y="12098"/>
                  <a:pt x="8740" y="12089"/>
                  <a:pt x="8880" y="12080"/>
                </a:cubicBezTo>
                <a:cubicBezTo>
                  <a:pt x="9057" y="12069"/>
                  <a:pt x="9288" y="12072"/>
                  <a:pt x="9426" y="12055"/>
                </a:cubicBezTo>
                <a:cubicBezTo>
                  <a:pt x="9451" y="12055"/>
                  <a:pt x="9459" y="12055"/>
                  <a:pt x="9475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: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9ca8a4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9ca8a4"/>
                </a:solidFill>
                <a:latin typeface="Arial"/>
              </a:rPr>
              <a:t>Skill Practice: 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33520" y="3048120"/>
          <a:ext cx="2133360" cy="2727360"/>
        </p:xfrm>
        <a:graphic>
          <a:graphicData uri="http://schemas.openxmlformats.org/drawingml/2006/table">
            <a:tbl>
              <a:tblPr/>
              <a:tblGrid>
                <a:gridCol w="961560"/>
                <a:gridCol w="117180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le: (IN + 8) x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657600" y="2286000"/>
          <a:ext cx="2057400" cy="2733840"/>
        </p:xfrm>
        <a:graphic>
          <a:graphicData uri="http://schemas.openxmlformats.org/drawingml/2006/table">
            <a:tbl>
              <a:tblPr/>
              <a:tblGrid>
                <a:gridCol w="992160"/>
                <a:gridCol w="106524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1828800"/>
          <a:ext cx="1904760" cy="2822400"/>
        </p:xfrm>
        <a:graphic>
          <a:graphicData uri="http://schemas.openxmlformats.org/drawingml/2006/table">
            <a:tbl>
              <a:tblPr/>
              <a:tblGrid>
                <a:gridCol w="919080"/>
                <a:gridCol w="9856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1527120" y="3884760"/>
            <a:ext cx="438120" cy="214200"/>
          </a:xfrm>
          <a:custGeom>
            <a:avLst/>
            <a:gdLst/>
            <a:ahLst/>
            <a:rect l="l" t="t" r="r" b="b"/>
            <a:pathLst>
              <a:path w="1216" h="596">
                <a:moveTo>
                  <a:pt x="4415" y="10815"/>
                </a:moveTo>
                <a:cubicBezTo>
                  <a:pt x="4382" y="10750"/>
                  <a:pt x="4249" y="11103"/>
                  <a:pt x="4242" y="11137"/>
                </a:cubicBezTo>
                <a:cubicBezTo>
                  <a:pt x="4239" y="11151"/>
                  <a:pt x="4235" y="11430"/>
                  <a:pt x="4341" y="11385"/>
                </a:cubicBezTo>
                <a:cubicBezTo>
                  <a:pt x="4366" y="11361"/>
                  <a:pt x="4374" y="11353"/>
                  <a:pt x="4390" y="11336"/>
                </a:cubicBezTo>
              </a:path>
              <a:path w="1216" h="596">
                <a:moveTo>
                  <a:pt x="4539" y="10914"/>
                </a:moveTo>
                <a:cubicBezTo>
                  <a:pt x="4529" y="10991"/>
                  <a:pt x="4491" y="11023"/>
                  <a:pt x="4465" y="11088"/>
                </a:cubicBezTo>
                <a:cubicBezTo>
                  <a:pt x="4541" y="11088"/>
                  <a:pt x="4595" y="11077"/>
                  <a:pt x="4663" y="11063"/>
                </a:cubicBezTo>
              </a:path>
              <a:path w="1216" h="596">
                <a:moveTo>
                  <a:pt x="4688" y="10815"/>
                </a:moveTo>
                <a:cubicBezTo>
                  <a:pt x="4688" y="10969"/>
                  <a:pt x="4654" y="11109"/>
                  <a:pt x="4638" y="11261"/>
                </a:cubicBezTo>
                <a:cubicBezTo>
                  <a:pt x="4638" y="11286"/>
                  <a:pt x="4638" y="11311"/>
                  <a:pt x="4638" y="11336"/>
                </a:cubicBezTo>
              </a:path>
              <a:path w="1216" h="596">
                <a:moveTo>
                  <a:pt x="4936" y="11038"/>
                </a:moveTo>
                <a:cubicBezTo>
                  <a:pt x="4936" y="11134"/>
                  <a:pt x="4924" y="11217"/>
                  <a:pt x="4911" y="11311"/>
                </a:cubicBezTo>
              </a:path>
              <a:path w="1216" h="596">
                <a:moveTo>
                  <a:pt x="4812" y="11162"/>
                </a:moveTo>
                <a:cubicBezTo>
                  <a:pt x="4895" y="11154"/>
                  <a:pt x="5005" y="11158"/>
                  <a:pt x="5085" y="11137"/>
                </a:cubicBezTo>
                <a:cubicBezTo>
                  <a:pt x="5102" y="11129"/>
                  <a:pt x="5118" y="11120"/>
                  <a:pt x="5135" y="11112"/>
                </a:cubicBezTo>
              </a:path>
              <a:path w="1216" h="596">
                <a:moveTo>
                  <a:pt x="5457" y="10815"/>
                </a:moveTo>
                <a:cubicBezTo>
                  <a:pt x="5320" y="10826"/>
                  <a:pt x="5242" y="10853"/>
                  <a:pt x="5135" y="10939"/>
                </a:cubicBezTo>
                <a:cubicBezTo>
                  <a:pt x="5163" y="10976"/>
                  <a:pt x="5374" y="11056"/>
                  <a:pt x="5383" y="11112"/>
                </a:cubicBezTo>
                <a:cubicBezTo>
                  <a:pt x="5366" y="11129"/>
                  <a:pt x="5350" y="11145"/>
                  <a:pt x="5333" y="11162"/>
                </a:cubicBezTo>
                <a:cubicBezTo>
                  <a:pt x="5217" y="11104"/>
                  <a:pt x="5334" y="10980"/>
                  <a:pt x="5358" y="10889"/>
                </a:cubicBezTo>
                <a:cubicBezTo>
                  <a:pt x="5358" y="10848"/>
                  <a:pt x="5358" y="10840"/>
                  <a:pt x="5358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77960" y="3830760"/>
            <a:ext cx="6458040" cy="706320"/>
          </a:xfrm>
          <a:custGeom>
            <a:avLst/>
            <a:gdLst/>
            <a:ahLst/>
            <a:rect l="l" t="t" r="r" b="b"/>
            <a:pathLst>
              <a:path w="17935" h="1961">
                <a:moveTo>
                  <a:pt x="5407" y="10641"/>
                </a:moveTo>
                <a:cubicBezTo>
                  <a:pt x="5565" y="10831"/>
                  <a:pt x="5623" y="10927"/>
                  <a:pt x="5507" y="11162"/>
                </a:cubicBezTo>
                <a:cubicBezTo>
                  <a:pt x="5471" y="11235"/>
                  <a:pt x="5419" y="11298"/>
                  <a:pt x="5383" y="11261"/>
                </a:cubicBezTo>
              </a:path>
              <a:path w="17935" h="1961">
                <a:moveTo>
                  <a:pt x="4837" y="12303"/>
                </a:moveTo>
                <a:cubicBezTo>
                  <a:pt x="4816" y="12386"/>
                  <a:pt x="4801" y="12467"/>
                  <a:pt x="4787" y="12551"/>
                </a:cubicBezTo>
              </a:path>
              <a:path w="17935" h="1961">
                <a:moveTo>
                  <a:pt x="4663" y="12402"/>
                </a:moveTo>
                <a:cubicBezTo>
                  <a:pt x="4828" y="12433"/>
                  <a:pt x="4906" y="12420"/>
                  <a:pt x="5060" y="12353"/>
                </a:cubicBezTo>
              </a:path>
              <a:path w="17935" h="1961">
                <a:moveTo>
                  <a:pt x="5308" y="12254"/>
                </a:moveTo>
                <a:cubicBezTo>
                  <a:pt x="5394" y="12486"/>
                  <a:pt x="5413" y="12498"/>
                  <a:pt x="5184" y="12601"/>
                </a:cubicBezTo>
              </a:path>
              <a:path w="17935" h="1961">
                <a:moveTo>
                  <a:pt x="22126" y="11832"/>
                </a:moveTo>
                <a:cubicBezTo>
                  <a:pt x="22167" y="11859"/>
                  <a:pt x="22199" y="11873"/>
                  <a:pt x="22250" y="11881"/>
                </a:cubicBezTo>
              </a:path>
              <a:path w="17935" h="1961">
                <a:moveTo>
                  <a:pt x="22597" y="11609"/>
                </a:moveTo>
                <a:cubicBezTo>
                  <a:pt x="22566" y="11733"/>
                  <a:pt x="22518" y="11891"/>
                  <a:pt x="22572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65200" y="3884760"/>
            <a:ext cx="1170000" cy="830160"/>
          </a:xfrm>
          <a:custGeom>
            <a:avLst/>
            <a:gdLst/>
            <a:ahLst/>
            <a:rect l="l" t="t" r="r" b="b"/>
            <a:pathLst>
              <a:path w="3250" h="2308">
                <a:moveTo>
                  <a:pt x="5829" y="11038"/>
                </a:moveTo>
                <a:cubicBezTo>
                  <a:pt x="5796" y="11071"/>
                  <a:pt x="5797" y="11098"/>
                  <a:pt x="5779" y="11063"/>
                </a:cubicBezTo>
              </a:path>
              <a:path w="3250" h="2308">
                <a:moveTo>
                  <a:pt x="6102" y="10790"/>
                </a:moveTo>
                <a:cubicBezTo>
                  <a:pt x="6205" y="10790"/>
                  <a:pt x="6309" y="10838"/>
                  <a:pt x="6300" y="10964"/>
                </a:cubicBezTo>
                <a:cubicBezTo>
                  <a:pt x="6290" y="11098"/>
                  <a:pt x="6144" y="11233"/>
                  <a:pt x="6052" y="11187"/>
                </a:cubicBezTo>
                <a:cubicBezTo>
                  <a:pt x="6052" y="11069"/>
                  <a:pt x="6138" y="11040"/>
                  <a:pt x="6251" y="11088"/>
                </a:cubicBezTo>
                <a:cubicBezTo>
                  <a:pt x="6292" y="11129"/>
                  <a:pt x="6300" y="11137"/>
                  <a:pt x="6325" y="11162"/>
                </a:cubicBezTo>
              </a:path>
              <a:path w="3250" h="2308">
                <a:moveTo>
                  <a:pt x="4638" y="11559"/>
                </a:moveTo>
                <a:cubicBezTo>
                  <a:pt x="4622" y="11676"/>
                  <a:pt x="4595" y="11792"/>
                  <a:pt x="4564" y="11906"/>
                </a:cubicBezTo>
              </a:path>
              <a:path w="3250" h="2308">
                <a:moveTo>
                  <a:pt x="4837" y="11559"/>
                </a:moveTo>
                <a:cubicBezTo>
                  <a:pt x="4916" y="11546"/>
                  <a:pt x="5107" y="11549"/>
                  <a:pt x="5060" y="11708"/>
                </a:cubicBezTo>
                <a:cubicBezTo>
                  <a:pt x="5010" y="11880"/>
                  <a:pt x="4796" y="11880"/>
                  <a:pt x="4688" y="11832"/>
                </a:cubicBezTo>
                <a:cubicBezTo>
                  <a:pt x="4762" y="11745"/>
                  <a:pt x="4854" y="11705"/>
                  <a:pt x="4961" y="11782"/>
                </a:cubicBezTo>
                <a:cubicBezTo>
                  <a:pt x="5016" y="11838"/>
                  <a:pt x="5041" y="11836"/>
                  <a:pt x="5035" y="11881"/>
                </a:cubicBezTo>
              </a:path>
              <a:path w="3250" h="2308">
                <a:moveTo>
                  <a:pt x="5209" y="11683"/>
                </a:moveTo>
                <a:cubicBezTo>
                  <a:pt x="5209" y="11724"/>
                  <a:pt x="5209" y="11732"/>
                  <a:pt x="5209" y="11757"/>
                </a:cubicBezTo>
              </a:path>
              <a:path w="3250" h="2308">
                <a:moveTo>
                  <a:pt x="5556" y="11460"/>
                </a:moveTo>
                <a:cubicBezTo>
                  <a:pt x="5656" y="11572"/>
                  <a:pt x="5703" y="11670"/>
                  <a:pt x="5556" y="11782"/>
                </a:cubicBezTo>
                <a:cubicBezTo>
                  <a:pt x="5483" y="11807"/>
                  <a:pt x="5459" y="11815"/>
                  <a:pt x="5407" y="11807"/>
                </a:cubicBezTo>
                <a:cubicBezTo>
                  <a:pt x="5426" y="11724"/>
                  <a:pt x="5494" y="11672"/>
                  <a:pt x="5606" y="11733"/>
                </a:cubicBezTo>
                <a:cubicBezTo>
                  <a:pt x="5652" y="11779"/>
                  <a:pt x="5666" y="11791"/>
                  <a:pt x="5680" y="11832"/>
                </a:cubicBezTo>
              </a:path>
              <a:path w="3250" h="2308">
                <a:moveTo>
                  <a:pt x="6796" y="11410"/>
                </a:moveTo>
                <a:cubicBezTo>
                  <a:pt x="6758" y="11449"/>
                  <a:pt x="6741" y="11451"/>
                  <a:pt x="6747" y="11485"/>
                </a:cubicBezTo>
                <a:cubicBezTo>
                  <a:pt x="6690" y="11466"/>
                  <a:pt x="6750" y="11383"/>
                  <a:pt x="6796" y="11361"/>
                </a:cubicBezTo>
                <a:cubicBezTo>
                  <a:pt x="7047" y="11244"/>
                  <a:pt x="6783" y="11795"/>
                  <a:pt x="6747" y="11832"/>
                </a:cubicBezTo>
                <a:cubicBezTo>
                  <a:pt x="6636" y="11898"/>
                  <a:pt x="6610" y="11923"/>
                  <a:pt x="6524" y="11906"/>
                </a:cubicBezTo>
                <a:cubicBezTo>
                  <a:pt x="6499" y="11747"/>
                  <a:pt x="6549" y="11642"/>
                  <a:pt x="6747" y="11683"/>
                </a:cubicBezTo>
                <a:cubicBezTo>
                  <a:pt x="6840" y="11730"/>
                  <a:pt x="6869" y="11740"/>
                  <a:pt x="6896" y="11807"/>
                </a:cubicBezTo>
              </a:path>
              <a:path w="3250" h="2308">
                <a:moveTo>
                  <a:pt x="7020" y="11286"/>
                </a:moveTo>
                <a:cubicBezTo>
                  <a:pt x="7005" y="11406"/>
                  <a:pt x="7011" y="11490"/>
                  <a:pt x="7020" y="11609"/>
                </a:cubicBezTo>
                <a:cubicBezTo>
                  <a:pt x="7187" y="11592"/>
                  <a:pt x="7228" y="11545"/>
                  <a:pt x="7317" y="11410"/>
                </a:cubicBezTo>
              </a:path>
              <a:path w="3250" h="2308">
                <a:moveTo>
                  <a:pt x="7144" y="11112"/>
                </a:moveTo>
                <a:cubicBezTo>
                  <a:pt x="7153" y="11353"/>
                  <a:pt x="7169" y="11591"/>
                  <a:pt x="7169" y="11832"/>
                </a:cubicBezTo>
                <a:cubicBezTo>
                  <a:pt x="7169" y="11857"/>
                  <a:pt x="7169" y="11865"/>
                  <a:pt x="7169" y="11881"/>
                </a:cubicBezTo>
              </a:path>
              <a:path w="3250" h="2308">
                <a:moveTo>
                  <a:pt x="4341" y="12254"/>
                </a:moveTo>
                <a:cubicBezTo>
                  <a:pt x="4341" y="12324"/>
                  <a:pt x="4296" y="12388"/>
                  <a:pt x="4266" y="12452"/>
                </a:cubicBezTo>
                <a:cubicBezTo>
                  <a:pt x="4230" y="12525"/>
                  <a:pt x="4213" y="12530"/>
                  <a:pt x="4217" y="12576"/>
                </a:cubicBezTo>
                <a:cubicBezTo>
                  <a:pt x="4349" y="12652"/>
                  <a:pt x="4431" y="12611"/>
                  <a:pt x="4564" y="12551"/>
                </a:cubicBezTo>
                <a:cubicBezTo>
                  <a:pt x="4616" y="12528"/>
                  <a:pt x="4626" y="12524"/>
                  <a:pt x="4638" y="12477"/>
                </a:cubicBezTo>
                <a:cubicBezTo>
                  <a:pt x="4534" y="12424"/>
                  <a:pt x="4512" y="12457"/>
                  <a:pt x="4465" y="12551"/>
                </a:cubicBezTo>
                <a:cubicBezTo>
                  <a:pt x="4445" y="12592"/>
                  <a:pt x="4426" y="12608"/>
                  <a:pt x="4465" y="12601"/>
                </a:cubicBezTo>
              </a:path>
              <a:path w="3250" h="2308">
                <a:moveTo>
                  <a:pt x="5135" y="12303"/>
                </a:moveTo>
                <a:cubicBezTo>
                  <a:pt x="5067" y="12303"/>
                  <a:pt x="5024" y="12307"/>
                  <a:pt x="4961" y="12328"/>
                </a:cubicBezTo>
                <a:cubicBezTo>
                  <a:pt x="5037" y="12345"/>
                  <a:pt x="5188" y="12382"/>
                  <a:pt x="5184" y="12477"/>
                </a:cubicBezTo>
                <a:cubicBezTo>
                  <a:pt x="5159" y="12550"/>
                  <a:pt x="5152" y="12574"/>
                  <a:pt x="5085" y="12551"/>
                </a:cubicBezTo>
                <a:cubicBezTo>
                  <a:pt x="5100" y="12464"/>
                  <a:pt x="5153" y="12404"/>
                  <a:pt x="5184" y="12328"/>
                </a:cubicBezTo>
                <a:cubicBezTo>
                  <a:pt x="5184" y="12293"/>
                  <a:pt x="5189" y="12276"/>
                  <a:pt x="5209" y="12254"/>
                </a:cubicBezTo>
              </a:path>
              <a:path w="3250" h="2308">
                <a:moveTo>
                  <a:pt x="4142" y="12179"/>
                </a:moveTo>
                <a:cubicBezTo>
                  <a:pt x="4110" y="12347"/>
                  <a:pt x="4055" y="12409"/>
                  <a:pt x="4093" y="12601"/>
                </a:cubicBezTo>
                <a:cubicBezTo>
                  <a:pt x="4139" y="12718"/>
                  <a:pt x="4149" y="12756"/>
                  <a:pt x="4242" y="12774"/>
                </a:cubicBezTo>
              </a:path>
              <a:path w="3250" h="2308">
                <a:moveTo>
                  <a:pt x="5581" y="12378"/>
                </a:moveTo>
                <a:cubicBezTo>
                  <a:pt x="5564" y="12428"/>
                  <a:pt x="5581" y="12459"/>
                  <a:pt x="5581" y="12427"/>
                </a:cubicBezTo>
                <a:cubicBezTo>
                  <a:pt x="5581" y="12399"/>
                  <a:pt x="5579" y="12388"/>
                  <a:pt x="5556" y="12378"/>
                </a:cubicBezTo>
              </a:path>
              <a:path w="3250" h="2308">
                <a:moveTo>
                  <a:pt x="5879" y="12229"/>
                </a:moveTo>
                <a:cubicBezTo>
                  <a:pt x="6009" y="12218"/>
                  <a:pt x="6111" y="12265"/>
                  <a:pt x="6052" y="12427"/>
                </a:cubicBezTo>
                <a:cubicBezTo>
                  <a:pt x="6004" y="12560"/>
                  <a:pt x="5878" y="12566"/>
                  <a:pt x="5779" y="12502"/>
                </a:cubicBezTo>
                <a:cubicBezTo>
                  <a:pt x="5930" y="12406"/>
                  <a:pt x="5951" y="12450"/>
                  <a:pt x="6077" y="12502"/>
                </a:cubicBezTo>
                <a:cubicBezTo>
                  <a:pt x="6094" y="12502"/>
                  <a:pt x="6110" y="12502"/>
                  <a:pt x="6127" y="12502"/>
                </a:cubicBezTo>
              </a:path>
              <a:path w="3250" h="2308">
                <a:moveTo>
                  <a:pt x="4614" y="12824"/>
                </a:moveTo>
                <a:cubicBezTo>
                  <a:pt x="4601" y="12902"/>
                  <a:pt x="4577" y="12981"/>
                  <a:pt x="4539" y="13047"/>
                </a:cubicBezTo>
              </a:path>
              <a:path w="3250" h="2308">
                <a:moveTo>
                  <a:pt x="4738" y="12799"/>
                </a:moveTo>
                <a:cubicBezTo>
                  <a:pt x="4731" y="12833"/>
                  <a:pt x="4720" y="12864"/>
                  <a:pt x="4713" y="12898"/>
                </a:cubicBezTo>
                <a:cubicBezTo>
                  <a:pt x="4802" y="12925"/>
                  <a:pt x="4880" y="12939"/>
                  <a:pt x="4961" y="12898"/>
                </a:cubicBezTo>
              </a:path>
              <a:path w="3250" h="2308">
                <a:moveTo>
                  <a:pt x="4936" y="12750"/>
                </a:moveTo>
                <a:cubicBezTo>
                  <a:pt x="4936" y="12866"/>
                  <a:pt x="4936" y="12981"/>
                  <a:pt x="4936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7920" y="4081320"/>
            <a:ext cx="750960" cy="231840"/>
          </a:xfrm>
          <a:custGeom>
            <a:avLst/>
            <a:gdLst/>
            <a:ahLst/>
            <a:rect l="l" t="t" r="r" b="b"/>
            <a:pathLst>
              <a:path w="2085" h="646">
                <a:moveTo>
                  <a:pt x="13097" y="11609"/>
                </a:moveTo>
                <a:cubicBezTo>
                  <a:pt x="13163" y="11587"/>
                  <a:pt x="13199" y="11571"/>
                  <a:pt x="13271" y="11559"/>
                </a:cubicBezTo>
                <a:cubicBezTo>
                  <a:pt x="13316" y="11731"/>
                  <a:pt x="13294" y="11823"/>
                  <a:pt x="13122" y="11906"/>
                </a:cubicBezTo>
                <a:cubicBezTo>
                  <a:pt x="12998" y="11966"/>
                  <a:pt x="13022" y="11935"/>
                  <a:pt x="13022" y="11857"/>
                </a:cubicBezTo>
                <a:cubicBezTo>
                  <a:pt x="13118" y="11761"/>
                  <a:pt x="13171" y="11838"/>
                  <a:pt x="13295" y="11881"/>
                </a:cubicBezTo>
                <a:cubicBezTo>
                  <a:pt x="13347" y="11881"/>
                  <a:pt x="13374" y="11862"/>
                  <a:pt x="13395" y="11807"/>
                </a:cubicBezTo>
              </a:path>
              <a:path w="2085" h="646">
                <a:moveTo>
                  <a:pt x="13543" y="11435"/>
                </a:moveTo>
                <a:cubicBezTo>
                  <a:pt x="13465" y="11495"/>
                  <a:pt x="13449" y="11602"/>
                  <a:pt x="13444" y="11708"/>
                </a:cubicBezTo>
                <a:cubicBezTo>
                  <a:pt x="13441" y="11781"/>
                  <a:pt x="13439" y="11924"/>
                  <a:pt x="13543" y="11931"/>
                </a:cubicBezTo>
                <a:cubicBezTo>
                  <a:pt x="13560" y="11931"/>
                  <a:pt x="13576" y="11931"/>
                  <a:pt x="13593" y="11931"/>
                </a:cubicBezTo>
              </a:path>
              <a:path w="2085" h="646">
                <a:moveTo>
                  <a:pt x="13667" y="11584"/>
                </a:moveTo>
                <a:cubicBezTo>
                  <a:pt x="13721" y="11602"/>
                  <a:pt x="13679" y="11633"/>
                  <a:pt x="13667" y="11683"/>
                </a:cubicBezTo>
                <a:cubicBezTo>
                  <a:pt x="13654" y="11734"/>
                  <a:pt x="13756" y="11780"/>
                  <a:pt x="13791" y="11757"/>
                </a:cubicBezTo>
                <a:cubicBezTo>
                  <a:pt x="13791" y="11749"/>
                  <a:pt x="13791" y="11741"/>
                  <a:pt x="13791" y="11733"/>
                </a:cubicBezTo>
              </a:path>
              <a:path w="2085" h="646">
                <a:moveTo>
                  <a:pt x="13742" y="11485"/>
                </a:moveTo>
                <a:cubicBezTo>
                  <a:pt x="13742" y="11634"/>
                  <a:pt x="13742" y="11782"/>
                  <a:pt x="13742" y="11931"/>
                </a:cubicBezTo>
              </a:path>
              <a:path w="2085" h="646">
                <a:moveTo>
                  <a:pt x="14064" y="11584"/>
                </a:moveTo>
                <a:cubicBezTo>
                  <a:pt x="14064" y="11669"/>
                  <a:pt x="14045" y="11748"/>
                  <a:pt x="14039" y="11832"/>
                </a:cubicBezTo>
                <a:cubicBezTo>
                  <a:pt x="14154" y="11865"/>
                  <a:pt x="14227" y="11820"/>
                  <a:pt x="14213" y="11683"/>
                </a:cubicBezTo>
                <a:cubicBezTo>
                  <a:pt x="14200" y="11557"/>
                  <a:pt x="14122" y="11595"/>
                  <a:pt x="14039" y="11559"/>
                </a:cubicBezTo>
              </a:path>
              <a:path w="2085" h="646">
                <a:moveTo>
                  <a:pt x="14163" y="11361"/>
                </a:moveTo>
                <a:cubicBezTo>
                  <a:pt x="14232" y="11497"/>
                  <a:pt x="14350" y="11614"/>
                  <a:pt x="14387" y="11782"/>
                </a:cubicBezTo>
                <a:cubicBezTo>
                  <a:pt x="14410" y="11887"/>
                  <a:pt x="14324" y="11981"/>
                  <a:pt x="14213" y="11981"/>
                </a:cubicBezTo>
                <a:cubicBezTo>
                  <a:pt x="14213" y="11973"/>
                  <a:pt x="14213" y="11964"/>
                  <a:pt x="14213" y="11956"/>
                </a:cubicBezTo>
              </a:path>
              <a:path w="2085" h="646">
                <a:moveTo>
                  <a:pt x="14585" y="11584"/>
                </a:moveTo>
                <a:cubicBezTo>
                  <a:pt x="14626" y="11584"/>
                  <a:pt x="14668" y="11584"/>
                  <a:pt x="14709" y="11584"/>
                </a:cubicBezTo>
              </a:path>
              <a:path w="2085" h="646">
                <a:moveTo>
                  <a:pt x="14808" y="11336"/>
                </a:moveTo>
                <a:cubicBezTo>
                  <a:pt x="14808" y="11478"/>
                  <a:pt x="14793" y="11624"/>
                  <a:pt x="14833" y="11757"/>
                </a:cubicBezTo>
                <a:cubicBezTo>
                  <a:pt x="14946" y="11782"/>
                  <a:pt x="15030" y="11734"/>
                  <a:pt x="15106" y="11633"/>
                </a:cubicBezTo>
                <a:cubicBezTo>
                  <a:pt x="15106" y="11609"/>
                  <a:pt x="15106" y="11600"/>
                  <a:pt x="15106" y="11584"/>
                </a:cubicBezTo>
                <a:cubicBezTo>
                  <a:pt x="15025" y="11614"/>
                  <a:pt x="14988" y="11666"/>
                  <a:pt x="1495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4960" y="4205160"/>
            <a:ext cx="330120" cy="12564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21208" y="11708"/>
                </a:moveTo>
                <a:cubicBezTo>
                  <a:pt x="21179" y="11621"/>
                  <a:pt x="21069" y="11758"/>
                  <a:pt x="21034" y="11782"/>
                </a:cubicBezTo>
                <a:cubicBezTo>
                  <a:pt x="21018" y="11790"/>
                  <a:pt x="21001" y="11799"/>
                  <a:pt x="20985" y="11807"/>
                </a:cubicBezTo>
                <a:cubicBezTo>
                  <a:pt x="21069" y="11856"/>
                  <a:pt x="21145" y="11893"/>
                  <a:pt x="21208" y="11956"/>
                </a:cubicBezTo>
                <a:cubicBezTo>
                  <a:pt x="21135" y="12065"/>
                  <a:pt x="21174" y="11864"/>
                  <a:pt x="21183" y="11832"/>
                </a:cubicBezTo>
                <a:cubicBezTo>
                  <a:pt x="21203" y="11771"/>
                  <a:pt x="21201" y="11756"/>
                  <a:pt x="21233" y="11733"/>
                </a:cubicBezTo>
              </a:path>
              <a:path w="919" h="348">
                <a:moveTo>
                  <a:pt x="21258" y="11857"/>
                </a:moveTo>
                <a:cubicBezTo>
                  <a:pt x="21387" y="11857"/>
                  <a:pt x="21503" y="11850"/>
                  <a:pt x="21630" y="11832"/>
                </a:cubicBezTo>
              </a:path>
              <a:path w="919" h="348">
                <a:moveTo>
                  <a:pt x="21828" y="11708"/>
                </a:moveTo>
                <a:cubicBezTo>
                  <a:pt x="21749" y="11747"/>
                  <a:pt x="21604" y="11900"/>
                  <a:pt x="21704" y="12005"/>
                </a:cubicBezTo>
                <a:cubicBezTo>
                  <a:pt x="21808" y="12114"/>
                  <a:pt x="21871" y="11964"/>
                  <a:pt x="21903" y="11906"/>
                </a:cubicBezTo>
                <a:cubicBezTo>
                  <a:pt x="21851" y="11825"/>
                  <a:pt x="21809" y="11796"/>
                  <a:pt x="21729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28000" y="4224240"/>
            <a:ext cx="115920" cy="54000"/>
          </a:xfrm>
          <a:custGeom>
            <a:avLst/>
            <a:gdLst/>
            <a:ahLst/>
            <a:rect l="l" t="t" r="r" b="b"/>
            <a:pathLst>
              <a:path w="324" h="149">
                <a:moveTo>
                  <a:pt x="22299" y="11733"/>
                </a:moveTo>
                <a:cubicBezTo>
                  <a:pt x="22340" y="11793"/>
                  <a:pt x="22330" y="11884"/>
                  <a:pt x="22423" y="11881"/>
                </a:cubicBezTo>
                <a:cubicBezTo>
                  <a:pt x="22535" y="11859"/>
                  <a:pt x="22566" y="11858"/>
                  <a:pt x="22622" y="118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3280" y="3187800"/>
            <a:ext cx="473400" cy="250560"/>
          </a:xfrm>
          <a:custGeom>
            <a:avLst/>
            <a:gdLst/>
            <a:ahLst/>
            <a:rect l="l" t="t" r="r" b="b"/>
            <a:pathLst>
              <a:path w="1316" h="696">
                <a:moveTo>
                  <a:pt x="13146" y="9054"/>
                </a:moveTo>
                <a:cubicBezTo>
                  <a:pt x="13084" y="9054"/>
                  <a:pt x="13216" y="9030"/>
                  <a:pt x="13221" y="9029"/>
                </a:cubicBezTo>
                <a:cubicBezTo>
                  <a:pt x="13238" y="9029"/>
                  <a:pt x="13254" y="9029"/>
                  <a:pt x="13271" y="9029"/>
                </a:cubicBezTo>
                <a:cubicBezTo>
                  <a:pt x="13313" y="9176"/>
                  <a:pt x="13288" y="9267"/>
                  <a:pt x="13146" y="9351"/>
                </a:cubicBezTo>
                <a:cubicBezTo>
                  <a:pt x="13049" y="9408"/>
                  <a:pt x="12991" y="9422"/>
                  <a:pt x="12898" y="9401"/>
                </a:cubicBezTo>
                <a:cubicBezTo>
                  <a:pt x="12898" y="9309"/>
                  <a:pt x="12964" y="9329"/>
                  <a:pt x="13047" y="9327"/>
                </a:cubicBezTo>
                <a:cubicBezTo>
                  <a:pt x="13185" y="9324"/>
                  <a:pt x="13206" y="9334"/>
                  <a:pt x="13295" y="9426"/>
                </a:cubicBezTo>
              </a:path>
              <a:path w="1316" h="696">
                <a:moveTo>
                  <a:pt x="13519" y="8855"/>
                </a:moveTo>
                <a:cubicBezTo>
                  <a:pt x="13498" y="8959"/>
                  <a:pt x="13453" y="9068"/>
                  <a:pt x="13444" y="9178"/>
                </a:cubicBezTo>
                <a:cubicBezTo>
                  <a:pt x="13436" y="9281"/>
                  <a:pt x="13403" y="9451"/>
                  <a:pt x="13519" y="9500"/>
                </a:cubicBezTo>
                <a:cubicBezTo>
                  <a:pt x="13550" y="9513"/>
                  <a:pt x="13552" y="9547"/>
                  <a:pt x="13568" y="9500"/>
                </a:cubicBezTo>
              </a:path>
              <a:path w="1316" h="696">
                <a:moveTo>
                  <a:pt x="13643" y="9153"/>
                </a:moveTo>
                <a:cubicBezTo>
                  <a:pt x="13643" y="9128"/>
                  <a:pt x="13643" y="9120"/>
                  <a:pt x="13667" y="9128"/>
                </a:cubicBezTo>
                <a:cubicBezTo>
                  <a:pt x="13667" y="9214"/>
                  <a:pt x="13685" y="9291"/>
                  <a:pt x="13692" y="9376"/>
                </a:cubicBezTo>
                <a:cubicBezTo>
                  <a:pt x="13692" y="9401"/>
                  <a:pt x="13692" y="9409"/>
                  <a:pt x="13692" y="9426"/>
                </a:cubicBezTo>
              </a:path>
              <a:path w="1316" h="696">
                <a:moveTo>
                  <a:pt x="13866" y="9153"/>
                </a:moveTo>
                <a:cubicBezTo>
                  <a:pt x="13841" y="9185"/>
                  <a:pt x="13737" y="9314"/>
                  <a:pt x="13816" y="9351"/>
                </a:cubicBezTo>
                <a:cubicBezTo>
                  <a:pt x="13890" y="9386"/>
                  <a:pt x="14064" y="9373"/>
                  <a:pt x="14064" y="9252"/>
                </a:cubicBezTo>
                <a:cubicBezTo>
                  <a:pt x="14064" y="9182"/>
                  <a:pt x="13986" y="9160"/>
                  <a:pt x="13940" y="9153"/>
                </a:cubicBezTo>
              </a:path>
              <a:path w="1316" h="696">
                <a:moveTo>
                  <a:pt x="13990" y="8905"/>
                </a:moveTo>
                <a:cubicBezTo>
                  <a:pt x="14038" y="8985"/>
                  <a:pt x="14182" y="9071"/>
                  <a:pt x="14213" y="9178"/>
                </a:cubicBezTo>
                <a:cubicBezTo>
                  <a:pt x="14248" y="9298"/>
                  <a:pt x="14194" y="9477"/>
                  <a:pt x="14089" y="9550"/>
                </a:cubicBezTo>
                <a:cubicBezTo>
                  <a:pt x="14061" y="9550"/>
                  <a:pt x="14055" y="9548"/>
                  <a:pt x="14089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7920" y="3456000"/>
            <a:ext cx="706320" cy="419040"/>
          </a:xfrm>
          <a:custGeom>
            <a:avLst/>
            <a:gdLst/>
            <a:ahLst/>
            <a:rect l="l" t="t" r="r" b="b"/>
            <a:pathLst>
              <a:path w="1961" h="1167">
                <a:moveTo>
                  <a:pt x="13295" y="9723"/>
                </a:moveTo>
                <a:cubicBezTo>
                  <a:pt x="13287" y="9756"/>
                  <a:pt x="13291" y="9789"/>
                  <a:pt x="13271" y="9748"/>
                </a:cubicBezTo>
                <a:cubicBezTo>
                  <a:pt x="13408" y="9748"/>
                  <a:pt x="13464" y="9844"/>
                  <a:pt x="13370" y="9971"/>
                </a:cubicBezTo>
                <a:cubicBezTo>
                  <a:pt x="13306" y="10056"/>
                  <a:pt x="13181" y="10097"/>
                  <a:pt x="13097" y="10046"/>
                </a:cubicBezTo>
                <a:cubicBezTo>
                  <a:pt x="13194" y="9932"/>
                  <a:pt x="13276" y="9988"/>
                  <a:pt x="13395" y="10071"/>
                </a:cubicBezTo>
                <a:cubicBezTo>
                  <a:pt x="13403" y="10079"/>
                  <a:pt x="13411" y="10088"/>
                  <a:pt x="13419" y="10096"/>
                </a:cubicBezTo>
              </a:path>
              <a:path w="1961" h="1167">
                <a:moveTo>
                  <a:pt x="13568" y="9823"/>
                </a:moveTo>
                <a:cubicBezTo>
                  <a:pt x="13503" y="9909"/>
                  <a:pt x="13478" y="9973"/>
                  <a:pt x="13444" y="10071"/>
                </a:cubicBezTo>
                <a:cubicBezTo>
                  <a:pt x="13553" y="10098"/>
                  <a:pt x="13687" y="10074"/>
                  <a:pt x="13692" y="9922"/>
                </a:cubicBezTo>
                <a:cubicBezTo>
                  <a:pt x="13695" y="9825"/>
                  <a:pt x="13633" y="9831"/>
                  <a:pt x="13568" y="9823"/>
                </a:cubicBezTo>
              </a:path>
              <a:path w="1961" h="1167">
                <a:moveTo>
                  <a:pt x="13841" y="9847"/>
                </a:moveTo>
                <a:cubicBezTo>
                  <a:pt x="13924" y="9860"/>
                  <a:pt x="13951" y="9860"/>
                  <a:pt x="14039" y="9847"/>
                </a:cubicBezTo>
              </a:path>
              <a:path w="1961" h="1167">
                <a:moveTo>
                  <a:pt x="14263" y="9599"/>
                </a:moveTo>
                <a:cubicBezTo>
                  <a:pt x="14247" y="9713"/>
                  <a:pt x="14228" y="9787"/>
                  <a:pt x="14238" y="9897"/>
                </a:cubicBezTo>
                <a:cubicBezTo>
                  <a:pt x="14238" y="9942"/>
                  <a:pt x="14234" y="9955"/>
                  <a:pt x="14263" y="9971"/>
                </a:cubicBezTo>
                <a:cubicBezTo>
                  <a:pt x="14352" y="9948"/>
                  <a:pt x="14450" y="9955"/>
                  <a:pt x="14461" y="9847"/>
                </a:cubicBezTo>
                <a:cubicBezTo>
                  <a:pt x="14461" y="9839"/>
                  <a:pt x="14461" y="9831"/>
                  <a:pt x="14461" y="9823"/>
                </a:cubicBezTo>
                <a:cubicBezTo>
                  <a:pt x="14386" y="9823"/>
                  <a:pt x="14347" y="9814"/>
                  <a:pt x="14337" y="9897"/>
                </a:cubicBezTo>
                <a:cubicBezTo>
                  <a:pt x="14337" y="9914"/>
                  <a:pt x="14337" y="9930"/>
                  <a:pt x="14337" y="9947"/>
                </a:cubicBezTo>
              </a:path>
              <a:path w="1961" h="1167">
                <a:moveTo>
                  <a:pt x="13171" y="10393"/>
                </a:moveTo>
                <a:cubicBezTo>
                  <a:pt x="13206" y="10287"/>
                  <a:pt x="13274" y="10522"/>
                  <a:pt x="13271" y="10542"/>
                </a:cubicBezTo>
                <a:cubicBezTo>
                  <a:pt x="13252" y="10679"/>
                  <a:pt x="13123" y="10713"/>
                  <a:pt x="13022" y="10691"/>
                </a:cubicBezTo>
                <a:cubicBezTo>
                  <a:pt x="13072" y="10566"/>
                  <a:pt x="13173" y="10609"/>
                  <a:pt x="13271" y="10666"/>
                </a:cubicBezTo>
                <a:cubicBezTo>
                  <a:pt x="13295" y="10691"/>
                  <a:pt x="13303" y="10700"/>
                  <a:pt x="13320" y="10716"/>
                </a:cubicBezTo>
              </a:path>
              <a:path w="1961" h="1167">
                <a:moveTo>
                  <a:pt x="13519" y="10344"/>
                </a:moveTo>
                <a:cubicBezTo>
                  <a:pt x="13501" y="10395"/>
                  <a:pt x="13411" y="10459"/>
                  <a:pt x="13395" y="10542"/>
                </a:cubicBezTo>
                <a:cubicBezTo>
                  <a:pt x="13370" y="10666"/>
                  <a:pt x="13394" y="10758"/>
                  <a:pt x="13519" y="10765"/>
                </a:cubicBezTo>
                <a:cubicBezTo>
                  <a:pt x="13535" y="10765"/>
                  <a:pt x="13552" y="10765"/>
                  <a:pt x="13568" y="10765"/>
                </a:cubicBezTo>
              </a:path>
              <a:path w="1961" h="1167">
                <a:moveTo>
                  <a:pt x="13618" y="10393"/>
                </a:moveTo>
                <a:cubicBezTo>
                  <a:pt x="13643" y="10393"/>
                  <a:pt x="13651" y="10393"/>
                  <a:pt x="13667" y="10393"/>
                </a:cubicBezTo>
                <a:cubicBezTo>
                  <a:pt x="13692" y="10535"/>
                  <a:pt x="13713" y="10563"/>
                  <a:pt x="13618" y="10666"/>
                </a:cubicBezTo>
                <a:cubicBezTo>
                  <a:pt x="13607" y="10678"/>
                  <a:pt x="13538" y="10715"/>
                  <a:pt x="13519" y="10691"/>
                </a:cubicBezTo>
                <a:cubicBezTo>
                  <a:pt x="13519" y="10683"/>
                  <a:pt x="13519" y="10674"/>
                  <a:pt x="13519" y="10666"/>
                </a:cubicBezTo>
                <a:cubicBezTo>
                  <a:pt x="13566" y="10603"/>
                  <a:pt x="13606" y="10610"/>
                  <a:pt x="13667" y="10666"/>
                </a:cubicBezTo>
                <a:cubicBezTo>
                  <a:pt x="13741" y="10734"/>
                  <a:pt x="13725" y="10708"/>
                  <a:pt x="13816" y="10666"/>
                </a:cubicBezTo>
              </a:path>
              <a:path w="1961" h="1167">
                <a:moveTo>
                  <a:pt x="13965" y="10393"/>
                </a:moveTo>
                <a:cubicBezTo>
                  <a:pt x="13870" y="10414"/>
                  <a:pt x="13705" y="10506"/>
                  <a:pt x="13767" y="10641"/>
                </a:cubicBezTo>
                <a:cubicBezTo>
                  <a:pt x="13827" y="10773"/>
                  <a:pt x="14058" y="10669"/>
                  <a:pt x="14039" y="10542"/>
                </a:cubicBezTo>
                <a:cubicBezTo>
                  <a:pt x="13992" y="10471"/>
                  <a:pt x="13979" y="10447"/>
                  <a:pt x="13915" y="10443"/>
                </a:cubicBezTo>
              </a:path>
              <a:path w="1961" h="1167">
                <a:moveTo>
                  <a:pt x="13990" y="10344"/>
                </a:moveTo>
                <a:cubicBezTo>
                  <a:pt x="14081" y="10411"/>
                  <a:pt x="14258" y="10492"/>
                  <a:pt x="14238" y="10641"/>
                </a:cubicBezTo>
                <a:cubicBezTo>
                  <a:pt x="14188" y="10716"/>
                  <a:pt x="14172" y="10740"/>
                  <a:pt x="14114" y="10765"/>
                </a:cubicBezTo>
              </a:path>
              <a:path w="1961" h="1167">
                <a:moveTo>
                  <a:pt x="14461" y="10443"/>
                </a:moveTo>
                <a:cubicBezTo>
                  <a:pt x="14530" y="10428"/>
                  <a:pt x="14582" y="10425"/>
                  <a:pt x="14635" y="10393"/>
                </a:cubicBezTo>
              </a:path>
              <a:path w="1961" h="1167">
                <a:moveTo>
                  <a:pt x="14635" y="10344"/>
                </a:moveTo>
                <a:cubicBezTo>
                  <a:pt x="14635" y="10393"/>
                  <a:pt x="14625" y="10561"/>
                  <a:pt x="14660" y="10592"/>
                </a:cubicBezTo>
                <a:cubicBezTo>
                  <a:pt x="14738" y="10660"/>
                  <a:pt x="14937" y="10604"/>
                  <a:pt x="14982" y="10517"/>
                </a:cubicBezTo>
                <a:cubicBezTo>
                  <a:pt x="14982" y="10492"/>
                  <a:pt x="14982" y="10468"/>
                  <a:pt x="14982" y="10443"/>
                </a:cubicBezTo>
                <a:cubicBezTo>
                  <a:pt x="14875" y="10411"/>
                  <a:pt x="14857" y="10419"/>
                  <a:pt x="14833" y="10542"/>
                </a:cubicBezTo>
                <a:cubicBezTo>
                  <a:pt x="14833" y="10583"/>
                  <a:pt x="14833" y="10591"/>
                  <a:pt x="14833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57880" y="3214800"/>
            <a:ext cx="411120" cy="312480"/>
          </a:xfrm>
          <a:custGeom>
            <a:avLst/>
            <a:gdLst/>
            <a:ahLst/>
            <a:rect l="l" t="t" r="r" b="b"/>
            <a:pathLst>
              <a:path w="1142" h="869">
                <a:moveTo>
                  <a:pt x="15007" y="8930"/>
                </a:moveTo>
                <a:cubicBezTo>
                  <a:pt x="14953" y="9004"/>
                  <a:pt x="14892" y="9088"/>
                  <a:pt x="14883" y="9178"/>
                </a:cubicBezTo>
                <a:cubicBezTo>
                  <a:pt x="14871" y="9293"/>
                  <a:pt x="14961" y="9321"/>
                  <a:pt x="15056" y="9327"/>
                </a:cubicBezTo>
                <a:cubicBezTo>
                  <a:pt x="15162" y="9334"/>
                  <a:pt x="15231" y="9319"/>
                  <a:pt x="15304" y="9252"/>
                </a:cubicBezTo>
                <a:cubicBezTo>
                  <a:pt x="15326" y="9230"/>
                  <a:pt x="15335" y="9225"/>
                  <a:pt x="15329" y="9203"/>
                </a:cubicBezTo>
                <a:cubicBezTo>
                  <a:pt x="15264" y="9178"/>
                  <a:pt x="15210" y="9145"/>
                  <a:pt x="15180" y="9227"/>
                </a:cubicBezTo>
                <a:cubicBezTo>
                  <a:pt x="15172" y="9248"/>
                  <a:pt x="15180" y="9310"/>
                  <a:pt x="15180" y="9327"/>
                </a:cubicBezTo>
              </a:path>
              <a:path w="1142" h="869">
                <a:moveTo>
                  <a:pt x="15503" y="9302"/>
                </a:moveTo>
                <a:cubicBezTo>
                  <a:pt x="15518" y="9434"/>
                  <a:pt x="15537" y="9565"/>
                  <a:pt x="15553" y="9699"/>
                </a:cubicBezTo>
                <a:cubicBezTo>
                  <a:pt x="15560" y="9755"/>
                  <a:pt x="15571" y="9645"/>
                  <a:pt x="15577" y="9624"/>
                </a:cubicBezTo>
              </a:path>
              <a:path w="1142" h="869">
                <a:moveTo>
                  <a:pt x="15726" y="9277"/>
                </a:moveTo>
                <a:cubicBezTo>
                  <a:pt x="15726" y="9343"/>
                  <a:pt x="15726" y="9409"/>
                  <a:pt x="15726" y="9475"/>
                </a:cubicBezTo>
                <a:cubicBezTo>
                  <a:pt x="15802" y="9475"/>
                  <a:pt x="15951" y="9503"/>
                  <a:pt x="15999" y="9426"/>
                </a:cubicBezTo>
                <a:cubicBezTo>
                  <a:pt x="16007" y="9401"/>
                  <a:pt x="16016" y="9376"/>
                  <a:pt x="16024" y="9351"/>
                </a:cubicBezTo>
              </a:path>
              <a:path w="1142" h="869">
                <a:moveTo>
                  <a:pt x="15900" y="9153"/>
                </a:moveTo>
                <a:cubicBezTo>
                  <a:pt x="15933" y="9359"/>
                  <a:pt x="15968" y="9566"/>
                  <a:pt x="15999" y="9773"/>
                </a:cubicBezTo>
                <a:cubicBezTo>
                  <a:pt x="15999" y="9781"/>
                  <a:pt x="15999" y="9790"/>
                  <a:pt x="15999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25760" y="3214800"/>
            <a:ext cx="6500520" cy="2482560"/>
          </a:xfrm>
          <a:custGeom>
            <a:avLst/>
            <a:gdLst/>
            <a:ahLst/>
            <a:rect l="l" t="t" r="r" b="b"/>
            <a:pathLst>
              <a:path w="18059" h="6896">
                <a:moveTo>
                  <a:pt x="6127" y="13419"/>
                </a:moveTo>
                <a:cubicBezTo>
                  <a:pt x="6253" y="13461"/>
                  <a:pt x="6291" y="13537"/>
                  <a:pt x="6251" y="13667"/>
                </a:cubicBezTo>
                <a:cubicBezTo>
                  <a:pt x="6219" y="13771"/>
                  <a:pt x="6156" y="13816"/>
                  <a:pt x="6052" y="13816"/>
                </a:cubicBezTo>
                <a:cubicBezTo>
                  <a:pt x="6052" y="13734"/>
                  <a:pt x="6059" y="13641"/>
                  <a:pt x="6176" y="13717"/>
                </a:cubicBezTo>
                <a:cubicBezTo>
                  <a:pt x="6245" y="13762"/>
                  <a:pt x="6307" y="13809"/>
                  <a:pt x="6350" y="13866"/>
                </a:cubicBezTo>
              </a:path>
              <a:path w="18059" h="6896">
                <a:moveTo>
                  <a:pt x="4812" y="14238"/>
                </a:moveTo>
                <a:cubicBezTo>
                  <a:pt x="4812" y="14343"/>
                  <a:pt x="4791" y="14434"/>
                  <a:pt x="4762" y="14536"/>
                </a:cubicBezTo>
              </a:path>
              <a:path w="18059" h="6896">
                <a:moveTo>
                  <a:pt x="5085" y="14188"/>
                </a:moveTo>
                <a:cubicBezTo>
                  <a:pt x="5077" y="14223"/>
                  <a:pt x="4990" y="14520"/>
                  <a:pt x="5035" y="14536"/>
                </a:cubicBezTo>
                <a:cubicBezTo>
                  <a:pt x="5223" y="14601"/>
                  <a:pt x="5267" y="14434"/>
                  <a:pt x="5259" y="14312"/>
                </a:cubicBezTo>
                <a:cubicBezTo>
                  <a:pt x="5092" y="14326"/>
                  <a:pt x="5092" y="14352"/>
                  <a:pt x="5110" y="14511"/>
                </a:cubicBezTo>
                <a:cubicBezTo>
                  <a:pt x="5110" y="14519"/>
                  <a:pt x="5110" y="14528"/>
                  <a:pt x="5110" y="14536"/>
                </a:cubicBezTo>
              </a:path>
              <a:path w="18059" h="6896">
                <a:moveTo>
                  <a:pt x="5606" y="14288"/>
                </a:moveTo>
                <a:cubicBezTo>
                  <a:pt x="5628" y="14331"/>
                  <a:pt x="5632" y="14352"/>
                  <a:pt x="5655" y="14312"/>
                </a:cubicBezTo>
              </a:path>
              <a:path w="18059" h="6896">
                <a:moveTo>
                  <a:pt x="6028" y="14089"/>
                </a:moveTo>
                <a:cubicBezTo>
                  <a:pt x="6165" y="14089"/>
                  <a:pt x="6209" y="14121"/>
                  <a:pt x="6176" y="14288"/>
                </a:cubicBezTo>
                <a:cubicBezTo>
                  <a:pt x="6149" y="14426"/>
                  <a:pt x="6060" y="14404"/>
                  <a:pt x="5953" y="14412"/>
                </a:cubicBezTo>
                <a:cubicBezTo>
                  <a:pt x="5976" y="14328"/>
                  <a:pt x="6077" y="14180"/>
                  <a:pt x="6176" y="14312"/>
                </a:cubicBezTo>
                <a:cubicBezTo>
                  <a:pt x="6188" y="14328"/>
                  <a:pt x="6226" y="14499"/>
                  <a:pt x="6226" y="14436"/>
                </a:cubicBezTo>
              </a:path>
              <a:path w="18059" h="6896">
                <a:moveTo>
                  <a:pt x="6747" y="13891"/>
                </a:moveTo>
                <a:cubicBezTo>
                  <a:pt x="6747" y="13856"/>
                  <a:pt x="6756" y="13843"/>
                  <a:pt x="6796" y="13841"/>
                </a:cubicBezTo>
                <a:cubicBezTo>
                  <a:pt x="6860" y="13862"/>
                  <a:pt x="6826" y="13995"/>
                  <a:pt x="6772" y="14039"/>
                </a:cubicBezTo>
                <a:cubicBezTo>
                  <a:pt x="6755" y="14039"/>
                  <a:pt x="6739" y="14039"/>
                  <a:pt x="6722" y="14039"/>
                </a:cubicBezTo>
                <a:cubicBezTo>
                  <a:pt x="6813" y="14039"/>
                  <a:pt x="6943" y="14006"/>
                  <a:pt x="6921" y="14139"/>
                </a:cubicBezTo>
                <a:cubicBezTo>
                  <a:pt x="6901" y="14259"/>
                  <a:pt x="6640" y="14358"/>
                  <a:pt x="6672" y="14213"/>
                </a:cubicBezTo>
                <a:cubicBezTo>
                  <a:pt x="6689" y="14172"/>
                  <a:pt x="6705" y="14130"/>
                  <a:pt x="6722" y="14089"/>
                </a:cubicBezTo>
              </a:path>
              <a:path w="18059" h="6896">
                <a:moveTo>
                  <a:pt x="7069" y="13742"/>
                </a:moveTo>
                <a:cubicBezTo>
                  <a:pt x="6949" y="13816"/>
                  <a:pt x="7181" y="13703"/>
                  <a:pt x="7243" y="13767"/>
                </a:cubicBezTo>
                <a:cubicBezTo>
                  <a:pt x="7408" y="13938"/>
                  <a:pt x="7164" y="14104"/>
                  <a:pt x="7045" y="14163"/>
                </a:cubicBezTo>
                <a:cubicBezTo>
                  <a:pt x="7064" y="14047"/>
                  <a:pt x="7063" y="13996"/>
                  <a:pt x="7193" y="14039"/>
                </a:cubicBezTo>
                <a:cubicBezTo>
                  <a:pt x="7279" y="14068"/>
                  <a:pt x="7359" y="14143"/>
                  <a:pt x="7441" y="14163"/>
                </a:cubicBezTo>
              </a:path>
              <a:path w="18059" h="6896">
                <a:moveTo>
                  <a:pt x="4614" y="14684"/>
                </a:moveTo>
                <a:cubicBezTo>
                  <a:pt x="4690" y="14660"/>
                  <a:pt x="4520" y="14952"/>
                  <a:pt x="4514" y="15056"/>
                </a:cubicBezTo>
                <a:cubicBezTo>
                  <a:pt x="4510" y="15125"/>
                  <a:pt x="4594" y="15124"/>
                  <a:pt x="4638" y="15131"/>
                </a:cubicBezTo>
              </a:path>
              <a:path w="18059" h="6896">
                <a:moveTo>
                  <a:pt x="4762" y="14684"/>
                </a:moveTo>
                <a:cubicBezTo>
                  <a:pt x="4762" y="14798"/>
                  <a:pt x="4751" y="14895"/>
                  <a:pt x="4738" y="15007"/>
                </a:cubicBezTo>
              </a:path>
              <a:path w="18059" h="6896">
                <a:moveTo>
                  <a:pt x="4887" y="14734"/>
                </a:moveTo>
                <a:cubicBezTo>
                  <a:pt x="4979" y="14734"/>
                  <a:pt x="5035" y="14729"/>
                  <a:pt x="5060" y="14833"/>
                </a:cubicBezTo>
                <a:cubicBezTo>
                  <a:pt x="5096" y="14984"/>
                  <a:pt x="4909" y="14956"/>
                  <a:pt x="4887" y="15056"/>
                </a:cubicBezTo>
                <a:cubicBezTo>
                  <a:pt x="4883" y="15076"/>
                  <a:pt x="5086" y="15081"/>
                  <a:pt x="5110" y="15081"/>
                </a:cubicBezTo>
              </a:path>
              <a:path w="18059" h="6896">
                <a:moveTo>
                  <a:pt x="5259" y="14808"/>
                </a:moveTo>
                <a:cubicBezTo>
                  <a:pt x="5275" y="14903"/>
                  <a:pt x="5283" y="14984"/>
                  <a:pt x="5283" y="15081"/>
                </a:cubicBezTo>
              </a:path>
              <a:path w="18059" h="6896">
                <a:moveTo>
                  <a:pt x="5159" y="14908"/>
                </a:moveTo>
                <a:cubicBezTo>
                  <a:pt x="5274" y="14919"/>
                  <a:pt x="5389" y="14948"/>
                  <a:pt x="5507" y="14932"/>
                </a:cubicBezTo>
                <a:cubicBezTo>
                  <a:pt x="5540" y="14924"/>
                  <a:pt x="5573" y="14916"/>
                  <a:pt x="5606" y="14908"/>
                </a:cubicBezTo>
              </a:path>
              <a:path w="18059" h="6896">
                <a:moveTo>
                  <a:pt x="5804" y="14784"/>
                </a:moveTo>
                <a:cubicBezTo>
                  <a:pt x="5725" y="14793"/>
                  <a:pt x="5596" y="14801"/>
                  <a:pt x="5606" y="14908"/>
                </a:cubicBezTo>
                <a:cubicBezTo>
                  <a:pt x="5617" y="15033"/>
                  <a:pt x="5756" y="15052"/>
                  <a:pt x="5779" y="15180"/>
                </a:cubicBezTo>
                <a:cubicBezTo>
                  <a:pt x="5680" y="15180"/>
                  <a:pt x="5652" y="15115"/>
                  <a:pt x="5680" y="15007"/>
                </a:cubicBezTo>
                <a:cubicBezTo>
                  <a:pt x="5706" y="14908"/>
                  <a:pt x="5740" y="14839"/>
                  <a:pt x="5804" y="14759"/>
                </a:cubicBezTo>
                <a:cubicBezTo>
                  <a:pt x="5821" y="14751"/>
                  <a:pt x="5837" y="14742"/>
                  <a:pt x="5854" y="14734"/>
                </a:cubicBezTo>
              </a:path>
              <a:path w="18059" h="6896">
                <a:moveTo>
                  <a:pt x="5953" y="14684"/>
                </a:moveTo>
                <a:cubicBezTo>
                  <a:pt x="5983" y="14817"/>
                  <a:pt x="6067" y="15052"/>
                  <a:pt x="5978" y="15180"/>
                </a:cubicBezTo>
                <a:cubicBezTo>
                  <a:pt x="5905" y="15235"/>
                  <a:pt x="5905" y="15260"/>
                  <a:pt x="5854" y="15255"/>
                </a:cubicBezTo>
              </a:path>
              <a:path w="18059" h="6896">
                <a:moveTo>
                  <a:pt x="6300" y="15007"/>
                </a:moveTo>
                <a:cubicBezTo>
                  <a:pt x="6300" y="15042"/>
                  <a:pt x="6296" y="15059"/>
                  <a:pt x="6276" y="15081"/>
                </a:cubicBezTo>
              </a:path>
              <a:path w="18059" h="6896">
                <a:moveTo>
                  <a:pt x="6548" y="14784"/>
                </a:moveTo>
                <a:cubicBezTo>
                  <a:pt x="6645" y="14818"/>
                  <a:pt x="6760" y="14845"/>
                  <a:pt x="6722" y="14982"/>
                </a:cubicBezTo>
                <a:cubicBezTo>
                  <a:pt x="6693" y="15084"/>
                  <a:pt x="6574" y="15131"/>
                  <a:pt x="6499" y="15106"/>
                </a:cubicBezTo>
                <a:cubicBezTo>
                  <a:pt x="6515" y="14997"/>
                  <a:pt x="6576" y="15028"/>
                  <a:pt x="6672" y="15056"/>
                </a:cubicBezTo>
                <a:cubicBezTo>
                  <a:pt x="6748" y="15078"/>
                  <a:pt x="6799" y="15121"/>
                  <a:pt x="6871" y="15131"/>
                </a:cubicBezTo>
              </a:path>
              <a:path w="18059" h="6896">
                <a:moveTo>
                  <a:pt x="4936" y="15354"/>
                </a:moveTo>
                <a:cubicBezTo>
                  <a:pt x="4911" y="15379"/>
                  <a:pt x="4887" y="15404"/>
                  <a:pt x="4862" y="15429"/>
                </a:cubicBezTo>
                <a:cubicBezTo>
                  <a:pt x="4887" y="15390"/>
                  <a:pt x="5070" y="15368"/>
                  <a:pt x="5035" y="15503"/>
                </a:cubicBezTo>
                <a:cubicBezTo>
                  <a:pt x="4990" y="15673"/>
                  <a:pt x="4823" y="15741"/>
                  <a:pt x="4688" y="15801"/>
                </a:cubicBezTo>
                <a:cubicBezTo>
                  <a:pt x="4698" y="15702"/>
                  <a:pt x="4692" y="15580"/>
                  <a:pt x="4837" y="15627"/>
                </a:cubicBezTo>
                <a:cubicBezTo>
                  <a:pt x="4926" y="15656"/>
                  <a:pt x="4962" y="15730"/>
                  <a:pt x="4986" y="15801"/>
                </a:cubicBezTo>
              </a:path>
              <a:path w="18059" h="6896">
                <a:moveTo>
                  <a:pt x="5110" y="15503"/>
                </a:moveTo>
                <a:cubicBezTo>
                  <a:pt x="5038" y="15660"/>
                  <a:pt x="4992" y="15722"/>
                  <a:pt x="5110" y="15825"/>
                </a:cubicBezTo>
                <a:cubicBezTo>
                  <a:pt x="5239" y="15765"/>
                  <a:pt x="5386" y="15661"/>
                  <a:pt x="5209" y="15528"/>
                </a:cubicBezTo>
                <a:cubicBezTo>
                  <a:pt x="5142" y="15505"/>
                  <a:pt x="5124" y="15494"/>
                  <a:pt x="5085" y="15528"/>
                </a:cubicBezTo>
              </a:path>
              <a:path w="18059" h="6896">
                <a:moveTo>
                  <a:pt x="5655" y="15701"/>
                </a:moveTo>
                <a:cubicBezTo>
                  <a:pt x="5655" y="15718"/>
                  <a:pt x="5655" y="15734"/>
                  <a:pt x="5655" y="15751"/>
                </a:cubicBezTo>
              </a:path>
              <a:path w="18059" h="6896">
                <a:moveTo>
                  <a:pt x="5953" y="15453"/>
                </a:moveTo>
                <a:cubicBezTo>
                  <a:pt x="5955" y="15448"/>
                  <a:pt x="6157" y="15330"/>
                  <a:pt x="6152" y="15528"/>
                </a:cubicBezTo>
                <a:cubicBezTo>
                  <a:pt x="6147" y="15714"/>
                  <a:pt x="5998" y="15780"/>
                  <a:pt x="5854" y="15751"/>
                </a:cubicBezTo>
                <a:cubicBezTo>
                  <a:pt x="5869" y="15649"/>
                  <a:pt x="5969" y="15623"/>
                  <a:pt x="6077" y="15652"/>
                </a:cubicBezTo>
                <a:cubicBezTo>
                  <a:pt x="6130" y="15666"/>
                  <a:pt x="6171" y="15801"/>
                  <a:pt x="6201" y="15801"/>
                </a:cubicBezTo>
                <a:cubicBezTo>
                  <a:pt x="6201" y="15793"/>
                  <a:pt x="6201" y="15784"/>
                  <a:pt x="6201" y="15776"/>
                </a:cubicBezTo>
              </a:path>
              <a:path w="18059" h="6896">
                <a:moveTo>
                  <a:pt x="7243" y="15329"/>
                </a:moveTo>
                <a:cubicBezTo>
                  <a:pt x="7228" y="15434"/>
                  <a:pt x="7185" y="15470"/>
                  <a:pt x="7144" y="15553"/>
                </a:cubicBezTo>
                <a:cubicBezTo>
                  <a:pt x="7261" y="15538"/>
                  <a:pt x="7381" y="15531"/>
                  <a:pt x="7491" y="15503"/>
                </a:cubicBezTo>
              </a:path>
              <a:path w="18059" h="6896">
                <a:moveTo>
                  <a:pt x="7466" y="15180"/>
                </a:moveTo>
                <a:cubicBezTo>
                  <a:pt x="7466" y="15377"/>
                  <a:pt x="7440" y="15557"/>
                  <a:pt x="7417" y="15751"/>
                </a:cubicBezTo>
                <a:cubicBezTo>
                  <a:pt x="7407" y="15837"/>
                  <a:pt x="7427" y="15772"/>
                  <a:pt x="7466" y="15726"/>
                </a:cubicBezTo>
              </a:path>
              <a:path w="18059" h="6896">
                <a:moveTo>
                  <a:pt x="7714" y="15304"/>
                </a:moveTo>
                <a:cubicBezTo>
                  <a:pt x="7596" y="15492"/>
                  <a:pt x="7510" y="15590"/>
                  <a:pt x="7615" y="15776"/>
                </a:cubicBezTo>
                <a:cubicBezTo>
                  <a:pt x="7753" y="15730"/>
                  <a:pt x="8128" y="15596"/>
                  <a:pt x="7938" y="15379"/>
                </a:cubicBezTo>
                <a:cubicBezTo>
                  <a:pt x="7816" y="15330"/>
                  <a:pt x="7778" y="15314"/>
                  <a:pt x="7689" y="15329"/>
                </a:cubicBezTo>
              </a:path>
              <a:path w="18059" h="6896">
                <a:moveTo>
                  <a:pt x="14486" y="9252"/>
                </a:moveTo>
                <a:cubicBezTo>
                  <a:pt x="14530" y="9243"/>
                  <a:pt x="14564" y="9233"/>
                  <a:pt x="14610" y="9227"/>
                </a:cubicBezTo>
              </a:path>
              <a:path w="18059" h="6896">
                <a:moveTo>
                  <a:pt x="13469" y="12725"/>
                </a:moveTo>
                <a:cubicBezTo>
                  <a:pt x="13386" y="12838"/>
                  <a:pt x="13280" y="13008"/>
                  <a:pt x="13395" y="13146"/>
                </a:cubicBezTo>
                <a:cubicBezTo>
                  <a:pt x="13488" y="13193"/>
                  <a:pt x="13515" y="13213"/>
                  <a:pt x="13568" y="13146"/>
                </a:cubicBezTo>
              </a:path>
              <a:path w="18059" h="6896">
                <a:moveTo>
                  <a:pt x="21233" y="9178"/>
                </a:moveTo>
                <a:cubicBezTo>
                  <a:pt x="21267" y="9253"/>
                  <a:pt x="21293" y="9322"/>
                  <a:pt x="21307" y="9401"/>
                </a:cubicBezTo>
              </a:path>
              <a:path w="18059" h="6896">
                <a:moveTo>
                  <a:pt x="21208" y="9351"/>
                </a:moveTo>
                <a:cubicBezTo>
                  <a:pt x="21299" y="9317"/>
                  <a:pt x="21373" y="9278"/>
                  <a:pt x="21456" y="9227"/>
                </a:cubicBezTo>
              </a:path>
              <a:path w="18059" h="6896">
                <a:moveTo>
                  <a:pt x="22547" y="8930"/>
                </a:moveTo>
                <a:cubicBezTo>
                  <a:pt x="22496" y="9052"/>
                  <a:pt x="22553" y="9171"/>
                  <a:pt x="22572" y="9302"/>
                </a:cubicBezTo>
                <a:cubicBezTo>
                  <a:pt x="22572" y="9318"/>
                  <a:pt x="22572" y="9335"/>
                  <a:pt x="22572" y="9351"/>
                </a:cubicBezTo>
              </a:path>
              <a:path w="18059" h="6896">
                <a:moveTo>
                  <a:pt x="21258" y="10468"/>
                </a:moveTo>
                <a:cubicBezTo>
                  <a:pt x="21284" y="10561"/>
                  <a:pt x="21300" y="10644"/>
                  <a:pt x="21307" y="10740"/>
                </a:cubicBezTo>
              </a:path>
              <a:path w="18059" h="6896">
                <a:moveTo>
                  <a:pt x="21506" y="10468"/>
                </a:moveTo>
                <a:cubicBezTo>
                  <a:pt x="21560" y="10550"/>
                  <a:pt x="21571" y="10648"/>
                  <a:pt x="21605" y="10740"/>
                </a:cubicBezTo>
              </a:path>
              <a:path w="18059" h="6896">
                <a:moveTo>
                  <a:pt x="21927" y="11063"/>
                </a:moveTo>
                <a:cubicBezTo>
                  <a:pt x="22003" y="11063"/>
                  <a:pt x="22029" y="11063"/>
                  <a:pt x="22076" y="11038"/>
                </a:cubicBezTo>
              </a:path>
              <a:path w="18059" h="6896">
                <a:moveTo>
                  <a:pt x="21382" y="11733"/>
                </a:moveTo>
                <a:cubicBezTo>
                  <a:pt x="21421" y="11821"/>
                  <a:pt x="21492" y="11920"/>
                  <a:pt x="21431" y="119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7920" y="4367160"/>
            <a:ext cx="679320" cy="392040"/>
          </a:xfrm>
          <a:custGeom>
            <a:avLst/>
            <a:gdLst/>
            <a:ahLst/>
            <a:rect l="l" t="t" r="r" b="b"/>
            <a:pathLst>
              <a:path w="1887" h="1093">
                <a:moveTo>
                  <a:pt x="13643" y="12154"/>
                </a:moveTo>
                <a:cubicBezTo>
                  <a:pt x="13543" y="12129"/>
                  <a:pt x="13510" y="12121"/>
                  <a:pt x="13444" y="12154"/>
                </a:cubicBezTo>
                <a:cubicBezTo>
                  <a:pt x="13369" y="12329"/>
                  <a:pt x="13597" y="12210"/>
                  <a:pt x="13643" y="12328"/>
                </a:cubicBezTo>
                <a:cubicBezTo>
                  <a:pt x="13678" y="12419"/>
                  <a:pt x="13484" y="12429"/>
                  <a:pt x="13469" y="12427"/>
                </a:cubicBezTo>
                <a:cubicBezTo>
                  <a:pt x="13493" y="12372"/>
                  <a:pt x="13677" y="12162"/>
                  <a:pt x="13667" y="12129"/>
                </a:cubicBezTo>
                <a:cubicBezTo>
                  <a:pt x="13639" y="12129"/>
                  <a:pt x="13634" y="12132"/>
                  <a:pt x="13667" y="12154"/>
                </a:cubicBezTo>
              </a:path>
              <a:path w="1887" h="1093">
                <a:moveTo>
                  <a:pt x="13891" y="12154"/>
                </a:moveTo>
                <a:cubicBezTo>
                  <a:pt x="13804" y="12233"/>
                  <a:pt x="13733" y="12283"/>
                  <a:pt x="13791" y="12402"/>
                </a:cubicBezTo>
                <a:cubicBezTo>
                  <a:pt x="13826" y="12396"/>
                  <a:pt x="14158" y="12299"/>
                  <a:pt x="14015" y="12204"/>
                </a:cubicBezTo>
                <a:cubicBezTo>
                  <a:pt x="13916" y="12179"/>
                  <a:pt x="13884" y="12171"/>
                  <a:pt x="13816" y="12179"/>
                </a:cubicBezTo>
              </a:path>
              <a:path w="1887" h="1093">
                <a:moveTo>
                  <a:pt x="14288" y="12254"/>
                </a:moveTo>
                <a:cubicBezTo>
                  <a:pt x="14347" y="12260"/>
                  <a:pt x="14401" y="12278"/>
                  <a:pt x="14461" y="12278"/>
                </a:cubicBezTo>
              </a:path>
              <a:path w="1887" h="1093">
                <a:moveTo>
                  <a:pt x="14610" y="12129"/>
                </a:moveTo>
                <a:cubicBezTo>
                  <a:pt x="14598" y="12214"/>
                  <a:pt x="14563" y="12314"/>
                  <a:pt x="14585" y="12402"/>
                </a:cubicBezTo>
                <a:cubicBezTo>
                  <a:pt x="14616" y="12526"/>
                  <a:pt x="14799" y="12474"/>
                  <a:pt x="14858" y="12402"/>
                </a:cubicBezTo>
                <a:cubicBezTo>
                  <a:pt x="14877" y="12345"/>
                  <a:pt x="14886" y="12338"/>
                  <a:pt x="14883" y="12303"/>
                </a:cubicBezTo>
                <a:cubicBezTo>
                  <a:pt x="14799" y="12310"/>
                  <a:pt x="14661" y="12306"/>
                  <a:pt x="14660" y="12427"/>
                </a:cubicBezTo>
                <a:cubicBezTo>
                  <a:pt x="14668" y="12435"/>
                  <a:pt x="14676" y="12444"/>
                  <a:pt x="14684" y="12452"/>
                </a:cubicBezTo>
              </a:path>
              <a:path w="1887" h="1093">
                <a:moveTo>
                  <a:pt x="13097" y="12799"/>
                </a:moveTo>
                <a:cubicBezTo>
                  <a:pt x="13182" y="12735"/>
                  <a:pt x="13303" y="12810"/>
                  <a:pt x="13271" y="12948"/>
                </a:cubicBezTo>
                <a:cubicBezTo>
                  <a:pt x="13244" y="13061"/>
                  <a:pt x="13096" y="13065"/>
                  <a:pt x="13047" y="13022"/>
                </a:cubicBezTo>
                <a:cubicBezTo>
                  <a:pt x="13039" y="13014"/>
                  <a:pt x="13030" y="13006"/>
                  <a:pt x="13022" y="12998"/>
                </a:cubicBezTo>
                <a:cubicBezTo>
                  <a:pt x="13126" y="12998"/>
                  <a:pt x="13199" y="13009"/>
                  <a:pt x="13295" y="13047"/>
                </a:cubicBezTo>
              </a:path>
              <a:path w="1887" h="1093">
                <a:moveTo>
                  <a:pt x="13618" y="12849"/>
                </a:moveTo>
                <a:cubicBezTo>
                  <a:pt x="13618" y="12933"/>
                  <a:pt x="13613" y="13002"/>
                  <a:pt x="13643" y="13072"/>
                </a:cubicBezTo>
              </a:path>
              <a:path w="1887" h="1093">
                <a:moveTo>
                  <a:pt x="13767" y="12849"/>
                </a:moveTo>
                <a:cubicBezTo>
                  <a:pt x="13717" y="12884"/>
                  <a:pt x="13577" y="13060"/>
                  <a:pt x="13742" y="13047"/>
                </a:cubicBezTo>
                <a:cubicBezTo>
                  <a:pt x="13831" y="13025"/>
                  <a:pt x="13856" y="13024"/>
                  <a:pt x="13891" y="12973"/>
                </a:cubicBezTo>
                <a:cubicBezTo>
                  <a:pt x="13842" y="12908"/>
                  <a:pt x="13725" y="12868"/>
                  <a:pt x="13816" y="12849"/>
                </a:cubicBezTo>
              </a:path>
              <a:path w="1887" h="1093">
                <a:moveTo>
                  <a:pt x="13990" y="12824"/>
                </a:moveTo>
                <a:cubicBezTo>
                  <a:pt x="13990" y="12923"/>
                  <a:pt x="13990" y="12956"/>
                  <a:pt x="13990" y="13022"/>
                </a:cubicBezTo>
                <a:cubicBezTo>
                  <a:pt x="14104" y="13040"/>
                  <a:pt x="14287" y="13051"/>
                  <a:pt x="14213" y="12874"/>
                </a:cubicBezTo>
                <a:cubicBezTo>
                  <a:pt x="14148" y="12809"/>
                  <a:pt x="14112" y="12785"/>
                  <a:pt x="14039" y="12774"/>
                </a:cubicBezTo>
              </a:path>
              <a:path w="1887" h="1093">
                <a:moveTo>
                  <a:pt x="14163" y="12626"/>
                </a:moveTo>
                <a:cubicBezTo>
                  <a:pt x="14321" y="12783"/>
                  <a:pt x="14558" y="12935"/>
                  <a:pt x="14312" y="13146"/>
                </a:cubicBezTo>
                <a:cubicBezTo>
                  <a:pt x="14189" y="13208"/>
                  <a:pt x="14168" y="13242"/>
                  <a:pt x="14089" y="13196"/>
                </a:cubicBezTo>
              </a:path>
              <a:path w="1887" h="1093">
                <a:moveTo>
                  <a:pt x="14461" y="12898"/>
                </a:moveTo>
                <a:cubicBezTo>
                  <a:pt x="14511" y="12898"/>
                  <a:pt x="14560" y="12898"/>
                  <a:pt x="14610" y="12898"/>
                </a:cubicBezTo>
              </a:path>
              <a:path w="1887" h="1093">
                <a:moveTo>
                  <a:pt x="14585" y="12750"/>
                </a:moveTo>
                <a:cubicBezTo>
                  <a:pt x="14642" y="12792"/>
                  <a:pt x="14644" y="12895"/>
                  <a:pt x="14660" y="12973"/>
                </a:cubicBezTo>
                <a:cubicBezTo>
                  <a:pt x="14678" y="13060"/>
                  <a:pt x="14868" y="12971"/>
                  <a:pt x="14908" y="12923"/>
                </a:cubicBezTo>
                <a:cubicBezTo>
                  <a:pt x="14909" y="12921"/>
                  <a:pt x="14849" y="12896"/>
                  <a:pt x="14808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54800" y="4214880"/>
            <a:ext cx="285480" cy="285840"/>
          </a:xfrm>
          <a:custGeom>
            <a:avLst/>
            <a:gdLst/>
            <a:ahLst/>
            <a:rect l="l" t="t" r="r" b="b"/>
            <a:pathLst>
              <a:path w="794" h="795">
                <a:moveTo>
                  <a:pt x="15429" y="11981"/>
                </a:moveTo>
                <a:cubicBezTo>
                  <a:pt x="15525" y="11981"/>
                  <a:pt x="15607" y="11949"/>
                  <a:pt x="15701" y="11931"/>
                </a:cubicBezTo>
                <a:cubicBezTo>
                  <a:pt x="15709" y="11931"/>
                  <a:pt x="15718" y="11931"/>
                  <a:pt x="15726" y="11931"/>
                </a:cubicBezTo>
                <a:cubicBezTo>
                  <a:pt x="15710" y="12082"/>
                  <a:pt x="15680" y="12233"/>
                  <a:pt x="15652" y="12378"/>
                </a:cubicBezTo>
                <a:cubicBezTo>
                  <a:pt x="15652" y="12402"/>
                  <a:pt x="15652" y="12410"/>
                  <a:pt x="15652" y="12378"/>
                </a:cubicBezTo>
              </a:path>
              <a:path w="794" h="795">
                <a:moveTo>
                  <a:pt x="15900" y="11906"/>
                </a:moveTo>
                <a:cubicBezTo>
                  <a:pt x="15887" y="11993"/>
                  <a:pt x="15834" y="12092"/>
                  <a:pt x="15949" y="12105"/>
                </a:cubicBezTo>
                <a:cubicBezTo>
                  <a:pt x="16046" y="12116"/>
                  <a:pt x="16140" y="12101"/>
                  <a:pt x="16222" y="12080"/>
                </a:cubicBezTo>
              </a:path>
              <a:path w="794" h="795">
                <a:moveTo>
                  <a:pt x="16148" y="11708"/>
                </a:moveTo>
                <a:cubicBezTo>
                  <a:pt x="16167" y="11898"/>
                  <a:pt x="16156" y="12088"/>
                  <a:pt x="16173" y="12278"/>
                </a:cubicBezTo>
                <a:cubicBezTo>
                  <a:pt x="16180" y="12351"/>
                  <a:pt x="16192" y="12443"/>
                  <a:pt x="1622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7960" y="3295800"/>
            <a:ext cx="544320" cy="588960"/>
          </a:xfrm>
          <a:custGeom>
            <a:avLst/>
            <a:gdLst/>
            <a:ahLst/>
            <a:rect l="l" t="t" r="r" b="b"/>
            <a:pathLst>
              <a:path w="1514" h="1638">
                <a:moveTo>
                  <a:pt x="21034" y="9153"/>
                </a:moveTo>
                <a:cubicBezTo>
                  <a:pt x="20995" y="9163"/>
                  <a:pt x="20899" y="9183"/>
                  <a:pt x="20935" y="9252"/>
                </a:cubicBezTo>
                <a:cubicBezTo>
                  <a:pt x="20985" y="9327"/>
                  <a:pt x="21001" y="9351"/>
                  <a:pt x="21059" y="9376"/>
                </a:cubicBezTo>
                <a:cubicBezTo>
                  <a:pt x="21040" y="9446"/>
                  <a:pt x="21024" y="9445"/>
                  <a:pt x="20960" y="9500"/>
                </a:cubicBezTo>
                <a:cubicBezTo>
                  <a:pt x="20960" y="9382"/>
                  <a:pt x="20994" y="9331"/>
                  <a:pt x="21034" y="9227"/>
                </a:cubicBezTo>
                <a:cubicBezTo>
                  <a:pt x="21034" y="9203"/>
                  <a:pt x="21034" y="9194"/>
                  <a:pt x="21034" y="9178"/>
                </a:cubicBezTo>
              </a:path>
              <a:path w="1514" h="1638">
                <a:moveTo>
                  <a:pt x="21208" y="9748"/>
                </a:moveTo>
                <a:cubicBezTo>
                  <a:pt x="21267" y="9731"/>
                  <a:pt x="21467" y="9615"/>
                  <a:pt x="21357" y="9798"/>
                </a:cubicBezTo>
                <a:cubicBezTo>
                  <a:pt x="21332" y="9823"/>
                  <a:pt x="21307" y="9847"/>
                  <a:pt x="21282" y="9872"/>
                </a:cubicBezTo>
                <a:cubicBezTo>
                  <a:pt x="21274" y="9880"/>
                  <a:pt x="21266" y="9889"/>
                  <a:pt x="21258" y="9897"/>
                </a:cubicBezTo>
                <a:cubicBezTo>
                  <a:pt x="21324" y="9875"/>
                  <a:pt x="21545" y="9838"/>
                  <a:pt x="21406" y="9996"/>
                </a:cubicBezTo>
                <a:cubicBezTo>
                  <a:pt x="21286" y="10133"/>
                  <a:pt x="21218" y="10091"/>
                  <a:pt x="21258" y="9947"/>
                </a:cubicBezTo>
              </a:path>
              <a:path w="1514" h="1638">
                <a:moveTo>
                  <a:pt x="21630" y="9624"/>
                </a:moveTo>
                <a:cubicBezTo>
                  <a:pt x="21667" y="9757"/>
                  <a:pt x="21703" y="9891"/>
                  <a:pt x="21729" y="10021"/>
                </a:cubicBezTo>
                <a:cubicBezTo>
                  <a:pt x="21729" y="10029"/>
                  <a:pt x="21729" y="10038"/>
                  <a:pt x="21729" y="10046"/>
                </a:cubicBezTo>
              </a:path>
              <a:path w="1514" h="1638">
                <a:moveTo>
                  <a:pt x="21853" y="9872"/>
                </a:moveTo>
                <a:cubicBezTo>
                  <a:pt x="21920" y="9861"/>
                  <a:pt x="21984" y="9834"/>
                  <a:pt x="22051" y="9823"/>
                </a:cubicBezTo>
              </a:path>
              <a:path w="1514" h="1638">
                <a:moveTo>
                  <a:pt x="22250" y="9550"/>
                </a:moveTo>
                <a:cubicBezTo>
                  <a:pt x="22233" y="9638"/>
                  <a:pt x="22225" y="9708"/>
                  <a:pt x="22225" y="9798"/>
                </a:cubicBezTo>
                <a:cubicBezTo>
                  <a:pt x="22354" y="9798"/>
                  <a:pt x="22375" y="9821"/>
                  <a:pt x="22423" y="9699"/>
                </a:cubicBezTo>
              </a:path>
              <a:path w="1514" h="1638">
                <a:moveTo>
                  <a:pt x="22349" y="9475"/>
                </a:moveTo>
                <a:cubicBezTo>
                  <a:pt x="22330" y="9659"/>
                  <a:pt x="22357" y="9791"/>
                  <a:pt x="22374" y="9971"/>
                </a:cubicBezTo>
                <a:cubicBezTo>
                  <a:pt x="22374" y="10056"/>
                  <a:pt x="22367" y="10076"/>
                  <a:pt x="22399" y="10120"/>
                </a:cubicBezTo>
              </a:path>
              <a:path w="1514" h="1638">
                <a:moveTo>
                  <a:pt x="21109" y="10393"/>
                </a:moveTo>
                <a:cubicBezTo>
                  <a:pt x="21033" y="10412"/>
                  <a:pt x="20971" y="10487"/>
                  <a:pt x="20910" y="10542"/>
                </a:cubicBezTo>
                <a:cubicBezTo>
                  <a:pt x="20959" y="10581"/>
                  <a:pt x="21163" y="10672"/>
                  <a:pt x="21109" y="10765"/>
                </a:cubicBezTo>
                <a:cubicBezTo>
                  <a:pt x="21092" y="10773"/>
                  <a:pt x="21076" y="10782"/>
                  <a:pt x="21059" y="10790"/>
                </a:cubicBezTo>
                <a:cubicBezTo>
                  <a:pt x="21001" y="10675"/>
                  <a:pt x="21097" y="10609"/>
                  <a:pt x="21134" y="10492"/>
                </a:cubicBezTo>
                <a:cubicBezTo>
                  <a:pt x="21134" y="10484"/>
                  <a:pt x="21134" y="10476"/>
                  <a:pt x="21134" y="10468"/>
                </a:cubicBezTo>
              </a:path>
              <a:path w="1514" h="1638">
                <a:moveTo>
                  <a:pt x="21233" y="10641"/>
                </a:moveTo>
                <a:cubicBezTo>
                  <a:pt x="21309" y="10641"/>
                  <a:pt x="21361" y="10622"/>
                  <a:pt x="21431" y="105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13840" y="3384720"/>
            <a:ext cx="295200" cy="187200"/>
          </a:xfrm>
          <a:custGeom>
            <a:avLst/>
            <a:gdLst/>
            <a:ahLst/>
            <a:rect l="l" t="t" r="r" b="b"/>
            <a:pathLst>
              <a:path w="820" h="522">
                <a:moveTo>
                  <a:pt x="23192" y="9599"/>
                </a:moveTo>
                <a:cubicBezTo>
                  <a:pt x="23216" y="9529"/>
                  <a:pt x="23376" y="9610"/>
                  <a:pt x="23391" y="9674"/>
                </a:cubicBezTo>
                <a:cubicBezTo>
                  <a:pt x="23435" y="9866"/>
                  <a:pt x="23221" y="9910"/>
                  <a:pt x="23093" y="9922"/>
                </a:cubicBezTo>
                <a:cubicBezTo>
                  <a:pt x="23159" y="9790"/>
                  <a:pt x="23190" y="9819"/>
                  <a:pt x="23341" y="9847"/>
                </a:cubicBezTo>
                <a:cubicBezTo>
                  <a:pt x="23467" y="9872"/>
                  <a:pt x="23511" y="9880"/>
                  <a:pt x="23589" y="9823"/>
                </a:cubicBezTo>
              </a:path>
              <a:path w="820" h="522">
                <a:moveTo>
                  <a:pt x="23540" y="9426"/>
                </a:moveTo>
                <a:cubicBezTo>
                  <a:pt x="23624" y="9426"/>
                  <a:pt x="23791" y="9379"/>
                  <a:pt x="23862" y="9401"/>
                </a:cubicBezTo>
                <a:cubicBezTo>
                  <a:pt x="23961" y="9432"/>
                  <a:pt x="23912" y="9722"/>
                  <a:pt x="23912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61160" y="2795760"/>
            <a:ext cx="519120" cy="241200"/>
          </a:xfrm>
          <a:custGeom>
            <a:avLst/>
            <a:gdLst/>
            <a:ahLst/>
            <a:rect l="l" t="t" r="r" b="b"/>
            <a:pathLst>
              <a:path w="1440" h="671">
                <a:moveTo>
                  <a:pt x="21282" y="7764"/>
                </a:moveTo>
                <a:cubicBezTo>
                  <a:pt x="21309" y="7831"/>
                  <a:pt x="21325" y="7890"/>
                  <a:pt x="21332" y="7962"/>
                </a:cubicBezTo>
              </a:path>
              <a:path w="1440" h="671">
                <a:moveTo>
                  <a:pt x="22547" y="7813"/>
                </a:moveTo>
                <a:cubicBezTo>
                  <a:pt x="22607" y="7803"/>
                  <a:pt x="22659" y="7794"/>
                  <a:pt x="22721" y="7789"/>
                </a:cubicBezTo>
              </a:path>
              <a:path w="1440" h="671">
                <a:moveTo>
                  <a:pt x="21654" y="8434"/>
                </a:moveTo>
                <a:cubicBezTo>
                  <a:pt x="21630" y="8434"/>
                  <a:pt x="21622" y="8434"/>
                  <a:pt x="21630" y="8409"/>
                </a:cubicBezTo>
              </a:path>
              <a:path w="1440" h="671">
                <a:moveTo>
                  <a:pt x="21630" y="8409"/>
                </a:moveTo>
                <a:lnTo>
                  <a:pt x="21630" y="840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00960" y="2678040"/>
            <a:ext cx="1206360" cy="447840"/>
          </a:xfrm>
          <a:custGeom>
            <a:avLst/>
            <a:gdLst/>
            <a:ahLst/>
            <a:rect l="l" t="t" r="r" b="b"/>
            <a:pathLst>
              <a:path w="3350" h="1242">
                <a:moveTo>
                  <a:pt x="21010" y="7714"/>
                </a:moveTo>
                <a:cubicBezTo>
                  <a:pt x="21096" y="7684"/>
                  <a:pt x="20901" y="7707"/>
                  <a:pt x="20861" y="7739"/>
                </a:cubicBezTo>
                <a:cubicBezTo>
                  <a:pt x="20853" y="7756"/>
                  <a:pt x="20844" y="7772"/>
                  <a:pt x="20836" y="7789"/>
                </a:cubicBezTo>
                <a:cubicBezTo>
                  <a:pt x="20891" y="7844"/>
                  <a:pt x="21128" y="7939"/>
                  <a:pt x="21109" y="8012"/>
                </a:cubicBezTo>
                <a:cubicBezTo>
                  <a:pt x="21062" y="8082"/>
                  <a:pt x="21050" y="8106"/>
                  <a:pt x="20985" y="8086"/>
                </a:cubicBezTo>
                <a:cubicBezTo>
                  <a:pt x="21006" y="7992"/>
                  <a:pt x="21054" y="7920"/>
                  <a:pt x="21059" y="7813"/>
                </a:cubicBezTo>
                <a:cubicBezTo>
                  <a:pt x="21059" y="7755"/>
                  <a:pt x="21059" y="7747"/>
                  <a:pt x="21059" y="7714"/>
                </a:cubicBezTo>
              </a:path>
              <a:path w="3350" h="1242">
                <a:moveTo>
                  <a:pt x="21183" y="7863"/>
                </a:moveTo>
                <a:cubicBezTo>
                  <a:pt x="21274" y="7863"/>
                  <a:pt x="21365" y="7863"/>
                  <a:pt x="21456" y="7863"/>
                </a:cubicBezTo>
              </a:path>
              <a:path w="3350" h="1242">
                <a:moveTo>
                  <a:pt x="21704" y="7714"/>
                </a:moveTo>
                <a:cubicBezTo>
                  <a:pt x="21645" y="7694"/>
                  <a:pt x="21736" y="7643"/>
                  <a:pt x="21779" y="7640"/>
                </a:cubicBezTo>
                <a:cubicBezTo>
                  <a:pt x="21787" y="7648"/>
                  <a:pt x="21795" y="7657"/>
                  <a:pt x="21803" y="7665"/>
                </a:cubicBezTo>
                <a:cubicBezTo>
                  <a:pt x="21828" y="7774"/>
                  <a:pt x="21823" y="7757"/>
                  <a:pt x="21729" y="7813"/>
                </a:cubicBezTo>
                <a:cubicBezTo>
                  <a:pt x="21754" y="7850"/>
                  <a:pt x="21831" y="7858"/>
                  <a:pt x="21878" y="7913"/>
                </a:cubicBezTo>
                <a:cubicBezTo>
                  <a:pt x="21786" y="8013"/>
                  <a:pt x="21755" y="8046"/>
                  <a:pt x="21630" y="8012"/>
                </a:cubicBezTo>
                <a:cubicBezTo>
                  <a:pt x="21595" y="8012"/>
                  <a:pt x="21591" y="8003"/>
                  <a:pt x="21630" y="7962"/>
                </a:cubicBezTo>
              </a:path>
              <a:path w="3350" h="1242">
                <a:moveTo>
                  <a:pt x="22027" y="7714"/>
                </a:moveTo>
                <a:cubicBezTo>
                  <a:pt x="22015" y="7820"/>
                  <a:pt x="21961" y="7906"/>
                  <a:pt x="22002" y="8012"/>
                </a:cubicBezTo>
                <a:cubicBezTo>
                  <a:pt x="22041" y="8111"/>
                  <a:pt x="22190" y="8080"/>
                  <a:pt x="22250" y="8037"/>
                </a:cubicBezTo>
                <a:cubicBezTo>
                  <a:pt x="22312" y="7974"/>
                  <a:pt x="22345" y="7964"/>
                  <a:pt x="22299" y="7913"/>
                </a:cubicBezTo>
                <a:cubicBezTo>
                  <a:pt x="22227" y="7919"/>
                  <a:pt x="22074" y="7919"/>
                  <a:pt x="22101" y="8037"/>
                </a:cubicBezTo>
                <a:cubicBezTo>
                  <a:pt x="22141" y="8077"/>
                  <a:pt x="22171" y="8085"/>
                  <a:pt x="22225" y="8062"/>
                </a:cubicBezTo>
              </a:path>
              <a:path w="3350" h="1242">
                <a:moveTo>
                  <a:pt x="22870" y="7565"/>
                </a:moveTo>
                <a:cubicBezTo>
                  <a:pt x="22859" y="7618"/>
                  <a:pt x="22845" y="7657"/>
                  <a:pt x="22845" y="7714"/>
                </a:cubicBezTo>
                <a:cubicBezTo>
                  <a:pt x="22908" y="7714"/>
                  <a:pt x="23024" y="7741"/>
                  <a:pt x="23068" y="7689"/>
                </a:cubicBezTo>
                <a:cubicBezTo>
                  <a:pt x="23076" y="7673"/>
                  <a:pt x="23085" y="7656"/>
                  <a:pt x="23093" y="7640"/>
                </a:cubicBezTo>
              </a:path>
              <a:path w="3350" h="1242">
                <a:moveTo>
                  <a:pt x="23093" y="7441"/>
                </a:moveTo>
                <a:cubicBezTo>
                  <a:pt x="23060" y="7589"/>
                  <a:pt x="23025" y="7737"/>
                  <a:pt x="23019" y="7888"/>
                </a:cubicBezTo>
                <a:cubicBezTo>
                  <a:pt x="23019" y="7933"/>
                  <a:pt x="23015" y="7946"/>
                  <a:pt x="23044" y="7962"/>
                </a:cubicBezTo>
              </a:path>
              <a:path w="3350" h="1242">
                <a:moveTo>
                  <a:pt x="21109" y="8136"/>
                </a:moveTo>
                <a:cubicBezTo>
                  <a:pt x="21130" y="8199"/>
                  <a:pt x="21253" y="8139"/>
                  <a:pt x="21307" y="8136"/>
                </a:cubicBezTo>
                <a:cubicBezTo>
                  <a:pt x="21454" y="8127"/>
                  <a:pt x="21589" y="8152"/>
                  <a:pt x="21729" y="8161"/>
                </a:cubicBezTo>
                <a:cubicBezTo>
                  <a:pt x="21770" y="8161"/>
                  <a:pt x="21778" y="8161"/>
                  <a:pt x="21803" y="8161"/>
                </a:cubicBezTo>
                <a:cubicBezTo>
                  <a:pt x="21803" y="8128"/>
                  <a:pt x="21803" y="8095"/>
                  <a:pt x="21803" y="8062"/>
                </a:cubicBezTo>
              </a:path>
              <a:path w="3350" h="1242">
                <a:moveTo>
                  <a:pt x="21183" y="8359"/>
                </a:moveTo>
                <a:cubicBezTo>
                  <a:pt x="21218" y="8382"/>
                  <a:pt x="21208" y="8401"/>
                  <a:pt x="21208" y="8458"/>
                </a:cubicBezTo>
                <a:cubicBezTo>
                  <a:pt x="21268" y="8458"/>
                  <a:pt x="21389" y="8484"/>
                  <a:pt x="21406" y="8434"/>
                </a:cubicBezTo>
              </a:path>
              <a:path w="3350" h="1242">
                <a:moveTo>
                  <a:pt x="21382" y="8285"/>
                </a:moveTo>
                <a:cubicBezTo>
                  <a:pt x="21382" y="8396"/>
                  <a:pt x="21400" y="8498"/>
                  <a:pt x="21406" y="8607"/>
                </a:cubicBezTo>
                <a:cubicBezTo>
                  <a:pt x="21408" y="8650"/>
                  <a:pt x="21394" y="8645"/>
                  <a:pt x="21431" y="8657"/>
                </a:cubicBezTo>
              </a:path>
              <a:path w="3350" h="1242">
                <a:moveTo>
                  <a:pt x="21630" y="8384"/>
                </a:moveTo>
                <a:cubicBezTo>
                  <a:pt x="21620" y="8361"/>
                  <a:pt x="21605" y="8257"/>
                  <a:pt x="21605" y="8310"/>
                </a:cubicBezTo>
                <a:cubicBezTo>
                  <a:pt x="21605" y="8376"/>
                  <a:pt x="21605" y="8409"/>
                  <a:pt x="21605" y="8458"/>
                </a:cubicBezTo>
                <a:cubicBezTo>
                  <a:pt x="21691" y="8458"/>
                  <a:pt x="21769" y="8425"/>
                  <a:pt x="21853" y="8409"/>
                </a:cubicBezTo>
                <a:cubicBezTo>
                  <a:pt x="21878" y="8409"/>
                  <a:pt x="21886" y="8409"/>
                  <a:pt x="21903" y="8409"/>
                </a:cubicBezTo>
              </a:path>
              <a:path w="3350" h="1242">
                <a:moveTo>
                  <a:pt x="21853" y="8235"/>
                </a:moveTo>
                <a:cubicBezTo>
                  <a:pt x="21885" y="8330"/>
                  <a:pt x="21888" y="8476"/>
                  <a:pt x="21903" y="8582"/>
                </a:cubicBezTo>
                <a:cubicBezTo>
                  <a:pt x="21911" y="8639"/>
                  <a:pt x="21884" y="8642"/>
                  <a:pt x="21927" y="8657"/>
                </a:cubicBezTo>
              </a:path>
              <a:path w="3350" h="1242">
                <a:moveTo>
                  <a:pt x="22175" y="8483"/>
                </a:moveTo>
                <a:cubicBezTo>
                  <a:pt x="22117" y="8483"/>
                  <a:pt x="22245" y="8483"/>
                  <a:pt x="22275" y="8483"/>
                </a:cubicBezTo>
              </a:path>
              <a:path w="3350" h="1242">
                <a:moveTo>
                  <a:pt x="22523" y="8260"/>
                </a:moveTo>
                <a:cubicBezTo>
                  <a:pt x="22523" y="8335"/>
                  <a:pt x="22486" y="8434"/>
                  <a:pt x="22597" y="8434"/>
                </a:cubicBezTo>
                <a:cubicBezTo>
                  <a:pt x="22656" y="8434"/>
                  <a:pt x="22740" y="8405"/>
                  <a:pt x="22796" y="8384"/>
                </a:cubicBezTo>
              </a:path>
              <a:path w="3350" h="1242">
                <a:moveTo>
                  <a:pt x="22721" y="8186"/>
                </a:moveTo>
                <a:cubicBezTo>
                  <a:pt x="22735" y="8322"/>
                  <a:pt x="22730" y="8475"/>
                  <a:pt x="22771" y="8607"/>
                </a:cubicBezTo>
                <a:cubicBezTo>
                  <a:pt x="22783" y="8645"/>
                  <a:pt x="22796" y="8637"/>
                  <a:pt x="22796" y="8682"/>
                </a:cubicBezTo>
              </a:path>
              <a:path w="3350" h="1242">
                <a:moveTo>
                  <a:pt x="23292" y="8111"/>
                </a:moveTo>
                <a:cubicBezTo>
                  <a:pt x="23306" y="8196"/>
                  <a:pt x="23316" y="8271"/>
                  <a:pt x="23316" y="8359"/>
                </a:cubicBezTo>
                <a:cubicBezTo>
                  <a:pt x="23406" y="8346"/>
                  <a:pt x="23480" y="8309"/>
                  <a:pt x="23564" y="8285"/>
                </a:cubicBezTo>
              </a:path>
              <a:path w="3350" h="1242">
                <a:moveTo>
                  <a:pt x="23540" y="8037"/>
                </a:moveTo>
                <a:cubicBezTo>
                  <a:pt x="23561" y="8208"/>
                  <a:pt x="23594" y="8391"/>
                  <a:pt x="23639" y="8558"/>
                </a:cubicBezTo>
                <a:cubicBezTo>
                  <a:pt x="23647" y="8574"/>
                  <a:pt x="23656" y="8591"/>
                  <a:pt x="23664" y="8607"/>
                </a:cubicBezTo>
              </a:path>
              <a:path w="3350" h="1242">
                <a:moveTo>
                  <a:pt x="24036" y="8037"/>
                </a:moveTo>
                <a:cubicBezTo>
                  <a:pt x="23905" y="8080"/>
                  <a:pt x="23771" y="8264"/>
                  <a:pt x="23812" y="8434"/>
                </a:cubicBezTo>
                <a:cubicBezTo>
                  <a:pt x="23837" y="8467"/>
                  <a:pt x="23862" y="8500"/>
                  <a:pt x="23887" y="8533"/>
                </a:cubicBezTo>
                <a:cubicBezTo>
                  <a:pt x="24062" y="8507"/>
                  <a:pt x="24282" y="8441"/>
                  <a:pt x="24135" y="8210"/>
                </a:cubicBezTo>
                <a:cubicBezTo>
                  <a:pt x="24079" y="8122"/>
                  <a:pt x="23983" y="8164"/>
                  <a:pt x="2391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35040" y="4581360"/>
            <a:ext cx="573120" cy="455760"/>
          </a:xfrm>
          <a:custGeom>
            <a:avLst/>
            <a:gdLst/>
            <a:ahLst/>
            <a:rect l="l" t="t" r="r" b="b"/>
            <a:pathLst>
              <a:path w="1589" h="1266">
                <a:moveTo>
                  <a:pt x="5135" y="12998"/>
                </a:moveTo>
                <a:lnTo>
                  <a:pt x="5135" y="12998"/>
                </a:lnTo>
              </a:path>
              <a:path w="1589" h="1266">
                <a:moveTo>
                  <a:pt x="5333" y="12774"/>
                </a:moveTo>
                <a:cubicBezTo>
                  <a:pt x="5388" y="12765"/>
                  <a:pt x="5431" y="12747"/>
                  <a:pt x="5482" y="12725"/>
                </a:cubicBezTo>
                <a:cubicBezTo>
                  <a:pt x="5526" y="12828"/>
                  <a:pt x="5494" y="12935"/>
                  <a:pt x="5407" y="13022"/>
                </a:cubicBezTo>
                <a:cubicBezTo>
                  <a:pt x="5399" y="13022"/>
                  <a:pt x="5391" y="13022"/>
                  <a:pt x="5383" y="13022"/>
                </a:cubicBezTo>
                <a:cubicBezTo>
                  <a:pt x="5471" y="13022"/>
                  <a:pt x="5556" y="13016"/>
                  <a:pt x="5631" y="12998"/>
                </a:cubicBezTo>
                <a:cubicBezTo>
                  <a:pt x="5639" y="12998"/>
                  <a:pt x="5647" y="12998"/>
                  <a:pt x="5655" y="12998"/>
                </a:cubicBezTo>
              </a:path>
              <a:path w="1589" h="1266">
                <a:moveTo>
                  <a:pt x="4440" y="13419"/>
                </a:moveTo>
                <a:cubicBezTo>
                  <a:pt x="4413" y="13556"/>
                  <a:pt x="4281" y="13641"/>
                  <a:pt x="4266" y="13791"/>
                </a:cubicBezTo>
                <a:cubicBezTo>
                  <a:pt x="4251" y="13943"/>
                  <a:pt x="4335" y="13964"/>
                  <a:pt x="4440" y="13990"/>
                </a:cubicBezTo>
              </a:path>
              <a:path w="1589" h="1266">
                <a:moveTo>
                  <a:pt x="4738" y="13494"/>
                </a:moveTo>
                <a:cubicBezTo>
                  <a:pt x="4702" y="13513"/>
                  <a:pt x="4478" y="13585"/>
                  <a:pt x="4589" y="13667"/>
                </a:cubicBezTo>
                <a:cubicBezTo>
                  <a:pt x="4672" y="13709"/>
                  <a:pt x="4696" y="13709"/>
                  <a:pt x="4713" y="13767"/>
                </a:cubicBezTo>
                <a:cubicBezTo>
                  <a:pt x="4692" y="13807"/>
                  <a:pt x="4662" y="13817"/>
                  <a:pt x="4614" y="13841"/>
                </a:cubicBezTo>
                <a:cubicBezTo>
                  <a:pt x="4629" y="13732"/>
                  <a:pt x="4676" y="13659"/>
                  <a:pt x="4738" y="13568"/>
                </a:cubicBezTo>
                <a:cubicBezTo>
                  <a:pt x="4760" y="13546"/>
                  <a:pt x="4771" y="13537"/>
                  <a:pt x="4738" y="13543"/>
                </a:cubicBezTo>
              </a:path>
              <a:path w="1589" h="1266">
                <a:moveTo>
                  <a:pt x="5035" y="13543"/>
                </a:moveTo>
                <a:cubicBezTo>
                  <a:pt x="5008" y="13552"/>
                  <a:pt x="5013" y="13698"/>
                  <a:pt x="5011" y="13742"/>
                </a:cubicBezTo>
                <a:cubicBezTo>
                  <a:pt x="5011" y="13820"/>
                  <a:pt x="5026" y="13838"/>
                  <a:pt x="4986" y="13866"/>
                </a:cubicBezTo>
              </a:path>
              <a:path w="1589" h="1266">
                <a:moveTo>
                  <a:pt x="4887" y="13717"/>
                </a:moveTo>
                <a:cubicBezTo>
                  <a:pt x="5007" y="13717"/>
                  <a:pt x="5117" y="13704"/>
                  <a:pt x="5234" y="13692"/>
                </a:cubicBezTo>
              </a:path>
              <a:path w="1589" h="1266">
                <a:moveTo>
                  <a:pt x="5432" y="13494"/>
                </a:moveTo>
                <a:cubicBezTo>
                  <a:pt x="5346" y="13505"/>
                  <a:pt x="5235" y="13490"/>
                  <a:pt x="5209" y="13593"/>
                </a:cubicBezTo>
                <a:cubicBezTo>
                  <a:pt x="5245" y="13629"/>
                  <a:pt x="5425" y="13756"/>
                  <a:pt x="5333" y="13816"/>
                </a:cubicBezTo>
                <a:cubicBezTo>
                  <a:pt x="5281" y="13816"/>
                  <a:pt x="5263" y="13817"/>
                  <a:pt x="5234" y="13841"/>
                </a:cubicBezTo>
                <a:cubicBezTo>
                  <a:pt x="5251" y="13725"/>
                  <a:pt x="5308" y="13668"/>
                  <a:pt x="5358" y="13568"/>
                </a:cubicBezTo>
                <a:cubicBezTo>
                  <a:pt x="5378" y="13528"/>
                  <a:pt x="5387" y="13522"/>
                  <a:pt x="5383" y="13494"/>
                </a:cubicBezTo>
              </a:path>
              <a:path w="1589" h="1266">
                <a:moveTo>
                  <a:pt x="5482" y="13320"/>
                </a:moveTo>
                <a:cubicBezTo>
                  <a:pt x="5521" y="13439"/>
                  <a:pt x="5626" y="13603"/>
                  <a:pt x="5581" y="13742"/>
                </a:cubicBezTo>
                <a:cubicBezTo>
                  <a:pt x="5545" y="13852"/>
                  <a:pt x="5477" y="13899"/>
                  <a:pt x="5383" y="13940"/>
                </a:cubicBezTo>
              </a:path>
              <a:path w="1589" h="1266">
                <a:moveTo>
                  <a:pt x="5854" y="13692"/>
                </a:moveTo>
                <a:cubicBezTo>
                  <a:pt x="5854" y="13700"/>
                  <a:pt x="5854" y="13709"/>
                  <a:pt x="5854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527720"/>
            <a:ext cx="249120" cy="16020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6623" y="12675"/>
                </a:moveTo>
                <a:cubicBezTo>
                  <a:pt x="6615" y="12675"/>
                  <a:pt x="6745" y="12692"/>
                  <a:pt x="6722" y="12824"/>
                </a:cubicBezTo>
                <a:cubicBezTo>
                  <a:pt x="6706" y="12914"/>
                  <a:pt x="6555" y="13059"/>
                  <a:pt x="6499" y="12973"/>
                </a:cubicBezTo>
                <a:cubicBezTo>
                  <a:pt x="6609" y="12895"/>
                  <a:pt x="6655" y="12873"/>
                  <a:pt x="6747" y="12973"/>
                </a:cubicBezTo>
                <a:cubicBezTo>
                  <a:pt x="6755" y="12981"/>
                  <a:pt x="6764" y="12990"/>
                  <a:pt x="6772" y="12998"/>
                </a:cubicBezTo>
              </a:path>
              <a:path w="695" h="447">
                <a:moveTo>
                  <a:pt x="7094" y="12576"/>
                </a:moveTo>
                <a:cubicBezTo>
                  <a:pt x="7034" y="12586"/>
                  <a:pt x="6822" y="12650"/>
                  <a:pt x="6846" y="12750"/>
                </a:cubicBezTo>
                <a:cubicBezTo>
                  <a:pt x="6866" y="12834"/>
                  <a:pt x="7100" y="12872"/>
                  <a:pt x="7169" y="12898"/>
                </a:cubicBezTo>
                <a:cubicBezTo>
                  <a:pt x="7134" y="12977"/>
                  <a:pt x="7109" y="12995"/>
                  <a:pt x="7020" y="13022"/>
                </a:cubicBezTo>
                <a:cubicBezTo>
                  <a:pt x="7057" y="12875"/>
                  <a:pt x="7140" y="12743"/>
                  <a:pt x="7193" y="12601"/>
                </a:cubicBezTo>
                <a:cubicBezTo>
                  <a:pt x="7193" y="12576"/>
                  <a:pt x="7193" y="12568"/>
                  <a:pt x="7169" y="125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9200" y="3919680"/>
            <a:ext cx="447840" cy="134640"/>
          </a:xfrm>
          <a:custGeom>
            <a:avLst/>
            <a:gdLst/>
            <a:ahLst/>
            <a:rect l="l" t="t" r="r" b="b"/>
            <a:pathLst>
              <a:path w="1241" h="373">
                <a:moveTo>
                  <a:pt x="13246" y="10988"/>
                </a:moveTo>
                <a:cubicBezTo>
                  <a:pt x="13246" y="10934"/>
                  <a:pt x="13230" y="11063"/>
                  <a:pt x="13221" y="11088"/>
                </a:cubicBezTo>
                <a:cubicBezTo>
                  <a:pt x="13281" y="11111"/>
                  <a:pt x="13364" y="11071"/>
                  <a:pt x="13444" y="11063"/>
                </a:cubicBezTo>
              </a:path>
              <a:path w="1241" h="373">
                <a:moveTo>
                  <a:pt x="13419" y="10914"/>
                </a:moveTo>
                <a:cubicBezTo>
                  <a:pt x="13415" y="11006"/>
                  <a:pt x="13371" y="11187"/>
                  <a:pt x="13419" y="11237"/>
                </a:cubicBezTo>
              </a:path>
              <a:path w="1241" h="373">
                <a:moveTo>
                  <a:pt x="13618" y="10988"/>
                </a:moveTo>
                <a:cubicBezTo>
                  <a:pt x="13529" y="11089"/>
                  <a:pt x="13520" y="11164"/>
                  <a:pt x="13618" y="11261"/>
                </a:cubicBezTo>
                <a:cubicBezTo>
                  <a:pt x="13684" y="11221"/>
                  <a:pt x="13806" y="11080"/>
                  <a:pt x="13643" y="11038"/>
                </a:cubicBezTo>
                <a:cubicBezTo>
                  <a:pt x="13610" y="11038"/>
                  <a:pt x="13576" y="11038"/>
                  <a:pt x="13543" y="11038"/>
                </a:cubicBezTo>
              </a:path>
              <a:path w="1241" h="373">
                <a:moveTo>
                  <a:pt x="13891" y="11063"/>
                </a:moveTo>
                <a:cubicBezTo>
                  <a:pt x="13957" y="11080"/>
                  <a:pt x="13995" y="11088"/>
                  <a:pt x="14064" y="11088"/>
                </a:cubicBezTo>
              </a:path>
              <a:path w="1241" h="373">
                <a:moveTo>
                  <a:pt x="14188" y="10889"/>
                </a:moveTo>
                <a:cubicBezTo>
                  <a:pt x="14177" y="10978"/>
                  <a:pt x="14104" y="11133"/>
                  <a:pt x="14163" y="11212"/>
                </a:cubicBezTo>
                <a:cubicBezTo>
                  <a:pt x="14248" y="11326"/>
                  <a:pt x="14369" y="11225"/>
                  <a:pt x="14436" y="11162"/>
                </a:cubicBezTo>
                <a:cubicBezTo>
                  <a:pt x="14461" y="11137"/>
                  <a:pt x="14469" y="11129"/>
                  <a:pt x="14436" y="11112"/>
                </a:cubicBezTo>
                <a:cubicBezTo>
                  <a:pt x="14370" y="11086"/>
                  <a:pt x="14325" y="11112"/>
                  <a:pt x="14312" y="11187"/>
                </a:cubicBezTo>
                <a:cubicBezTo>
                  <a:pt x="14301" y="11253"/>
                  <a:pt x="14327" y="11245"/>
                  <a:pt x="14362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27800" y="3741840"/>
            <a:ext cx="258480" cy="2588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5354" y="10740"/>
                </a:moveTo>
                <a:cubicBezTo>
                  <a:pt x="15369" y="10733"/>
                  <a:pt x="15564" y="10679"/>
                  <a:pt x="15553" y="10740"/>
                </a:cubicBezTo>
                <a:cubicBezTo>
                  <a:pt x="15501" y="10844"/>
                  <a:pt x="15481" y="10879"/>
                  <a:pt x="15404" y="10914"/>
                </a:cubicBezTo>
                <a:cubicBezTo>
                  <a:pt x="15396" y="10914"/>
                  <a:pt x="15387" y="10914"/>
                  <a:pt x="15379" y="10914"/>
                </a:cubicBezTo>
                <a:cubicBezTo>
                  <a:pt x="15470" y="10889"/>
                  <a:pt x="15643" y="10836"/>
                  <a:pt x="15577" y="10988"/>
                </a:cubicBezTo>
                <a:cubicBezTo>
                  <a:pt x="15547" y="11058"/>
                  <a:pt x="15358" y="11193"/>
                  <a:pt x="15379" y="11038"/>
                </a:cubicBezTo>
                <a:cubicBezTo>
                  <a:pt x="15387" y="11013"/>
                  <a:pt x="15396" y="10989"/>
                  <a:pt x="15404" y="10964"/>
                </a:cubicBezTo>
              </a:path>
              <a:path w="720" h="720">
                <a:moveTo>
                  <a:pt x="15776" y="10592"/>
                </a:moveTo>
                <a:cubicBezTo>
                  <a:pt x="15769" y="10678"/>
                  <a:pt x="15712" y="10782"/>
                  <a:pt x="15825" y="10790"/>
                </a:cubicBezTo>
                <a:cubicBezTo>
                  <a:pt x="15921" y="10797"/>
                  <a:pt x="15987" y="10775"/>
                  <a:pt x="16073" y="10740"/>
                </a:cubicBezTo>
              </a:path>
              <a:path w="720" h="720">
                <a:moveTo>
                  <a:pt x="15974" y="10393"/>
                </a:moveTo>
                <a:cubicBezTo>
                  <a:pt x="15974" y="10586"/>
                  <a:pt x="15961" y="10798"/>
                  <a:pt x="15999" y="10988"/>
                </a:cubicBezTo>
                <a:cubicBezTo>
                  <a:pt x="16007" y="11005"/>
                  <a:pt x="16016" y="11021"/>
                  <a:pt x="16024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05800" y="3259080"/>
            <a:ext cx="420480" cy="125640"/>
          </a:xfrm>
          <a:custGeom>
            <a:avLst/>
            <a:gdLst/>
            <a:ahLst/>
            <a:rect l="l" t="t" r="r" b="b"/>
            <a:pathLst>
              <a:path w="1167" h="348">
                <a:moveTo>
                  <a:pt x="21431" y="9178"/>
                </a:moveTo>
                <a:cubicBezTo>
                  <a:pt x="21487" y="9187"/>
                  <a:pt x="21642" y="9226"/>
                  <a:pt x="21580" y="9327"/>
                </a:cubicBezTo>
                <a:cubicBezTo>
                  <a:pt x="21538" y="9395"/>
                  <a:pt x="21455" y="9392"/>
                  <a:pt x="21406" y="9376"/>
                </a:cubicBezTo>
                <a:cubicBezTo>
                  <a:pt x="21423" y="9277"/>
                  <a:pt x="21494" y="9339"/>
                  <a:pt x="21580" y="9351"/>
                </a:cubicBezTo>
                <a:cubicBezTo>
                  <a:pt x="21597" y="9351"/>
                  <a:pt x="21613" y="9351"/>
                  <a:pt x="21630" y="9351"/>
                </a:cubicBezTo>
              </a:path>
              <a:path w="1167" h="348">
                <a:moveTo>
                  <a:pt x="21704" y="9079"/>
                </a:moveTo>
                <a:cubicBezTo>
                  <a:pt x="21737" y="9079"/>
                  <a:pt x="21770" y="9079"/>
                  <a:pt x="21803" y="9079"/>
                </a:cubicBezTo>
                <a:cubicBezTo>
                  <a:pt x="21803" y="9129"/>
                  <a:pt x="21776" y="9139"/>
                  <a:pt x="21803" y="9153"/>
                </a:cubicBezTo>
                <a:cubicBezTo>
                  <a:pt x="21896" y="9200"/>
                  <a:pt x="21996" y="9221"/>
                  <a:pt x="21878" y="9327"/>
                </a:cubicBezTo>
                <a:cubicBezTo>
                  <a:pt x="21791" y="9405"/>
                  <a:pt x="21747" y="9391"/>
                  <a:pt x="21704" y="9327"/>
                </a:cubicBezTo>
              </a:path>
              <a:path w="1167" h="348">
                <a:moveTo>
                  <a:pt x="22101" y="9178"/>
                </a:moveTo>
                <a:cubicBezTo>
                  <a:pt x="22151" y="9178"/>
                  <a:pt x="22200" y="9178"/>
                  <a:pt x="22250" y="9178"/>
                </a:cubicBezTo>
              </a:path>
              <a:path w="1167" h="348">
                <a:moveTo>
                  <a:pt x="22250" y="9079"/>
                </a:moveTo>
                <a:cubicBezTo>
                  <a:pt x="22326" y="9117"/>
                  <a:pt x="22352" y="9169"/>
                  <a:pt x="22473" y="9153"/>
                </a:cubicBezTo>
                <a:cubicBezTo>
                  <a:pt x="22547" y="9128"/>
                  <a:pt x="22572" y="9120"/>
                  <a:pt x="22572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43880" y="3938760"/>
            <a:ext cx="169920" cy="1332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21258" y="10964"/>
                </a:moveTo>
                <a:cubicBezTo>
                  <a:pt x="21258" y="10915"/>
                  <a:pt x="21234" y="11178"/>
                  <a:pt x="21233" y="11212"/>
                </a:cubicBezTo>
                <a:cubicBezTo>
                  <a:pt x="21233" y="11253"/>
                  <a:pt x="21225" y="11269"/>
                  <a:pt x="21258" y="11261"/>
                </a:cubicBezTo>
              </a:path>
              <a:path w="472" h="373">
                <a:moveTo>
                  <a:pt x="21605" y="10939"/>
                </a:moveTo>
                <a:cubicBezTo>
                  <a:pt x="21518" y="10982"/>
                  <a:pt x="21494" y="10989"/>
                  <a:pt x="21456" y="11038"/>
                </a:cubicBezTo>
                <a:cubicBezTo>
                  <a:pt x="21488" y="11103"/>
                  <a:pt x="21713" y="11182"/>
                  <a:pt x="21704" y="11261"/>
                </a:cubicBezTo>
                <a:cubicBezTo>
                  <a:pt x="21687" y="11278"/>
                  <a:pt x="21671" y="11294"/>
                  <a:pt x="21654" y="11311"/>
                </a:cubicBezTo>
                <a:cubicBezTo>
                  <a:pt x="21538" y="11210"/>
                  <a:pt x="21608" y="11128"/>
                  <a:pt x="21654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3741840"/>
            <a:ext cx="349200" cy="125280"/>
          </a:xfrm>
          <a:custGeom>
            <a:avLst/>
            <a:gdLst/>
            <a:ahLst/>
            <a:rect l="l" t="t" r="r" b="b"/>
            <a:pathLst>
              <a:path w="969" h="348">
                <a:moveTo>
                  <a:pt x="21903" y="10468"/>
                </a:moveTo>
                <a:cubicBezTo>
                  <a:pt x="21857" y="10522"/>
                  <a:pt x="21741" y="10650"/>
                  <a:pt x="21828" y="10716"/>
                </a:cubicBezTo>
                <a:cubicBezTo>
                  <a:pt x="21956" y="10812"/>
                  <a:pt x="22034" y="10605"/>
                  <a:pt x="21977" y="10517"/>
                </a:cubicBezTo>
                <a:cubicBezTo>
                  <a:pt x="21934" y="10450"/>
                  <a:pt x="21905" y="10485"/>
                  <a:pt x="21878" y="10443"/>
                </a:cubicBezTo>
              </a:path>
              <a:path w="969" h="348">
                <a:moveTo>
                  <a:pt x="22250" y="10542"/>
                </a:moveTo>
                <a:cubicBezTo>
                  <a:pt x="22309" y="10542"/>
                  <a:pt x="22355" y="10561"/>
                  <a:pt x="22374" y="10542"/>
                </a:cubicBezTo>
              </a:path>
              <a:path w="969" h="348">
                <a:moveTo>
                  <a:pt x="22423" y="10393"/>
                </a:moveTo>
                <a:cubicBezTo>
                  <a:pt x="22467" y="10426"/>
                  <a:pt x="22470" y="10524"/>
                  <a:pt x="22547" y="10542"/>
                </a:cubicBezTo>
                <a:cubicBezTo>
                  <a:pt x="22662" y="10568"/>
                  <a:pt x="22707" y="10488"/>
                  <a:pt x="22771" y="10418"/>
                </a:cubicBezTo>
              </a:path>
              <a:path w="969" h="348">
                <a:moveTo>
                  <a:pt x="22721" y="10393"/>
                </a:moveTo>
                <a:cubicBezTo>
                  <a:pt x="22708" y="10512"/>
                  <a:pt x="22696" y="10620"/>
                  <a:pt x="22696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49840" y="4795920"/>
            <a:ext cx="608040" cy="160200"/>
          </a:xfrm>
          <a:custGeom>
            <a:avLst/>
            <a:gdLst/>
            <a:ahLst/>
            <a:rect l="l" t="t" r="r" b="b"/>
            <a:pathLst>
              <a:path w="1688" h="448">
                <a:moveTo>
                  <a:pt x="13271" y="13444"/>
                </a:moveTo>
                <a:cubicBezTo>
                  <a:pt x="13241" y="13474"/>
                  <a:pt x="13230" y="13488"/>
                  <a:pt x="13221" y="13519"/>
                </a:cubicBezTo>
                <a:cubicBezTo>
                  <a:pt x="13236" y="13459"/>
                  <a:pt x="13298" y="13405"/>
                  <a:pt x="13345" y="13494"/>
                </a:cubicBezTo>
                <a:cubicBezTo>
                  <a:pt x="13410" y="13617"/>
                  <a:pt x="13329" y="13706"/>
                  <a:pt x="13221" y="13742"/>
                </a:cubicBezTo>
                <a:cubicBezTo>
                  <a:pt x="13191" y="13635"/>
                  <a:pt x="13256" y="13637"/>
                  <a:pt x="13345" y="13692"/>
                </a:cubicBezTo>
                <a:cubicBezTo>
                  <a:pt x="13386" y="13733"/>
                  <a:pt x="13416" y="13736"/>
                  <a:pt x="13469" y="13692"/>
                </a:cubicBezTo>
              </a:path>
              <a:path w="1688" h="448">
                <a:moveTo>
                  <a:pt x="13568" y="13469"/>
                </a:moveTo>
                <a:cubicBezTo>
                  <a:pt x="13526" y="13576"/>
                  <a:pt x="13504" y="13600"/>
                  <a:pt x="13543" y="13667"/>
                </a:cubicBezTo>
                <a:cubicBezTo>
                  <a:pt x="13667" y="13652"/>
                  <a:pt x="13840" y="13625"/>
                  <a:pt x="13692" y="13469"/>
                </a:cubicBezTo>
                <a:cubicBezTo>
                  <a:pt x="13649" y="13424"/>
                  <a:pt x="13532" y="13383"/>
                  <a:pt x="13618" y="13469"/>
                </a:cubicBezTo>
              </a:path>
              <a:path w="1688" h="448">
                <a:moveTo>
                  <a:pt x="13940" y="13395"/>
                </a:moveTo>
                <a:cubicBezTo>
                  <a:pt x="13858" y="13476"/>
                  <a:pt x="13829" y="13554"/>
                  <a:pt x="13791" y="13667"/>
                </a:cubicBezTo>
                <a:cubicBezTo>
                  <a:pt x="13912" y="13684"/>
                  <a:pt x="14152" y="13689"/>
                  <a:pt x="14139" y="13494"/>
                </a:cubicBezTo>
                <a:cubicBezTo>
                  <a:pt x="14130" y="13361"/>
                  <a:pt x="13949" y="13419"/>
                  <a:pt x="13866" y="13419"/>
                </a:cubicBezTo>
              </a:path>
              <a:path w="1688" h="448">
                <a:moveTo>
                  <a:pt x="14362" y="13519"/>
                </a:moveTo>
                <a:cubicBezTo>
                  <a:pt x="14410" y="13542"/>
                  <a:pt x="14434" y="13575"/>
                  <a:pt x="14486" y="13568"/>
                </a:cubicBezTo>
                <a:cubicBezTo>
                  <a:pt x="14511" y="13560"/>
                  <a:pt x="14535" y="13551"/>
                  <a:pt x="14560" y="13543"/>
                </a:cubicBezTo>
              </a:path>
              <a:path w="1688" h="448">
                <a:moveTo>
                  <a:pt x="14660" y="13320"/>
                </a:moveTo>
                <a:cubicBezTo>
                  <a:pt x="14660" y="13427"/>
                  <a:pt x="14626" y="13513"/>
                  <a:pt x="14610" y="13618"/>
                </a:cubicBezTo>
                <a:cubicBezTo>
                  <a:pt x="14610" y="13634"/>
                  <a:pt x="14610" y="13651"/>
                  <a:pt x="14610" y="13667"/>
                </a:cubicBezTo>
                <a:cubicBezTo>
                  <a:pt x="14669" y="13692"/>
                  <a:pt x="14829" y="13718"/>
                  <a:pt x="14883" y="13643"/>
                </a:cubicBezTo>
                <a:cubicBezTo>
                  <a:pt x="14883" y="13626"/>
                  <a:pt x="14883" y="13610"/>
                  <a:pt x="14883" y="13593"/>
                </a:cubicBezTo>
                <a:cubicBezTo>
                  <a:pt x="14811" y="13581"/>
                  <a:pt x="14695" y="13543"/>
                  <a:pt x="14709" y="13667"/>
                </a:cubicBezTo>
                <a:cubicBezTo>
                  <a:pt x="14739" y="13727"/>
                  <a:pt x="14757" y="13750"/>
                  <a:pt x="14808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4670280"/>
            <a:ext cx="358560" cy="250920"/>
          </a:xfrm>
          <a:custGeom>
            <a:avLst/>
            <a:gdLst/>
            <a:ahLst/>
            <a:rect l="l" t="t" r="r" b="b"/>
            <a:pathLst>
              <a:path w="994" h="695">
                <a:moveTo>
                  <a:pt x="15453" y="13171"/>
                </a:moveTo>
                <a:cubicBezTo>
                  <a:pt x="15453" y="13255"/>
                  <a:pt x="15411" y="13596"/>
                  <a:pt x="15478" y="13618"/>
                </a:cubicBezTo>
              </a:path>
              <a:path w="994" h="695">
                <a:moveTo>
                  <a:pt x="15999" y="13221"/>
                </a:moveTo>
                <a:cubicBezTo>
                  <a:pt x="15988" y="13166"/>
                  <a:pt x="15967" y="13084"/>
                  <a:pt x="15900" y="13072"/>
                </a:cubicBezTo>
                <a:cubicBezTo>
                  <a:pt x="15748" y="13044"/>
                  <a:pt x="15582" y="13341"/>
                  <a:pt x="15726" y="13370"/>
                </a:cubicBezTo>
                <a:cubicBezTo>
                  <a:pt x="15894" y="13404"/>
                  <a:pt x="15904" y="13274"/>
                  <a:pt x="15925" y="13171"/>
                </a:cubicBezTo>
                <a:cubicBezTo>
                  <a:pt x="15925" y="13163"/>
                  <a:pt x="15925" y="13154"/>
                  <a:pt x="15925" y="13146"/>
                </a:cubicBezTo>
                <a:cubicBezTo>
                  <a:pt x="15974" y="13297"/>
                  <a:pt x="15974" y="13435"/>
                  <a:pt x="15974" y="13593"/>
                </a:cubicBezTo>
                <a:cubicBezTo>
                  <a:pt x="15974" y="13601"/>
                  <a:pt x="15974" y="13610"/>
                  <a:pt x="15974" y="13618"/>
                </a:cubicBezTo>
              </a:path>
              <a:path w="994" h="695">
                <a:moveTo>
                  <a:pt x="16173" y="13146"/>
                </a:moveTo>
                <a:cubicBezTo>
                  <a:pt x="16152" y="13194"/>
                  <a:pt x="16148" y="13234"/>
                  <a:pt x="16148" y="13295"/>
                </a:cubicBezTo>
                <a:cubicBezTo>
                  <a:pt x="16249" y="13289"/>
                  <a:pt x="16326" y="13280"/>
                  <a:pt x="16421" y="13246"/>
                </a:cubicBezTo>
              </a:path>
              <a:path w="994" h="695">
                <a:moveTo>
                  <a:pt x="16371" y="12973"/>
                </a:moveTo>
                <a:cubicBezTo>
                  <a:pt x="16371" y="13101"/>
                  <a:pt x="16383" y="13243"/>
                  <a:pt x="16396" y="13370"/>
                </a:cubicBezTo>
                <a:cubicBezTo>
                  <a:pt x="16407" y="13471"/>
                  <a:pt x="16446" y="13566"/>
                  <a:pt x="1644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70880" y="4419720"/>
            <a:ext cx="411120" cy="188640"/>
          </a:xfrm>
          <a:custGeom>
            <a:avLst/>
            <a:gdLst/>
            <a:ahLst/>
            <a:rect l="l" t="t" r="r" b="b"/>
            <a:pathLst>
              <a:path w="1142" h="522">
                <a:moveTo>
                  <a:pt x="21555" y="12278"/>
                </a:moveTo>
                <a:cubicBezTo>
                  <a:pt x="21620" y="12278"/>
                  <a:pt x="21335" y="12367"/>
                  <a:pt x="21307" y="12378"/>
                </a:cubicBezTo>
                <a:cubicBezTo>
                  <a:pt x="21356" y="12546"/>
                  <a:pt x="21459" y="12527"/>
                  <a:pt x="21580" y="12626"/>
                </a:cubicBezTo>
                <a:cubicBezTo>
                  <a:pt x="21580" y="12661"/>
                  <a:pt x="21575" y="12678"/>
                  <a:pt x="21555" y="12700"/>
                </a:cubicBezTo>
                <a:cubicBezTo>
                  <a:pt x="21382" y="12700"/>
                  <a:pt x="21559" y="12496"/>
                  <a:pt x="21630" y="12378"/>
                </a:cubicBezTo>
                <a:cubicBezTo>
                  <a:pt x="21653" y="12340"/>
                  <a:pt x="21673" y="12343"/>
                  <a:pt x="21630" y="12328"/>
                </a:cubicBezTo>
              </a:path>
              <a:path w="1142" h="522">
                <a:moveTo>
                  <a:pt x="21853" y="12477"/>
                </a:moveTo>
                <a:cubicBezTo>
                  <a:pt x="21923" y="12465"/>
                  <a:pt x="21944" y="12462"/>
                  <a:pt x="22002" y="12477"/>
                </a:cubicBezTo>
              </a:path>
              <a:path w="1142" h="522">
                <a:moveTo>
                  <a:pt x="22225" y="12303"/>
                </a:moveTo>
                <a:cubicBezTo>
                  <a:pt x="22225" y="12377"/>
                  <a:pt x="22225" y="12452"/>
                  <a:pt x="22225" y="12526"/>
                </a:cubicBezTo>
                <a:cubicBezTo>
                  <a:pt x="22306" y="12526"/>
                  <a:pt x="22373" y="12517"/>
                  <a:pt x="22448" y="12502"/>
                </a:cubicBezTo>
              </a:path>
              <a:path w="1142" h="522">
                <a:moveTo>
                  <a:pt x="22448" y="12278"/>
                </a:moveTo>
                <a:cubicBezTo>
                  <a:pt x="22417" y="12430"/>
                  <a:pt x="22387" y="12643"/>
                  <a:pt x="22423" y="12799"/>
                </a:cubicBezTo>
                <a:cubicBezTo>
                  <a:pt x="22431" y="12799"/>
                  <a:pt x="22440" y="12799"/>
                  <a:pt x="22448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5120" y="4330800"/>
            <a:ext cx="152280" cy="250560"/>
          </a:xfrm>
          <a:custGeom>
            <a:avLst/>
            <a:gdLst/>
            <a:ahLst/>
            <a:rect l="l" t="t" r="r" b="b"/>
            <a:pathLst>
              <a:path w="422" h="696">
                <a:moveTo>
                  <a:pt x="23316" y="12229"/>
                </a:moveTo>
                <a:cubicBezTo>
                  <a:pt x="23302" y="12308"/>
                  <a:pt x="23292" y="12353"/>
                  <a:pt x="23292" y="12427"/>
                </a:cubicBezTo>
                <a:cubicBezTo>
                  <a:pt x="23435" y="12413"/>
                  <a:pt x="23571" y="12384"/>
                  <a:pt x="23713" y="12353"/>
                </a:cubicBezTo>
              </a:path>
              <a:path w="422" h="696">
                <a:moveTo>
                  <a:pt x="23614" y="12030"/>
                </a:moveTo>
                <a:cubicBezTo>
                  <a:pt x="23638" y="12221"/>
                  <a:pt x="23639" y="12408"/>
                  <a:pt x="23639" y="12601"/>
                </a:cubicBezTo>
                <a:cubicBezTo>
                  <a:pt x="23639" y="12675"/>
                  <a:pt x="23639" y="12684"/>
                  <a:pt x="23639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74000" y="3929040"/>
            <a:ext cx="98280" cy="169920"/>
          </a:xfrm>
          <a:custGeom>
            <a:avLst/>
            <a:gdLst/>
            <a:ahLst/>
            <a:rect l="l" t="t" r="r" b="b"/>
            <a:pathLst>
              <a:path w="273" h="472">
                <a:moveTo>
                  <a:pt x="22151" y="10914"/>
                </a:moveTo>
                <a:cubicBezTo>
                  <a:pt x="22174" y="10976"/>
                  <a:pt x="22170" y="11035"/>
                  <a:pt x="22225" y="11063"/>
                </a:cubicBezTo>
                <a:cubicBezTo>
                  <a:pt x="22304" y="11103"/>
                  <a:pt x="22340" y="11084"/>
                  <a:pt x="22423" y="11063"/>
                </a:cubicBezTo>
              </a:path>
              <a:path w="273" h="472">
                <a:moveTo>
                  <a:pt x="22423" y="10914"/>
                </a:moveTo>
                <a:cubicBezTo>
                  <a:pt x="22405" y="11043"/>
                  <a:pt x="22360" y="11232"/>
                  <a:pt x="22399" y="11361"/>
                </a:cubicBezTo>
                <a:cubicBezTo>
                  <a:pt x="22407" y="11369"/>
                  <a:pt x="22415" y="11377"/>
                  <a:pt x="22423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48760" y="3894120"/>
            <a:ext cx="46080" cy="169920"/>
          </a:xfrm>
          <a:custGeom>
            <a:avLst/>
            <a:gdLst/>
            <a:ahLst/>
            <a:rect l="l" t="t" r="r" b="b"/>
            <a:pathLst>
              <a:path w="125" h="472">
                <a:moveTo>
                  <a:pt x="23192" y="10815"/>
                </a:moveTo>
                <a:cubicBezTo>
                  <a:pt x="23213" y="10960"/>
                  <a:pt x="23261" y="11097"/>
                  <a:pt x="23292" y="11237"/>
                </a:cubicBezTo>
                <a:cubicBezTo>
                  <a:pt x="23292" y="11288"/>
                  <a:pt x="23293" y="11303"/>
                  <a:pt x="23316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74040" y="3795840"/>
            <a:ext cx="14292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3540" y="10765"/>
                </a:moveTo>
                <a:cubicBezTo>
                  <a:pt x="23564" y="10863"/>
                  <a:pt x="23572" y="10896"/>
                  <a:pt x="23564" y="10964"/>
                </a:cubicBezTo>
                <a:cubicBezTo>
                  <a:pt x="23682" y="10964"/>
                  <a:pt x="23747" y="10955"/>
                  <a:pt x="23862" y="10939"/>
                </a:cubicBezTo>
                <a:cubicBezTo>
                  <a:pt x="23887" y="10939"/>
                  <a:pt x="23912" y="10939"/>
                  <a:pt x="23937" y="10939"/>
                </a:cubicBezTo>
              </a:path>
              <a:path w="398" h="621">
                <a:moveTo>
                  <a:pt x="23837" y="10542"/>
                </a:moveTo>
                <a:cubicBezTo>
                  <a:pt x="23851" y="10728"/>
                  <a:pt x="23877" y="10932"/>
                  <a:pt x="23912" y="11112"/>
                </a:cubicBezTo>
                <a:cubicBezTo>
                  <a:pt x="23920" y="11129"/>
                  <a:pt x="23929" y="11145"/>
                  <a:pt x="23937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Functions…One &amp; Two Step Operations Workshe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14T19:22:33Z</dcterms:modified>
  <cp:revision>56</cp:revision>
  <dc:subject/>
  <dc:title>Unit 1 – Variables and Equations </dc:title>
</cp:coreProperties>
</file>